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CD8-AE38-4512-A49C-4466822E04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56BE-CD69-421A-82D5-BFF4F33A3E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8593-111C-4FC0-82DA-D713B63257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A54D-6369-4D03-88EE-CE79771A9E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F76D-BF97-43B8-838D-D9C845F526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5F7B-6934-47ED-A4CE-812DB6572B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9E3E-50A9-4E0D-81EB-DE6E6151C8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9A85-84F6-448A-80BB-BD455F1B72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F69-F253-4F22-815E-FE264B0A90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562C-9BD0-4CF5-9D84-049BBA8F2F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87CD-027A-476E-9D3E-8AEF84FC6C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D307-4283-4414-A69F-4DA629B4BB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609D-5E3A-405A-A02D-131FD0E5BE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22D1-B353-4B29-8E70-1779DD4FAC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B4EA-E2CE-4E22-9B0E-10A7FA959F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C1FA-A8EE-42EB-B8B1-6F140DB11E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2E8B-0F15-426B-94B8-B3752F2CE8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DF93-15A7-41A3-B040-1CFEB84904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696E-5F4B-4DDD-BA37-E8D8DBCFFB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0A50-59EF-4971-A05B-E03223C608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37C-ADE8-4722-B69A-60710F63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606-1882-441C-BA33-8E0B5BD5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BAB-6795-427B-A639-86C6C8F9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F82-3878-479E-861F-22286A99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17C0-AE3C-4C96-92CC-7AB51986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BA5A-744B-47B0-A76D-C971A981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0DBD-A406-45B3-9988-AA4E215B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E1FE-4ED8-4302-82AB-915B222B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5D3E-03B4-479F-9EBA-32BB8EBC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0167-EEA4-4B22-8EC1-26A30D54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B1A0-480D-4DC4-B4B6-93A48E84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76D-DDE4-4B3A-B2DE-48823574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050F-FE5A-463D-A32A-1C75B0FF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DF5E-0BF3-42E2-97DC-EE3F952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EE5D-24A7-4FA6-8A80-19C6902A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94D0-E84D-44F7-BFAD-4DA72227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8574-992F-4802-B93E-CCAB5F71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60FB-683F-45A4-B02E-63BECA47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4EE1-8671-41DE-B5BE-662C3FA3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4A57-5946-46BC-8504-ACDD93D6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F387-53C0-4C80-BA86-A87F77BC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2FBF-8C20-438E-99F6-02A2E986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E1D-34D3-494B-BB6D-3FFE6D11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1002E-5E92-419C-B311-502E03CE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477B-9D43-4D66-B0D8-2F10589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9A903-3EB3-4586-9F63-495212E2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70093-F324-481E-95DF-7E463A01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632D-1687-4D98-ABB9-A5E8D720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1D67-A3F0-439D-B91B-4C64717D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27FC-5CBA-4B35-A388-FA36B5F7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A512-2A05-4662-B0B7-B3B8049D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9BEC-4044-4A19-A857-4E790E48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2A9F-65EA-4C05-903A-1D20C76C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B06-BBBF-49F5-8E78-5DA4F204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1448-2489-4F4C-A0CB-DC61529F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51E4A-875E-4499-8691-C03658D1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3F518-5713-437B-9940-59DC1AAA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2BACE-487B-4448-BAA2-97BFE4BB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AC350-8838-429F-BD0F-D9CB6B33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DDE55-8290-43E0-8DD6-48C609A0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C9A84-546B-4DF9-96E2-D64ADBB4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2DBA-F0C1-4587-A982-C7D328A2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3E94C-5522-4DF8-BA5F-31EDA27A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BD3B7-F75A-4896-B99D-B58E1F55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108-19A8-436B-92C3-FEB6B8FC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C6204-30C3-4F8A-A269-9130AEAD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97B7-153F-4B15-832E-4645E6D8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F1534-B082-4252-BD31-EC70F9E4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479A5-C5B3-4DB0-B253-E3465C8C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7B47A-C775-48D2-AAC2-FFB53667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D8ED-84C5-4280-9942-368CA23E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0CFD0-89C9-4E90-8BC3-B90E6B22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88A19-7796-4486-A494-17D95F9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4C5A8-F198-46D2-AE56-27988962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E8DA0-BD56-4349-B615-774FD8DA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76A-D74E-4829-8809-ECE54FD2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82AA3-43B2-42D9-BD33-BBF0A8DE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AB4-0804-4F35-83EC-45092D7D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F77-B288-42D2-8563-91F16302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BF8-5BCA-4763-9AE4-24FAF6D7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04B0-7541-42E5-A5DC-5CCCD98D0F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48A7-69C6-4F82-8AE5-B4518E90D7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63F1-FEC6-4BB7-AAE9-8B8300B7E0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17BC-5EA7-4D0E-8821-7B7BE56491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14CB-DAAA-4F6D-8C3D-5FCBE95ED4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426960" y="1268280"/>
            <a:ext cx="829008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82440" y="231840"/>
            <a:ext cx="75502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210960" y="4221000"/>
            <a:ext cx="3784680" cy="2448000"/>
            <a:chOff x="210960" y="4221000"/>
            <a:chExt cx="3784680" cy="2448000"/>
          </a:xfrm>
        </p:grpSpPr>
        <p:sp>
          <p:nvSpPr>
            <p:cNvPr id="292" name="Rectangle 1"/>
            <p:cNvSpPr/>
            <p:nvPr/>
          </p:nvSpPr>
          <p:spPr>
            <a:xfrm>
              <a:off x="210960" y="4221000"/>
              <a:ext cx="3784680" cy="244800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Rectangle 2"/>
            <p:cNvSpPr/>
            <p:nvPr/>
          </p:nvSpPr>
          <p:spPr>
            <a:xfrm>
              <a:off x="210960" y="4221000"/>
              <a:ext cx="3784680" cy="8161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210960" y="5852880"/>
              <a:ext cx="3784680" cy="8161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lowchart: Delay 3"/>
            <p:cNvSpPr/>
            <p:nvPr/>
          </p:nvSpPr>
          <p:spPr>
            <a:xfrm rot="5400000">
              <a:off x="1482120" y="4968720"/>
              <a:ext cx="1241640" cy="1022400"/>
            </a:xfrm>
            <a:prstGeom prst="flowChartDelay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6"/>
          <p:cNvGrpSpPr/>
          <p:nvPr/>
        </p:nvGrpSpPr>
        <p:grpSpPr>
          <a:xfrm>
            <a:off x="210960" y="4221000"/>
            <a:ext cx="3784680" cy="2448000"/>
            <a:chOff x="210960" y="4221000"/>
            <a:chExt cx="3784680" cy="2448000"/>
          </a:xfrm>
        </p:grpSpPr>
        <p:sp>
          <p:nvSpPr>
            <p:cNvPr id="300" name="Rectangle 1"/>
            <p:cNvSpPr/>
            <p:nvPr/>
          </p:nvSpPr>
          <p:spPr>
            <a:xfrm>
              <a:off x="210960" y="4221000"/>
              <a:ext cx="3784680" cy="244800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2"/>
            <p:cNvSpPr/>
            <p:nvPr/>
          </p:nvSpPr>
          <p:spPr>
            <a:xfrm>
              <a:off x="210960" y="4221000"/>
              <a:ext cx="3784680" cy="8161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5"/>
            <p:cNvSpPr/>
            <p:nvPr/>
          </p:nvSpPr>
          <p:spPr>
            <a:xfrm>
              <a:off x="210960" y="5852880"/>
              <a:ext cx="3784680" cy="8161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Flowchart: Delay 3"/>
            <p:cNvSpPr/>
            <p:nvPr/>
          </p:nvSpPr>
          <p:spPr>
            <a:xfrm rot="5400000">
              <a:off x="1482120" y="4968720"/>
              <a:ext cx="1241640" cy="1022400"/>
            </a:xfrm>
            <a:prstGeom prst="flowChartDelay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4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1"/>
          <p:cNvSpPr/>
          <p:nvPr/>
        </p:nvSpPr>
        <p:spPr>
          <a:xfrm>
            <a:off x="4427640" y="429264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tiene un escudo y tres franj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47600" y="4149720"/>
            <a:ext cx="3776760" cy="2592360"/>
            <a:chOff x="147600" y="4149720"/>
            <a:chExt cx="3776760" cy="2592360"/>
          </a:xfrm>
        </p:grpSpPr>
        <p:sp>
          <p:nvSpPr>
            <p:cNvPr id="310" name="Rectangle 1"/>
            <p:cNvSpPr/>
            <p:nvPr/>
          </p:nvSpPr>
          <p:spPr>
            <a:xfrm>
              <a:off x="147600" y="4149720"/>
              <a:ext cx="3776760" cy="2579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Rectangle 2"/>
            <p:cNvSpPr/>
            <p:nvPr/>
          </p:nvSpPr>
          <p:spPr>
            <a:xfrm>
              <a:off x="147600" y="4149720"/>
              <a:ext cx="3776760" cy="86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147600" y="5016600"/>
              <a:ext cx="3776760" cy="858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47600" y="5883480"/>
              <a:ext cx="3776760" cy="8586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Cross 6"/>
            <p:cNvSpPr/>
            <p:nvPr/>
          </p:nvSpPr>
          <p:spPr>
            <a:xfrm>
              <a:off x="260280" y="5046480"/>
              <a:ext cx="869760" cy="804960"/>
            </a:xfrm>
            <a:prstGeom prst="plus">
              <a:avLst>
                <a:gd name="adj" fmla="val 37653"/>
              </a:avLst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147600" y="4149720"/>
            <a:ext cx="3776760" cy="2592360"/>
            <a:chOff x="147600" y="4149720"/>
            <a:chExt cx="3776760" cy="2592360"/>
          </a:xfrm>
        </p:grpSpPr>
        <p:sp>
          <p:nvSpPr>
            <p:cNvPr id="319" name="Rectangle 1"/>
            <p:cNvSpPr/>
            <p:nvPr/>
          </p:nvSpPr>
          <p:spPr>
            <a:xfrm>
              <a:off x="147600" y="4149720"/>
              <a:ext cx="3776760" cy="2579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Rectangle 2"/>
            <p:cNvSpPr/>
            <p:nvPr/>
          </p:nvSpPr>
          <p:spPr>
            <a:xfrm>
              <a:off x="147600" y="4149720"/>
              <a:ext cx="3776760" cy="86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147600" y="5016600"/>
              <a:ext cx="3776760" cy="858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147600" y="5883480"/>
              <a:ext cx="3776760" cy="8586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Cross 6"/>
            <p:cNvSpPr/>
            <p:nvPr/>
          </p:nvSpPr>
          <p:spPr>
            <a:xfrm>
              <a:off x="260280" y="5046480"/>
              <a:ext cx="869760" cy="804960"/>
            </a:xfrm>
            <a:prstGeom prst="plus">
              <a:avLst>
                <a:gd name="adj" fmla="val 37653"/>
              </a:avLst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  <p:sp>
        <p:nvSpPr>
          <p:cNvPr id="325" name="TextBox 12"/>
          <p:cNvSpPr/>
          <p:nvPr/>
        </p:nvSpPr>
        <p:spPr>
          <a:xfrm>
            <a:off x="4427640" y="429264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tiene una cruz y tres franj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79280" y="4149720"/>
            <a:ext cx="3816360" cy="2592360"/>
            <a:chOff x="179280" y="4149720"/>
            <a:chExt cx="3816360" cy="2592360"/>
          </a:xfrm>
        </p:grpSpPr>
        <p:sp>
          <p:nvSpPr>
            <p:cNvPr id="329" name="Rectangle 1"/>
            <p:cNvSpPr/>
            <p:nvPr/>
          </p:nvSpPr>
          <p:spPr>
            <a:xfrm>
              <a:off x="179280" y="4149720"/>
              <a:ext cx="3816360" cy="2579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Rectangle 7"/>
            <p:cNvSpPr/>
            <p:nvPr/>
          </p:nvSpPr>
          <p:spPr>
            <a:xfrm>
              <a:off x="179280" y="5386320"/>
              <a:ext cx="3816360" cy="1355760"/>
            </a:xfrm>
            <a:prstGeom prst="rect">
              <a:avLst/>
            </a:prstGeom>
            <a:solidFill>
              <a:srgbClr val="ffffe9"/>
            </a:solidFill>
            <a:ln w="255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Rectangle 2"/>
            <p:cNvSpPr/>
            <p:nvPr/>
          </p:nvSpPr>
          <p:spPr>
            <a:xfrm>
              <a:off x="179280" y="4149720"/>
              <a:ext cx="3816360" cy="1308240"/>
            </a:xfrm>
            <a:prstGeom prst="rect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3"/>
            <p:cNvSpPr/>
            <p:nvPr/>
          </p:nvSpPr>
          <p:spPr>
            <a:xfrm>
              <a:off x="1114200" y="4459320"/>
              <a:ext cx="1870200" cy="1868400"/>
            </a:xfrm>
            <a:prstGeom prst="ellipse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5-Point Star 8"/>
            <p:cNvSpPr/>
            <p:nvPr/>
          </p:nvSpPr>
          <p:spPr>
            <a:xfrm>
              <a:off x="1687320" y="4647960"/>
              <a:ext cx="725400" cy="672840"/>
            </a:xfrm>
            <a:custGeom>
              <a:avLst/>
              <a:gdLst/>
              <a:ahLst/>
              <a:rect l="l" t="t" r="r" b="b"/>
              <a:pathLst>
                <a:path w="1368889" h="1296737">
                  <a:moveTo>
                    <a:pt x="1" y="495308"/>
                  </a:moveTo>
                  <a:lnTo>
                    <a:pt x="522872" y="495312"/>
                  </a:lnTo>
                  <a:lnTo>
                    <a:pt x="684445" y="0"/>
                  </a:lnTo>
                  <a:lnTo>
                    <a:pt x="846017" y="495312"/>
                  </a:lnTo>
                  <a:lnTo>
                    <a:pt x="1368888" y="495308"/>
                  </a:lnTo>
                  <a:lnTo>
                    <a:pt x="945874" y="801424"/>
                  </a:lnTo>
                  <a:lnTo>
                    <a:pt x="1107454" y="1296734"/>
                  </a:lnTo>
                  <a:lnTo>
                    <a:pt x="684445" y="990612"/>
                  </a:lnTo>
                  <a:lnTo>
                    <a:pt x="261435" y="1296734"/>
                  </a:lnTo>
                  <a:lnTo>
                    <a:pt x="423015" y="801424"/>
                  </a:lnTo>
                  <a:lnTo>
                    <a:pt x="1" y="49530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5-Point Star 10"/>
            <p:cNvSpPr/>
            <p:nvPr/>
          </p:nvSpPr>
          <p:spPr>
            <a:xfrm>
              <a:off x="1687320" y="5394240"/>
              <a:ext cx="725400" cy="672840"/>
            </a:xfrm>
            <a:custGeom>
              <a:avLst/>
              <a:gdLst/>
              <a:ahLst/>
              <a:rect l="l" t="t" r="r" b="b"/>
              <a:pathLst>
                <a:path w="1368889" h="1296737">
                  <a:moveTo>
                    <a:pt x="1" y="495308"/>
                  </a:moveTo>
                  <a:lnTo>
                    <a:pt x="522872" y="495312"/>
                  </a:lnTo>
                  <a:lnTo>
                    <a:pt x="684445" y="0"/>
                  </a:lnTo>
                  <a:lnTo>
                    <a:pt x="846017" y="495312"/>
                  </a:lnTo>
                  <a:lnTo>
                    <a:pt x="1368888" y="495308"/>
                  </a:lnTo>
                  <a:lnTo>
                    <a:pt x="945874" y="801424"/>
                  </a:lnTo>
                  <a:lnTo>
                    <a:pt x="1107454" y="1296734"/>
                  </a:lnTo>
                  <a:lnTo>
                    <a:pt x="684445" y="990612"/>
                  </a:lnTo>
                  <a:lnTo>
                    <a:pt x="261435" y="1296734"/>
                  </a:lnTo>
                  <a:lnTo>
                    <a:pt x="423015" y="801424"/>
                  </a:lnTo>
                  <a:lnTo>
                    <a:pt x="1" y="49530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179280" y="4149720"/>
            <a:ext cx="3816360" cy="2592360"/>
            <a:chOff x="179280" y="4149720"/>
            <a:chExt cx="3816360" cy="2592360"/>
          </a:xfrm>
        </p:grpSpPr>
        <p:sp>
          <p:nvSpPr>
            <p:cNvPr id="339" name="Rectangle 1"/>
            <p:cNvSpPr/>
            <p:nvPr/>
          </p:nvSpPr>
          <p:spPr>
            <a:xfrm>
              <a:off x="179280" y="4149720"/>
              <a:ext cx="3816360" cy="2579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179280" y="5386320"/>
              <a:ext cx="3816360" cy="1355760"/>
            </a:xfrm>
            <a:prstGeom prst="rect">
              <a:avLst/>
            </a:prstGeom>
            <a:solidFill>
              <a:srgbClr val="ffffe9"/>
            </a:solidFill>
            <a:ln w="255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Rectangle 2"/>
            <p:cNvSpPr/>
            <p:nvPr/>
          </p:nvSpPr>
          <p:spPr>
            <a:xfrm>
              <a:off x="179280" y="4149720"/>
              <a:ext cx="3816360" cy="1308240"/>
            </a:xfrm>
            <a:prstGeom prst="rect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Oval 3"/>
            <p:cNvSpPr/>
            <p:nvPr/>
          </p:nvSpPr>
          <p:spPr>
            <a:xfrm>
              <a:off x="1114200" y="4459320"/>
              <a:ext cx="1870200" cy="1868400"/>
            </a:xfrm>
            <a:prstGeom prst="ellipse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5-Point Star 8"/>
            <p:cNvSpPr/>
            <p:nvPr/>
          </p:nvSpPr>
          <p:spPr>
            <a:xfrm>
              <a:off x="1687320" y="4647960"/>
              <a:ext cx="725400" cy="672840"/>
            </a:xfrm>
            <a:custGeom>
              <a:avLst/>
              <a:gdLst/>
              <a:ahLst/>
              <a:rect l="l" t="t" r="r" b="b"/>
              <a:pathLst>
                <a:path w="1368889" h="1296737">
                  <a:moveTo>
                    <a:pt x="1" y="495308"/>
                  </a:moveTo>
                  <a:lnTo>
                    <a:pt x="522872" y="495312"/>
                  </a:lnTo>
                  <a:lnTo>
                    <a:pt x="684445" y="0"/>
                  </a:lnTo>
                  <a:lnTo>
                    <a:pt x="846017" y="495312"/>
                  </a:lnTo>
                  <a:lnTo>
                    <a:pt x="1368888" y="495308"/>
                  </a:lnTo>
                  <a:lnTo>
                    <a:pt x="945874" y="801424"/>
                  </a:lnTo>
                  <a:lnTo>
                    <a:pt x="1107454" y="1296734"/>
                  </a:lnTo>
                  <a:lnTo>
                    <a:pt x="684445" y="990612"/>
                  </a:lnTo>
                  <a:lnTo>
                    <a:pt x="261435" y="1296734"/>
                  </a:lnTo>
                  <a:lnTo>
                    <a:pt x="423015" y="801424"/>
                  </a:lnTo>
                  <a:lnTo>
                    <a:pt x="1" y="49530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5-Point Star 10"/>
            <p:cNvSpPr/>
            <p:nvPr/>
          </p:nvSpPr>
          <p:spPr>
            <a:xfrm>
              <a:off x="1687320" y="5394240"/>
              <a:ext cx="725400" cy="672840"/>
            </a:xfrm>
            <a:custGeom>
              <a:avLst/>
              <a:gdLst/>
              <a:ahLst/>
              <a:rect l="l" t="t" r="r" b="b"/>
              <a:pathLst>
                <a:path w="1368889" h="1296737">
                  <a:moveTo>
                    <a:pt x="1" y="495308"/>
                  </a:moveTo>
                  <a:lnTo>
                    <a:pt x="522872" y="495312"/>
                  </a:lnTo>
                  <a:lnTo>
                    <a:pt x="684445" y="0"/>
                  </a:lnTo>
                  <a:lnTo>
                    <a:pt x="846017" y="495312"/>
                  </a:lnTo>
                  <a:lnTo>
                    <a:pt x="1368888" y="495308"/>
                  </a:lnTo>
                  <a:lnTo>
                    <a:pt x="945874" y="801424"/>
                  </a:lnTo>
                  <a:lnTo>
                    <a:pt x="1107454" y="1296734"/>
                  </a:lnTo>
                  <a:lnTo>
                    <a:pt x="684445" y="990612"/>
                  </a:lnTo>
                  <a:lnTo>
                    <a:pt x="261435" y="1296734"/>
                  </a:lnTo>
                  <a:lnTo>
                    <a:pt x="423015" y="801424"/>
                  </a:lnTo>
                  <a:lnTo>
                    <a:pt x="1" y="49530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4"/>
          <p:cNvSpPr/>
          <p:nvPr/>
        </p:nvSpPr>
        <p:spPr>
          <a:xfrm>
            <a:off x="4427640" y="429264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tiene un círculo y dos estrell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152280" y="4221000"/>
            <a:ext cx="1789200" cy="2548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1871640" y="4221000"/>
            <a:ext cx="1789200" cy="25480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Cross 12"/>
          <p:cNvSpPr/>
          <p:nvPr/>
        </p:nvSpPr>
        <p:spPr>
          <a:xfrm>
            <a:off x="1468440" y="4591080"/>
            <a:ext cx="806400" cy="793800"/>
          </a:xfrm>
          <a:prstGeom prst="plus">
            <a:avLst>
              <a:gd name="adj" fmla="val 3765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6"/>
          <p:cNvSpPr/>
          <p:nvPr/>
        </p:nvSpPr>
        <p:spPr>
          <a:xfrm>
            <a:off x="1414440" y="5549760"/>
            <a:ext cx="912960" cy="851040"/>
          </a:xfrm>
          <a:prstGeom prst="ellipse">
            <a:avLst/>
          </a:prstGeom>
          <a:solidFill>
            <a:srgbClr val="ffff09"/>
          </a:solidFill>
          <a:ln w="25560">
            <a:solidFill>
              <a:srgbClr val="ff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52280" y="4221000"/>
            <a:ext cx="1789200" cy="2548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1871640" y="4221000"/>
            <a:ext cx="1789200" cy="25480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Cross 12"/>
          <p:cNvSpPr/>
          <p:nvPr/>
        </p:nvSpPr>
        <p:spPr>
          <a:xfrm>
            <a:off x="1468440" y="4591080"/>
            <a:ext cx="806400" cy="793800"/>
          </a:xfrm>
          <a:prstGeom prst="plus">
            <a:avLst>
              <a:gd name="adj" fmla="val 3765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Oval 6"/>
          <p:cNvSpPr/>
          <p:nvPr/>
        </p:nvSpPr>
        <p:spPr>
          <a:xfrm>
            <a:off x="1414440" y="5549760"/>
            <a:ext cx="912960" cy="851040"/>
          </a:xfrm>
          <a:prstGeom prst="ellipse">
            <a:avLst/>
          </a:prstGeom>
          <a:solidFill>
            <a:srgbClr val="ffff09"/>
          </a:solidFill>
          <a:ln w="25560">
            <a:solidFill>
              <a:srgbClr val="ff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4"/>
          <p:cNvSpPr/>
          <p:nvPr/>
        </p:nvSpPr>
        <p:spPr>
          <a:xfrm>
            <a:off x="4427640" y="429264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tiene una cruz y un círcul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2376360" y="147600"/>
            <a:ext cx="66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 bandera es azul, blanca, verde y negra.  Mi bandera tiene un escudo y tres franj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4" name="Group 10"/>
          <p:cNvGrpSpPr/>
          <p:nvPr/>
        </p:nvGrpSpPr>
        <p:grpSpPr>
          <a:xfrm>
            <a:off x="179280" y="165240"/>
            <a:ext cx="2016360" cy="1360440"/>
            <a:chOff x="179280" y="165240"/>
            <a:chExt cx="2016360" cy="1360440"/>
          </a:xfrm>
        </p:grpSpPr>
        <p:sp>
          <p:nvSpPr>
            <p:cNvPr id="365" name="Rectangle 15"/>
            <p:cNvSpPr/>
            <p:nvPr/>
          </p:nvSpPr>
          <p:spPr>
            <a:xfrm>
              <a:off x="179280" y="165240"/>
              <a:ext cx="2016360" cy="136044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Rectangle 16"/>
            <p:cNvSpPr/>
            <p:nvPr/>
          </p:nvSpPr>
          <p:spPr>
            <a:xfrm>
              <a:off x="179280" y="165240"/>
              <a:ext cx="2016360" cy="45396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Rectangle 17"/>
            <p:cNvSpPr/>
            <p:nvPr/>
          </p:nvSpPr>
          <p:spPr>
            <a:xfrm>
              <a:off x="179280" y="1071720"/>
              <a:ext cx="2016360" cy="45396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Flowchart: Delay 18"/>
            <p:cNvSpPr/>
            <p:nvPr/>
          </p:nvSpPr>
          <p:spPr>
            <a:xfrm rot="5400000">
              <a:off x="842760" y="592200"/>
              <a:ext cx="690480" cy="544320"/>
            </a:xfrm>
            <a:prstGeom prst="flowChartDelay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9" name="Group 19"/>
          <p:cNvGrpSpPr/>
          <p:nvPr/>
        </p:nvGrpSpPr>
        <p:grpSpPr>
          <a:xfrm>
            <a:off x="179280" y="3446640"/>
            <a:ext cx="2016360" cy="1444320"/>
            <a:chOff x="179280" y="3446640"/>
            <a:chExt cx="2016360" cy="1444320"/>
          </a:xfrm>
        </p:grpSpPr>
        <p:sp>
          <p:nvSpPr>
            <p:cNvPr id="370" name="Rectangle 20"/>
            <p:cNvSpPr/>
            <p:nvPr/>
          </p:nvSpPr>
          <p:spPr>
            <a:xfrm>
              <a:off x="179280" y="3446640"/>
              <a:ext cx="2016360" cy="143640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Rectangle 21"/>
            <p:cNvSpPr/>
            <p:nvPr/>
          </p:nvSpPr>
          <p:spPr>
            <a:xfrm>
              <a:off x="179280" y="4135320"/>
              <a:ext cx="2016360" cy="755640"/>
            </a:xfrm>
            <a:prstGeom prst="rect">
              <a:avLst/>
            </a:prstGeom>
            <a:solidFill>
              <a:srgbClr val="ffffe9"/>
            </a:solidFill>
            <a:ln w="255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Rectangle 22"/>
            <p:cNvSpPr/>
            <p:nvPr/>
          </p:nvSpPr>
          <p:spPr>
            <a:xfrm>
              <a:off x="179280" y="3446640"/>
              <a:ext cx="2016360" cy="728640"/>
            </a:xfrm>
            <a:prstGeom prst="rect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Oval 23"/>
            <p:cNvSpPr/>
            <p:nvPr/>
          </p:nvSpPr>
          <p:spPr>
            <a:xfrm>
              <a:off x="672840" y="3618000"/>
              <a:ext cx="987480" cy="1042920"/>
            </a:xfrm>
            <a:prstGeom prst="ellipse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5-Point Star 24"/>
            <p:cNvSpPr/>
            <p:nvPr/>
          </p:nvSpPr>
          <p:spPr>
            <a:xfrm>
              <a:off x="976320" y="3724200"/>
              <a:ext cx="382680" cy="374400"/>
            </a:xfrm>
            <a:custGeom>
              <a:avLst/>
              <a:gdLst/>
              <a:ahLst/>
              <a:rect l="l" t="t" r="r" b="b"/>
              <a:pathLst>
                <a:path w="1366468" h="1295219">
                  <a:moveTo>
                    <a:pt x="1" y="494728"/>
                  </a:moveTo>
                  <a:lnTo>
                    <a:pt x="521947" y="494732"/>
                  </a:lnTo>
                  <a:lnTo>
                    <a:pt x="683234" y="0"/>
                  </a:lnTo>
                  <a:lnTo>
                    <a:pt x="844521" y="494732"/>
                  </a:lnTo>
                  <a:lnTo>
                    <a:pt x="1366467" y="494728"/>
                  </a:lnTo>
                  <a:lnTo>
                    <a:pt x="944202" y="800486"/>
                  </a:lnTo>
                  <a:lnTo>
                    <a:pt x="1105495" y="1295216"/>
                  </a:lnTo>
                  <a:lnTo>
                    <a:pt x="683234" y="989452"/>
                  </a:lnTo>
                  <a:lnTo>
                    <a:pt x="260973" y="1295216"/>
                  </a:lnTo>
                  <a:lnTo>
                    <a:pt x="422266" y="800486"/>
                  </a:lnTo>
                  <a:lnTo>
                    <a:pt x="1" y="49472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5-Point Star 25"/>
            <p:cNvSpPr/>
            <p:nvPr/>
          </p:nvSpPr>
          <p:spPr>
            <a:xfrm>
              <a:off x="976320" y="4140360"/>
              <a:ext cx="382680" cy="374400"/>
            </a:xfrm>
            <a:custGeom>
              <a:avLst/>
              <a:gdLst/>
              <a:ahLst/>
              <a:rect l="l" t="t" r="r" b="b"/>
              <a:pathLst>
                <a:path w="1366468" h="1295219">
                  <a:moveTo>
                    <a:pt x="1" y="494728"/>
                  </a:moveTo>
                  <a:lnTo>
                    <a:pt x="521947" y="494732"/>
                  </a:lnTo>
                  <a:lnTo>
                    <a:pt x="683234" y="0"/>
                  </a:lnTo>
                  <a:lnTo>
                    <a:pt x="844521" y="494732"/>
                  </a:lnTo>
                  <a:lnTo>
                    <a:pt x="1366467" y="494728"/>
                  </a:lnTo>
                  <a:lnTo>
                    <a:pt x="944202" y="800486"/>
                  </a:lnTo>
                  <a:lnTo>
                    <a:pt x="1105495" y="1295216"/>
                  </a:lnTo>
                  <a:lnTo>
                    <a:pt x="683234" y="989452"/>
                  </a:lnTo>
                  <a:lnTo>
                    <a:pt x="260973" y="1295216"/>
                  </a:lnTo>
                  <a:lnTo>
                    <a:pt x="422266" y="800486"/>
                  </a:lnTo>
                  <a:lnTo>
                    <a:pt x="1" y="49472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6" name="Group 26"/>
          <p:cNvGrpSpPr/>
          <p:nvPr/>
        </p:nvGrpSpPr>
        <p:grpSpPr>
          <a:xfrm>
            <a:off x="179280" y="1779480"/>
            <a:ext cx="2009880" cy="1413000"/>
            <a:chOff x="179280" y="1779480"/>
            <a:chExt cx="2009880" cy="1413000"/>
          </a:xfrm>
        </p:grpSpPr>
        <p:sp>
          <p:nvSpPr>
            <p:cNvPr id="377" name="Rectangle 27"/>
            <p:cNvSpPr/>
            <p:nvPr/>
          </p:nvSpPr>
          <p:spPr>
            <a:xfrm>
              <a:off x="179280" y="1779480"/>
              <a:ext cx="2009880" cy="14050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Rectangle 28"/>
            <p:cNvSpPr/>
            <p:nvPr/>
          </p:nvSpPr>
          <p:spPr>
            <a:xfrm>
              <a:off x="179280" y="1779480"/>
              <a:ext cx="2009880" cy="46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Rectangle 29"/>
            <p:cNvSpPr/>
            <p:nvPr/>
          </p:nvSpPr>
          <p:spPr>
            <a:xfrm>
              <a:off x="179280" y="2252520"/>
              <a:ext cx="2009880" cy="4683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30"/>
            <p:cNvSpPr/>
            <p:nvPr/>
          </p:nvSpPr>
          <p:spPr>
            <a:xfrm>
              <a:off x="179280" y="2724120"/>
              <a:ext cx="2009880" cy="46836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Cross 31"/>
            <p:cNvSpPr/>
            <p:nvPr/>
          </p:nvSpPr>
          <p:spPr>
            <a:xfrm>
              <a:off x="239400" y="2268360"/>
              <a:ext cx="461880" cy="438120"/>
            </a:xfrm>
            <a:prstGeom prst="plus">
              <a:avLst>
                <a:gd name="adj" fmla="val 37653"/>
              </a:avLst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2" name="Rectangle 33"/>
          <p:cNvSpPr/>
          <p:nvPr/>
        </p:nvSpPr>
        <p:spPr>
          <a:xfrm>
            <a:off x="179280" y="5145120"/>
            <a:ext cx="1042920" cy="152244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1181160" y="5145120"/>
            <a:ext cx="1041480" cy="15224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Cross 35"/>
          <p:cNvSpPr/>
          <p:nvPr/>
        </p:nvSpPr>
        <p:spPr>
          <a:xfrm>
            <a:off x="946080" y="5365800"/>
            <a:ext cx="469800" cy="474480"/>
          </a:xfrm>
          <a:prstGeom prst="plus">
            <a:avLst>
              <a:gd name="adj" fmla="val 3765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Oval 36"/>
          <p:cNvSpPr/>
          <p:nvPr/>
        </p:nvSpPr>
        <p:spPr>
          <a:xfrm>
            <a:off x="914400" y="5938920"/>
            <a:ext cx="531720" cy="507960"/>
          </a:xfrm>
          <a:prstGeom prst="ellipse">
            <a:avLst/>
          </a:prstGeom>
          <a:solidFill>
            <a:srgbClr val="ffff09"/>
          </a:solidFill>
          <a:ln w="25560">
            <a:solidFill>
              <a:srgbClr val="ff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Box 37"/>
          <p:cNvSpPr/>
          <p:nvPr/>
        </p:nvSpPr>
        <p:spPr>
          <a:xfrm>
            <a:off x="2376360" y="1806480"/>
            <a:ext cx="66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 bandera es roja, amarilla, azul y verde.  Mi bandera tiene una cruz y tres franj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Box 38"/>
          <p:cNvSpPr/>
          <p:nvPr/>
        </p:nvSpPr>
        <p:spPr>
          <a:xfrm>
            <a:off x="2376360" y="3449520"/>
            <a:ext cx="66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 bandera es verde y blanca. 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 bandera tiene un círculo y dos estrell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Box 39"/>
          <p:cNvSpPr/>
          <p:nvPr/>
        </p:nvSpPr>
        <p:spPr>
          <a:xfrm>
            <a:off x="2376360" y="5216400"/>
            <a:ext cx="66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 bandera es naranja, roja, negra y amarilla.  Mi bandera tiene una cruz y un círcul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210960" y="3500280"/>
            <a:ext cx="4721400" cy="3168720"/>
            <a:chOff x="210960" y="3500280"/>
            <a:chExt cx="4721400" cy="3168720"/>
          </a:xfrm>
        </p:grpSpPr>
        <p:sp>
          <p:nvSpPr>
            <p:cNvPr id="216" name="Rectangle 1"/>
            <p:cNvSpPr/>
            <p:nvPr/>
          </p:nvSpPr>
          <p:spPr>
            <a:xfrm>
              <a:off x="210960" y="3500280"/>
              <a:ext cx="4721400" cy="316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2"/>
            <p:cNvSpPr/>
            <p:nvPr/>
          </p:nvSpPr>
          <p:spPr>
            <a:xfrm>
              <a:off x="210960" y="3500280"/>
              <a:ext cx="4721400" cy="10573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>
              <a:off x="210960" y="5613480"/>
              <a:ext cx="4721400" cy="10555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Flowchart: Delay 3"/>
            <p:cNvSpPr/>
            <p:nvPr/>
          </p:nvSpPr>
          <p:spPr>
            <a:xfrm rot="5400000">
              <a:off x="1767960" y="4492440"/>
              <a:ext cx="1608120" cy="1274760"/>
            </a:xfrm>
            <a:prstGeom prst="flowChartDelay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0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10960" y="3500280"/>
            <a:ext cx="4721400" cy="3168720"/>
            <a:chOff x="210960" y="3500280"/>
            <a:chExt cx="4721400" cy="3168720"/>
          </a:xfrm>
        </p:grpSpPr>
        <p:sp>
          <p:nvSpPr>
            <p:cNvPr id="224" name="Rectangle 1"/>
            <p:cNvSpPr/>
            <p:nvPr/>
          </p:nvSpPr>
          <p:spPr>
            <a:xfrm>
              <a:off x="210960" y="3500280"/>
              <a:ext cx="4721400" cy="316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Rectangle 2"/>
            <p:cNvSpPr/>
            <p:nvPr/>
          </p:nvSpPr>
          <p:spPr>
            <a:xfrm>
              <a:off x="210960" y="3500280"/>
              <a:ext cx="4721400" cy="10573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Rectangle 5"/>
            <p:cNvSpPr/>
            <p:nvPr/>
          </p:nvSpPr>
          <p:spPr>
            <a:xfrm>
              <a:off x="210960" y="5613480"/>
              <a:ext cx="4721400" cy="10555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Flowchart: Delay 3"/>
            <p:cNvSpPr/>
            <p:nvPr/>
          </p:nvSpPr>
          <p:spPr>
            <a:xfrm rot="5400000">
              <a:off x="1767960" y="4492440"/>
              <a:ext cx="1608120" cy="1274760"/>
            </a:xfrm>
            <a:prstGeom prst="flowChartDelay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8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5092560" y="3716280"/>
            <a:ext cx="39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es azul, blanca, verde y negr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147600" y="3573360"/>
            <a:ext cx="4424400" cy="3168720"/>
            <a:chOff x="147600" y="3573360"/>
            <a:chExt cx="4424400" cy="3168720"/>
          </a:xfrm>
        </p:grpSpPr>
        <p:sp>
          <p:nvSpPr>
            <p:cNvPr id="234" name="Rectangle 1"/>
            <p:cNvSpPr/>
            <p:nvPr/>
          </p:nvSpPr>
          <p:spPr>
            <a:xfrm>
              <a:off x="147600" y="3573360"/>
              <a:ext cx="4424400" cy="31528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Rectangle 2"/>
            <p:cNvSpPr/>
            <p:nvPr/>
          </p:nvSpPr>
          <p:spPr>
            <a:xfrm>
              <a:off x="147600" y="3573360"/>
              <a:ext cx="4424400" cy="1050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Rectangle 5"/>
            <p:cNvSpPr/>
            <p:nvPr/>
          </p:nvSpPr>
          <p:spPr>
            <a:xfrm>
              <a:off x="147600" y="4632120"/>
              <a:ext cx="4424400" cy="10508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147600" y="5691240"/>
              <a:ext cx="4424400" cy="105084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Cross 6"/>
            <p:cNvSpPr/>
            <p:nvPr/>
          </p:nvSpPr>
          <p:spPr>
            <a:xfrm>
              <a:off x="280800" y="4670280"/>
              <a:ext cx="1017360" cy="982440"/>
            </a:xfrm>
            <a:prstGeom prst="plus">
              <a:avLst>
                <a:gd name="adj" fmla="val 37653"/>
              </a:avLst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147600" y="3573360"/>
            <a:ext cx="4424400" cy="3168720"/>
            <a:chOff x="147600" y="3573360"/>
            <a:chExt cx="4424400" cy="3168720"/>
          </a:xfrm>
        </p:grpSpPr>
        <p:sp>
          <p:nvSpPr>
            <p:cNvPr id="243" name="Rectangle 1"/>
            <p:cNvSpPr/>
            <p:nvPr/>
          </p:nvSpPr>
          <p:spPr>
            <a:xfrm>
              <a:off x="147600" y="3573360"/>
              <a:ext cx="4424400" cy="31528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2"/>
            <p:cNvSpPr/>
            <p:nvPr/>
          </p:nvSpPr>
          <p:spPr>
            <a:xfrm>
              <a:off x="147600" y="3573360"/>
              <a:ext cx="4424400" cy="1050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>
              <a:off x="147600" y="4632120"/>
              <a:ext cx="4424400" cy="10508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47600" y="5691240"/>
              <a:ext cx="4424400" cy="105084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Cross 6"/>
            <p:cNvSpPr/>
            <p:nvPr/>
          </p:nvSpPr>
          <p:spPr>
            <a:xfrm>
              <a:off x="280800" y="4670280"/>
              <a:ext cx="1017360" cy="982440"/>
            </a:xfrm>
            <a:prstGeom prst="plus">
              <a:avLst>
                <a:gd name="adj" fmla="val 37653"/>
              </a:avLst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1"/>
          <p:cNvSpPr/>
          <p:nvPr/>
        </p:nvSpPr>
        <p:spPr>
          <a:xfrm>
            <a:off x="5092560" y="3716280"/>
            <a:ext cx="39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es roja, amarilla, azul y verd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79280" y="3573360"/>
            <a:ext cx="4608720" cy="3206880"/>
            <a:chOff x="179280" y="3573360"/>
            <a:chExt cx="4608720" cy="3206880"/>
          </a:xfrm>
        </p:grpSpPr>
        <p:sp>
          <p:nvSpPr>
            <p:cNvPr id="253" name="Rectangle 1"/>
            <p:cNvSpPr/>
            <p:nvPr/>
          </p:nvSpPr>
          <p:spPr>
            <a:xfrm>
              <a:off x="179280" y="3573360"/>
              <a:ext cx="4608720" cy="319104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179280" y="5103720"/>
              <a:ext cx="4608720" cy="1676520"/>
            </a:xfrm>
            <a:prstGeom prst="rect">
              <a:avLst/>
            </a:prstGeom>
            <a:solidFill>
              <a:srgbClr val="ffffe9"/>
            </a:solidFill>
            <a:ln w="255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2"/>
            <p:cNvSpPr/>
            <p:nvPr/>
          </p:nvSpPr>
          <p:spPr>
            <a:xfrm>
              <a:off x="179280" y="3573360"/>
              <a:ext cx="4608720" cy="1619280"/>
            </a:xfrm>
            <a:prstGeom prst="rect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3"/>
            <p:cNvSpPr/>
            <p:nvPr/>
          </p:nvSpPr>
          <p:spPr>
            <a:xfrm>
              <a:off x="1309680" y="3955680"/>
              <a:ext cx="2257560" cy="2311560"/>
            </a:xfrm>
            <a:prstGeom prst="ellipse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5-Point Star 8"/>
            <p:cNvSpPr/>
            <p:nvPr/>
          </p:nvSpPr>
          <p:spPr>
            <a:xfrm>
              <a:off x="2000160" y="4189320"/>
              <a:ext cx="876240" cy="831960"/>
            </a:xfrm>
            <a:custGeom>
              <a:avLst/>
              <a:gdLst/>
              <a:ahLst/>
              <a:rect l="l" t="t" r="r" b="b"/>
              <a:pathLst>
                <a:path w="1369238" h="1295545">
                  <a:moveTo>
                    <a:pt x="1" y="494853"/>
                  </a:moveTo>
                  <a:lnTo>
                    <a:pt x="523005" y="494856"/>
                  </a:lnTo>
                  <a:lnTo>
                    <a:pt x="684619" y="0"/>
                  </a:lnTo>
                  <a:lnTo>
                    <a:pt x="846233" y="494856"/>
                  </a:lnTo>
                  <a:lnTo>
                    <a:pt x="1369237" y="494853"/>
                  </a:lnTo>
                  <a:lnTo>
                    <a:pt x="946116" y="800687"/>
                  </a:lnTo>
                  <a:lnTo>
                    <a:pt x="1107736" y="1295542"/>
                  </a:lnTo>
                  <a:lnTo>
                    <a:pt x="684619" y="989701"/>
                  </a:lnTo>
                  <a:lnTo>
                    <a:pt x="261502" y="1295542"/>
                  </a:lnTo>
                  <a:lnTo>
                    <a:pt x="423122" y="800687"/>
                  </a:lnTo>
                  <a:lnTo>
                    <a:pt x="1" y="494853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5-Point Star 10"/>
            <p:cNvSpPr/>
            <p:nvPr/>
          </p:nvSpPr>
          <p:spPr>
            <a:xfrm>
              <a:off x="2000160" y="5113440"/>
              <a:ext cx="876240" cy="831960"/>
            </a:xfrm>
            <a:custGeom>
              <a:avLst/>
              <a:gdLst/>
              <a:ahLst/>
              <a:rect l="l" t="t" r="r" b="b"/>
              <a:pathLst>
                <a:path w="1369238" h="1295545">
                  <a:moveTo>
                    <a:pt x="1" y="494853"/>
                  </a:moveTo>
                  <a:lnTo>
                    <a:pt x="523005" y="494856"/>
                  </a:lnTo>
                  <a:lnTo>
                    <a:pt x="684619" y="0"/>
                  </a:lnTo>
                  <a:lnTo>
                    <a:pt x="846233" y="494856"/>
                  </a:lnTo>
                  <a:lnTo>
                    <a:pt x="1369237" y="494853"/>
                  </a:lnTo>
                  <a:lnTo>
                    <a:pt x="946116" y="800687"/>
                  </a:lnTo>
                  <a:lnTo>
                    <a:pt x="1107736" y="1295542"/>
                  </a:lnTo>
                  <a:lnTo>
                    <a:pt x="684619" y="989701"/>
                  </a:lnTo>
                  <a:lnTo>
                    <a:pt x="261502" y="1295542"/>
                  </a:lnTo>
                  <a:lnTo>
                    <a:pt x="423122" y="800687"/>
                  </a:lnTo>
                  <a:lnTo>
                    <a:pt x="1" y="494853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Group 5"/>
          <p:cNvGrpSpPr/>
          <p:nvPr/>
        </p:nvGrpSpPr>
        <p:grpSpPr>
          <a:xfrm>
            <a:off x="179280" y="3573360"/>
            <a:ext cx="4608720" cy="3206880"/>
            <a:chOff x="179280" y="3573360"/>
            <a:chExt cx="4608720" cy="3206880"/>
          </a:xfrm>
        </p:grpSpPr>
        <p:sp>
          <p:nvSpPr>
            <p:cNvPr id="263" name="Rectangle 1"/>
            <p:cNvSpPr/>
            <p:nvPr/>
          </p:nvSpPr>
          <p:spPr>
            <a:xfrm>
              <a:off x="179280" y="3573360"/>
              <a:ext cx="4608720" cy="319104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179280" y="5103720"/>
              <a:ext cx="4608720" cy="1676520"/>
            </a:xfrm>
            <a:prstGeom prst="rect">
              <a:avLst/>
            </a:prstGeom>
            <a:solidFill>
              <a:srgbClr val="ffffe9"/>
            </a:solidFill>
            <a:ln w="255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Rectangle 2"/>
            <p:cNvSpPr/>
            <p:nvPr/>
          </p:nvSpPr>
          <p:spPr>
            <a:xfrm>
              <a:off x="179280" y="3573360"/>
              <a:ext cx="4608720" cy="1619280"/>
            </a:xfrm>
            <a:prstGeom prst="rect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Oval 3"/>
            <p:cNvSpPr/>
            <p:nvPr/>
          </p:nvSpPr>
          <p:spPr>
            <a:xfrm>
              <a:off x="1309680" y="3955680"/>
              <a:ext cx="2257560" cy="2311560"/>
            </a:xfrm>
            <a:prstGeom prst="ellipse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5-Point Star 8"/>
            <p:cNvSpPr/>
            <p:nvPr/>
          </p:nvSpPr>
          <p:spPr>
            <a:xfrm>
              <a:off x="2000160" y="4189320"/>
              <a:ext cx="876240" cy="831960"/>
            </a:xfrm>
            <a:custGeom>
              <a:avLst/>
              <a:gdLst/>
              <a:ahLst/>
              <a:rect l="l" t="t" r="r" b="b"/>
              <a:pathLst>
                <a:path w="1369238" h="1295545">
                  <a:moveTo>
                    <a:pt x="1" y="494853"/>
                  </a:moveTo>
                  <a:lnTo>
                    <a:pt x="523005" y="494856"/>
                  </a:lnTo>
                  <a:lnTo>
                    <a:pt x="684619" y="0"/>
                  </a:lnTo>
                  <a:lnTo>
                    <a:pt x="846233" y="494856"/>
                  </a:lnTo>
                  <a:lnTo>
                    <a:pt x="1369237" y="494853"/>
                  </a:lnTo>
                  <a:lnTo>
                    <a:pt x="946116" y="800687"/>
                  </a:lnTo>
                  <a:lnTo>
                    <a:pt x="1107736" y="1295542"/>
                  </a:lnTo>
                  <a:lnTo>
                    <a:pt x="684619" y="989701"/>
                  </a:lnTo>
                  <a:lnTo>
                    <a:pt x="261502" y="1295542"/>
                  </a:lnTo>
                  <a:lnTo>
                    <a:pt x="423122" y="800687"/>
                  </a:lnTo>
                  <a:lnTo>
                    <a:pt x="1" y="494853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5-Point Star 10"/>
            <p:cNvSpPr/>
            <p:nvPr/>
          </p:nvSpPr>
          <p:spPr>
            <a:xfrm>
              <a:off x="2000160" y="5113440"/>
              <a:ext cx="876240" cy="831960"/>
            </a:xfrm>
            <a:custGeom>
              <a:avLst/>
              <a:gdLst/>
              <a:ahLst/>
              <a:rect l="l" t="t" r="r" b="b"/>
              <a:pathLst>
                <a:path w="1369238" h="1295545">
                  <a:moveTo>
                    <a:pt x="1" y="494853"/>
                  </a:moveTo>
                  <a:lnTo>
                    <a:pt x="523005" y="494856"/>
                  </a:lnTo>
                  <a:lnTo>
                    <a:pt x="684619" y="0"/>
                  </a:lnTo>
                  <a:lnTo>
                    <a:pt x="846233" y="494856"/>
                  </a:lnTo>
                  <a:lnTo>
                    <a:pt x="1369237" y="494853"/>
                  </a:lnTo>
                  <a:lnTo>
                    <a:pt x="946116" y="800687"/>
                  </a:lnTo>
                  <a:lnTo>
                    <a:pt x="1107736" y="1295542"/>
                  </a:lnTo>
                  <a:lnTo>
                    <a:pt x="684619" y="989701"/>
                  </a:lnTo>
                  <a:lnTo>
                    <a:pt x="261502" y="1295542"/>
                  </a:lnTo>
                  <a:lnTo>
                    <a:pt x="423122" y="800687"/>
                  </a:lnTo>
                  <a:lnTo>
                    <a:pt x="1" y="494853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2"/>
          <p:cNvSpPr/>
          <p:nvPr/>
        </p:nvSpPr>
        <p:spPr>
          <a:xfrm>
            <a:off x="5092560" y="3716280"/>
            <a:ext cx="39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es verde y blanc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3" name="Group 2"/>
          <p:cNvGrpSpPr/>
          <p:nvPr/>
        </p:nvGrpSpPr>
        <p:grpSpPr>
          <a:xfrm>
            <a:off x="152280" y="3500280"/>
            <a:ext cx="4635720" cy="3273480"/>
            <a:chOff x="152280" y="3500280"/>
            <a:chExt cx="4635720" cy="3273480"/>
          </a:xfrm>
        </p:grpSpPr>
        <p:sp>
          <p:nvSpPr>
            <p:cNvPr id="274" name="Rectangle 5"/>
            <p:cNvSpPr/>
            <p:nvPr/>
          </p:nvSpPr>
          <p:spPr>
            <a:xfrm>
              <a:off x="152280" y="3500280"/>
              <a:ext cx="2363760" cy="326880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2424240" y="3504960"/>
              <a:ext cx="2363760" cy="3268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Cross 12"/>
            <p:cNvSpPr/>
            <p:nvPr/>
          </p:nvSpPr>
          <p:spPr>
            <a:xfrm>
              <a:off x="1890720" y="3974760"/>
              <a:ext cx="1066680" cy="1017360"/>
            </a:xfrm>
            <a:prstGeom prst="plus">
              <a:avLst>
                <a:gd name="adj" fmla="val 37653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820880" y="5205240"/>
              <a:ext cx="1204920" cy="1090440"/>
            </a:xfrm>
            <a:prstGeom prst="ellipse">
              <a:avLst/>
            </a:prstGeom>
            <a:solidFill>
              <a:srgbClr val="ffff09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Group 2"/>
          <p:cNvGrpSpPr/>
          <p:nvPr/>
        </p:nvGrpSpPr>
        <p:grpSpPr>
          <a:xfrm>
            <a:off x="152280" y="3500280"/>
            <a:ext cx="4635720" cy="3273480"/>
            <a:chOff x="152280" y="3500280"/>
            <a:chExt cx="4635720" cy="3273480"/>
          </a:xfrm>
        </p:grpSpPr>
        <p:sp>
          <p:nvSpPr>
            <p:cNvPr id="282" name="Rectangle 5"/>
            <p:cNvSpPr/>
            <p:nvPr/>
          </p:nvSpPr>
          <p:spPr>
            <a:xfrm>
              <a:off x="152280" y="3500280"/>
              <a:ext cx="2363760" cy="326880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2424240" y="3504960"/>
              <a:ext cx="2363760" cy="3268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Cross 12"/>
            <p:cNvSpPr/>
            <p:nvPr/>
          </p:nvSpPr>
          <p:spPr>
            <a:xfrm>
              <a:off x="1890720" y="3974760"/>
              <a:ext cx="1066680" cy="1017360"/>
            </a:xfrm>
            <a:prstGeom prst="plus">
              <a:avLst>
                <a:gd name="adj" fmla="val 37653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6"/>
            <p:cNvSpPr/>
            <p:nvPr/>
          </p:nvSpPr>
          <p:spPr>
            <a:xfrm>
              <a:off x="1820880" y="5205240"/>
              <a:ext cx="1204920" cy="1090440"/>
            </a:xfrm>
            <a:prstGeom prst="ellipse">
              <a:avLst/>
            </a:prstGeom>
            <a:solidFill>
              <a:srgbClr val="ffff09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9"/>
          <p:cNvSpPr/>
          <p:nvPr/>
        </p:nvSpPr>
        <p:spPr>
          <a:xfrm>
            <a:off x="5092560" y="3716280"/>
            <a:ext cx="396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es naranja, roja, negra y amaril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7-07T10:56:37Z</dcterms:modified>
  <cp:revision>144</cp:revision>
  <dc:subject/>
  <dc:title>TITLE</dc:title>
</cp:coreProperties>
</file>