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EB3B-DCE4-4439-A75D-B43693960B4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8D26-B8EF-4930-BAA8-518C122071B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49A3-55AA-48B3-A32E-23EEABF01B0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90D5-7FC3-4B79-A2A4-2BD8C4B25F1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CF9C-0584-4923-98A1-B365CA7CEA7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39B3-FD93-43B4-8777-E6B10095E6C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4155-B0BB-4820-9350-160F30E529F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EC33-25FC-4ADC-BC98-B7D9D0FCD8B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BBF1-2A34-49C2-92EF-F02428CC597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A491-95A5-4460-BE54-C9C5DA7B648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2B86-957C-41E2-8C45-2D82BE2D45B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6540-5542-47E5-B3AE-401A169544C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B9E2-C456-49BB-B735-56FE921532B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14FF-C136-4276-8095-C83F9E0471E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05C6-6DD5-47B3-BD6F-3A503A35C73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C433-8F98-4C86-9116-7B09CB74954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2DB6-EF61-4EA7-97CD-4BB32DFE69B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EFCE-D103-478A-B58E-24C9B13DF16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8395-6030-410B-934F-DFB8F304D49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684D-F35A-425F-8ACF-86250460F71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FF98-2C60-4018-A496-DDA6D901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EE9B-2243-413D-93C5-A1FAE9EC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4081-B5B2-4AEA-9722-9605D440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2E4A-42C5-4D9F-94DA-C532A809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795F-51A3-4801-AB56-F73DFD70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EB13-993A-4477-BDCB-B3EBD96A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5D6E-D834-49BF-9D88-8237E512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7449-8FD3-411A-BF2F-55C6AB0D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1E52-6BEF-44CB-90F2-BA7B9652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FBB1-6D9B-48EE-B511-6A4ADE04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02B9-D6BF-4C00-A089-81F5F6E9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C233-9E73-44A0-B236-FB21EA1E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B0EE-F4A1-416F-93E2-2D328280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0832-A375-42AF-AF2F-83AF3010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C98A-2969-4B88-BE35-67357388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F916-D77A-4350-BE15-7F0D1D75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6A2C-C52A-411E-A9EF-93E09971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37CE2-5C10-49EF-AAB1-54AA7867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64D14-8F04-4C4C-BB56-7E1E2099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AA6B3-321D-4EF4-85AE-F4B910F9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CCFCE-EED1-40D4-8FA3-CFE27694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38956-45E1-461B-A14F-8BA1670C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5485-0A86-427A-AEF5-C2B90B29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2A720-7315-49A1-A4B5-19E05F42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8E58D-AAB7-40DF-B08B-369D55CF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D6B14-C440-4219-934C-4D5DFB1E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4270E-D901-4889-B450-9775CF8E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064F4-A4D5-4568-A36B-8CEF5551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4D5A9-A621-4C46-862C-70D96571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2BD25-DB99-4C9A-A149-D97B0AB5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E17E7-A8D7-42A4-BA90-6A14F8EC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79FF6-72B6-47F7-BA63-2E1A4802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3BBD6-7011-4C14-9482-5DC14A34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6665-381C-4AE0-B291-BA2FBAA8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60360-1CCC-4849-AC79-6531E23D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71BDA-664C-4EAB-A2DB-D4BFD227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33402-18F9-42B7-8BF9-962D1036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8C909-486E-4C55-ABF6-80F76E10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FCF3F-21A7-4DEF-934E-1F48FB41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F9E3E-E99E-46D0-A369-E62315AF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CF101-F1FE-4E1E-A471-C826D828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A99CA-1EE7-4319-86D4-01E8F5C8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0F714-44B0-422C-96CF-F60ACB83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515B3-2AF9-4CB8-BB51-1ED87EC1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6DCE-985B-4C9E-A14C-42AD89BD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932B9-E6C0-4771-BF12-B75C8217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117D6-CF1A-484A-8BCC-853FEE0D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5013D-71DF-412E-9ABC-C2772C39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0C64A-2903-43A9-A14C-2CA2096A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1E278-9622-4D96-AE38-0EF0ADA6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A925F-FD46-48F7-B9F3-9E880857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70044-1A65-47DA-B20C-9E8C4D3C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63187-66AD-4528-8BA0-58C02A7E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95E77-66B1-4610-AC37-214502B0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41BD2-DD71-45EE-BC3B-43E5D547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B413-CC3A-48CA-928C-33802940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F9E8B-D16F-416D-B558-5FD52926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4448-1477-4924-8397-6D157AFF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978B-96C1-4226-92BE-B9930ADE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2751-B443-4FEC-869B-4FDF14D2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8AB8-05F2-4AAB-802D-1720878A180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2CC4-7FA7-4A31-8BA9-534DFCCEC69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7D12-BBB4-4568-9681-55364EF5505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1864-35AE-492D-A8DB-913C21B8E92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3B82-8F7E-4A76-8756-7029BFF8C76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426960" y="1268280"/>
            <a:ext cx="8290080" cy="55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82440" y="231840"/>
            <a:ext cx="755028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210960" y="4221000"/>
            <a:ext cx="3784680" cy="2448000"/>
            <a:chOff x="210960" y="4221000"/>
            <a:chExt cx="3784680" cy="2448000"/>
          </a:xfrm>
        </p:grpSpPr>
        <p:sp>
          <p:nvSpPr>
            <p:cNvPr id="292" name="Rectangle 1"/>
            <p:cNvSpPr/>
            <p:nvPr/>
          </p:nvSpPr>
          <p:spPr>
            <a:xfrm>
              <a:off x="210960" y="4221000"/>
              <a:ext cx="3784680" cy="244800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Rectangle 2"/>
            <p:cNvSpPr/>
            <p:nvPr/>
          </p:nvSpPr>
          <p:spPr>
            <a:xfrm>
              <a:off x="210960" y="4221000"/>
              <a:ext cx="3784680" cy="81612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Rectangle 5"/>
            <p:cNvSpPr/>
            <p:nvPr/>
          </p:nvSpPr>
          <p:spPr>
            <a:xfrm>
              <a:off x="210960" y="5852880"/>
              <a:ext cx="3784680" cy="81612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Flowchart: Delay 3"/>
            <p:cNvSpPr/>
            <p:nvPr/>
          </p:nvSpPr>
          <p:spPr>
            <a:xfrm rot="5400000">
              <a:off x="1482120" y="4968720"/>
              <a:ext cx="1241640" cy="1022400"/>
            </a:xfrm>
            <a:prstGeom prst="flowChartDelay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6" name="TextBox 4"/>
          <p:cNvSpPr/>
          <p:nvPr/>
        </p:nvSpPr>
        <p:spPr>
          <a:xfrm>
            <a:off x="179280" y="1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1309680" y="23760"/>
            <a:ext cx="470232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9" name="Group 6"/>
          <p:cNvGrpSpPr/>
          <p:nvPr/>
        </p:nvGrpSpPr>
        <p:grpSpPr>
          <a:xfrm>
            <a:off x="210960" y="4221000"/>
            <a:ext cx="3784680" cy="2448000"/>
            <a:chOff x="210960" y="4221000"/>
            <a:chExt cx="3784680" cy="2448000"/>
          </a:xfrm>
        </p:grpSpPr>
        <p:sp>
          <p:nvSpPr>
            <p:cNvPr id="300" name="Rectangle 1"/>
            <p:cNvSpPr/>
            <p:nvPr/>
          </p:nvSpPr>
          <p:spPr>
            <a:xfrm>
              <a:off x="210960" y="4221000"/>
              <a:ext cx="3784680" cy="244800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Rectangle 2"/>
            <p:cNvSpPr/>
            <p:nvPr/>
          </p:nvSpPr>
          <p:spPr>
            <a:xfrm>
              <a:off x="210960" y="4221000"/>
              <a:ext cx="3784680" cy="81612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Rectangle 5"/>
            <p:cNvSpPr/>
            <p:nvPr/>
          </p:nvSpPr>
          <p:spPr>
            <a:xfrm>
              <a:off x="210960" y="5852880"/>
              <a:ext cx="3784680" cy="81612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Flowchart: Delay 3"/>
            <p:cNvSpPr/>
            <p:nvPr/>
          </p:nvSpPr>
          <p:spPr>
            <a:xfrm rot="5400000">
              <a:off x="1482120" y="4968720"/>
              <a:ext cx="1241640" cy="1022400"/>
            </a:xfrm>
            <a:prstGeom prst="flowChartDelay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4" name="TextBox 4"/>
          <p:cNvSpPr/>
          <p:nvPr/>
        </p:nvSpPr>
        <p:spPr>
          <a:xfrm>
            <a:off x="179280" y="1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1309680" y="23760"/>
            <a:ext cx="4702320" cy="4052880"/>
          </a:xfrm>
          <a:prstGeom prst="rect">
            <a:avLst/>
          </a:prstGeom>
          <a:ln w="0">
            <a:noFill/>
          </a:ln>
        </p:spPr>
      </p:pic>
      <p:sp>
        <p:nvSpPr>
          <p:cNvPr id="306" name="TextBox 11"/>
          <p:cNvSpPr/>
          <p:nvPr/>
        </p:nvSpPr>
        <p:spPr>
          <a:xfrm>
            <a:off x="4427640" y="4292640"/>
            <a:ext cx="439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i bandera tiene un escudo y tres franja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Box 4"/>
          <p:cNvSpPr/>
          <p:nvPr/>
        </p:nvSpPr>
        <p:spPr>
          <a:xfrm>
            <a:off x="179280" y="1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47600" y="4149720"/>
            <a:ext cx="3776760" cy="2592360"/>
            <a:chOff x="147600" y="4149720"/>
            <a:chExt cx="3776760" cy="2592360"/>
          </a:xfrm>
        </p:grpSpPr>
        <p:sp>
          <p:nvSpPr>
            <p:cNvPr id="310" name="Rectangle 1"/>
            <p:cNvSpPr/>
            <p:nvPr/>
          </p:nvSpPr>
          <p:spPr>
            <a:xfrm>
              <a:off x="147600" y="4149720"/>
              <a:ext cx="3776760" cy="257976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Rectangle 2"/>
            <p:cNvSpPr/>
            <p:nvPr/>
          </p:nvSpPr>
          <p:spPr>
            <a:xfrm>
              <a:off x="147600" y="4149720"/>
              <a:ext cx="3776760" cy="8604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Rectangle 5"/>
            <p:cNvSpPr/>
            <p:nvPr/>
          </p:nvSpPr>
          <p:spPr>
            <a:xfrm>
              <a:off x="147600" y="5016600"/>
              <a:ext cx="3776760" cy="858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147600" y="5883480"/>
              <a:ext cx="3776760" cy="85860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Cross 6"/>
            <p:cNvSpPr/>
            <p:nvPr/>
          </p:nvSpPr>
          <p:spPr>
            <a:xfrm>
              <a:off x="260280" y="5046480"/>
              <a:ext cx="869760" cy="804960"/>
            </a:xfrm>
            <a:prstGeom prst="plus">
              <a:avLst>
                <a:gd name="adj" fmla="val 37653"/>
              </a:avLst>
            </a:prstGeom>
            <a:solidFill>
              <a:srgbClr val="009900"/>
            </a:solidFill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1309680" y="23760"/>
            <a:ext cx="470232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Box 4"/>
          <p:cNvSpPr/>
          <p:nvPr/>
        </p:nvSpPr>
        <p:spPr>
          <a:xfrm>
            <a:off x="179280" y="1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147600" y="4149720"/>
            <a:ext cx="3776760" cy="2592360"/>
            <a:chOff x="147600" y="4149720"/>
            <a:chExt cx="3776760" cy="2592360"/>
          </a:xfrm>
        </p:grpSpPr>
        <p:sp>
          <p:nvSpPr>
            <p:cNvPr id="319" name="Rectangle 1"/>
            <p:cNvSpPr/>
            <p:nvPr/>
          </p:nvSpPr>
          <p:spPr>
            <a:xfrm>
              <a:off x="147600" y="4149720"/>
              <a:ext cx="3776760" cy="257976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" name="Rectangle 2"/>
            <p:cNvSpPr/>
            <p:nvPr/>
          </p:nvSpPr>
          <p:spPr>
            <a:xfrm>
              <a:off x="147600" y="4149720"/>
              <a:ext cx="3776760" cy="8604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" name="Rectangle 5"/>
            <p:cNvSpPr/>
            <p:nvPr/>
          </p:nvSpPr>
          <p:spPr>
            <a:xfrm>
              <a:off x="147600" y="5016600"/>
              <a:ext cx="3776760" cy="858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Rectangle 7"/>
            <p:cNvSpPr/>
            <p:nvPr/>
          </p:nvSpPr>
          <p:spPr>
            <a:xfrm>
              <a:off x="147600" y="5883480"/>
              <a:ext cx="3776760" cy="85860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Cross 6"/>
            <p:cNvSpPr/>
            <p:nvPr/>
          </p:nvSpPr>
          <p:spPr>
            <a:xfrm>
              <a:off x="260280" y="5046480"/>
              <a:ext cx="869760" cy="804960"/>
            </a:xfrm>
            <a:prstGeom prst="plus">
              <a:avLst>
                <a:gd name="adj" fmla="val 37653"/>
              </a:avLst>
            </a:prstGeom>
            <a:solidFill>
              <a:srgbClr val="009900"/>
            </a:solidFill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1309680" y="23760"/>
            <a:ext cx="4702320" cy="4052880"/>
          </a:xfrm>
          <a:prstGeom prst="rect">
            <a:avLst/>
          </a:prstGeom>
          <a:ln w="0">
            <a:noFill/>
          </a:ln>
        </p:spPr>
      </p:pic>
      <p:sp>
        <p:nvSpPr>
          <p:cNvPr id="325" name="TextBox 12"/>
          <p:cNvSpPr/>
          <p:nvPr/>
        </p:nvSpPr>
        <p:spPr>
          <a:xfrm>
            <a:off x="4427640" y="4292640"/>
            <a:ext cx="439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i bandera tiene una cruz y tres franja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179280" y="1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Group 5"/>
          <p:cNvGrpSpPr/>
          <p:nvPr/>
        </p:nvGrpSpPr>
        <p:grpSpPr>
          <a:xfrm>
            <a:off x="179280" y="4149720"/>
            <a:ext cx="3816360" cy="2592360"/>
            <a:chOff x="179280" y="4149720"/>
            <a:chExt cx="3816360" cy="2592360"/>
          </a:xfrm>
        </p:grpSpPr>
        <p:sp>
          <p:nvSpPr>
            <p:cNvPr id="329" name="Rectangle 1"/>
            <p:cNvSpPr/>
            <p:nvPr/>
          </p:nvSpPr>
          <p:spPr>
            <a:xfrm>
              <a:off x="179280" y="4149720"/>
              <a:ext cx="3816360" cy="257976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Rectangle 7"/>
            <p:cNvSpPr/>
            <p:nvPr/>
          </p:nvSpPr>
          <p:spPr>
            <a:xfrm>
              <a:off x="179280" y="5386320"/>
              <a:ext cx="3816360" cy="1355760"/>
            </a:xfrm>
            <a:prstGeom prst="rect">
              <a:avLst/>
            </a:prstGeom>
            <a:solidFill>
              <a:srgbClr val="ffffe9"/>
            </a:solidFill>
            <a:ln w="255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Rectangle 2"/>
            <p:cNvSpPr/>
            <p:nvPr/>
          </p:nvSpPr>
          <p:spPr>
            <a:xfrm>
              <a:off x="179280" y="4149720"/>
              <a:ext cx="3816360" cy="1308240"/>
            </a:xfrm>
            <a:prstGeom prst="rect">
              <a:avLst/>
            </a:prstGeom>
            <a:solidFill>
              <a:srgbClr val="009900"/>
            </a:solidFill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Oval 3"/>
            <p:cNvSpPr/>
            <p:nvPr/>
          </p:nvSpPr>
          <p:spPr>
            <a:xfrm>
              <a:off x="1114200" y="4459320"/>
              <a:ext cx="1870200" cy="1868400"/>
            </a:xfrm>
            <a:prstGeom prst="ellipse">
              <a:avLst/>
            </a:prstGeom>
            <a:solidFill>
              <a:srgbClr val="fffff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5-Point Star 8"/>
            <p:cNvSpPr/>
            <p:nvPr/>
          </p:nvSpPr>
          <p:spPr>
            <a:xfrm>
              <a:off x="1687320" y="4647960"/>
              <a:ext cx="725400" cy="672840"/>
            </a:xfrm>
            <a:custGeom>
              <a:avLst/>
              <a:gdLst/>
              <a:ahLst/>
              <a:rect l="l" t="t" r="r" b="b"/>
              <a:pathLst>
                <a:path w="1368889" h="1296737">
                  <a:moveTo>
                    <a:pt x="1" y="495308"/>
                  </a:moveTo>
                  <a:lnTo>
                    <a:pt x="522872" y="495312"/>
                  </a:lnTo>
                  <a:lnTo>
                    <a:pt x="684445" y="0"/>
                  </a:lnTo>
                  <a:lnTo>
                    <a:pt x="846017" y="495312"/>
                  </a:lnTo>
                  <a:lnTo>
                    <a:pt x="1368888" y="495308"/>
                  </a:lnTo>
                  <a:lnTo>
                    <a:pt x="945874" y="801424"/>
                  </a:lnTo>
                  <a:lnTo>
                    <a:pt x="1107454" y="1296734"/>
                  </a:lnTo>
                  <a:lnTo>
                    <a:pt x="684445" y="990612"/>
                  </a:lnTo>
                  <a:lnTo>
                    <a:pt x="261435" y="1296734"/>
                  </a:lnTo>
                  <a:lnTo>
                    <a:pt x="423015" y="801424"/>
                  </a:lnTo>
                  <a:lnTo>
                    <a:pt x="1" y="495308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5-Point Star 10"/>
            <p:cNvSpPr/>
            <p:nvPr/>
          </p:nvSpPr>
          <p:spPr>
            <a:xfrm>
              <a:off x="1687320" y="5394240"/>
              <a:ext cx="725400" cy="672840"/>
            </a:xfrm>
            <a:custGeom>
              <a:avLst/>
              <a:gdLst/>
              <a:ahLst/>
              <a:rect l="l" t="t" r="r" b="b"/>
              <a:pathLst>
                <a:path w="1368889" h="1296737">
                  <a:moveTo>
                    <a:pt x="1" y="495308"/>
                  </a:moveTo>
                  <a:lnTo>
                    <a:pt x="522872" y="495312"/>
                  </a:lnTo>
                  <a:lnTo>
                    <a:pt x="684445" y="0"/>
                  </a:lnTo>
                  <a:lnTo>
                    <a:pt x="846017" y="495312"/>
                  </a:lnTo>
                  <a:lnTo>
                    <a:pt x="1368888" y="495308"/>
                  </a:lnTo>
                  <a:lnTo>
                    <a:pt x="945874" y="801424"/>
                  </a:lnTo>
                  <a:lnTo>
                    <a:pt x="1107454" y="1296734"/>
                  </a:lnTo>
                  <a:lnTo>
                    <a:pt x="684445" y="990612"/>
                  </a:lnTo>
                  <a:lnTo>
                    <a:pt x="261435" y="1296734"/>
                  </a:lnTo>
                  <a:lnTo>
                    <a:pt x="423015" y="801424"/>
                  </a:lnTo>
                  <a:lnTo>
                    <a:pt x="1" y="495308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1309680" y="23760"/>
            <a:ext cx="470232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Box 4"/>
          <p:cNvSpPr/>
          <p:nvPr/>
        </p:nvSpPr>
        <p:spPr>
          <a:xfrm>
            <a:off x="179280" y="1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8" name="Group 5"/>
          <p:cNvGrpSpPr/>
          <p:nvPr/>
        </p:nvGrpSpPr>
        <p:grpSpPr>
          <a:xfrm>
            <a:off x="179280" y="4149720"/>
            <a:ext cx="3816360" cy="2592360"/>
            <a:chOff x="179280" y="4149720"/>
            <a:chExt cx="3816360" cy="2592360"/>
          </a:xfrm>
        </p:grpSpPr>
        <p:sp>
          <p:nvSpPr>
            <p:cNvPr id="339" name="Rectangle 1"/>
            <p:cNvSpPr/>
            <p:nvPr/>
          </p:nvSpPr>
          <p:spPr>
            <a:xfrm>
              <a:off x="179280" y="4149720"/>
              <a:ext cx="3816360" cy="257976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179280" y="5386320"/>
              <a:ext cx="3816360" cy="1355760"/>
            </a:xfrm>
            <a:prstGeom prst="rect">
              <a:avLst/>
            </a:prstGeom>
            <a:solidFill>
              <a:srgbClr val="ffffe9"/>
            </a:solidFill>
            <a:ln w="255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Rectangle 2"/>
            <p:cNvSpPr/>
            <p:nvPr/>
          </p:nvSpPr>
          <p:spPr>
            <a:xfrm>
              <a:off x="179280" y="4149720"/>
              <a:ext cx="3816360" cy="1308240"/>
            </a:xfrm>
            <a:prstGeom prst="rect">
              <a:avLst/>
            </a:prstGeom>
            <a:solidFill>
              <a:srgbClr val="009900"/>
            </a:solidFill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Oval 3"/>
            <p:cNvSpPr/>
            <p:nvPr/>
          </p:nvSpPr>
          <p:spPr>
            <a:xfrm>
              <a:off x="1114200" y="4459320"/>
              <a:ext cx="1870200" cy="1868400"/>
            </a:xfrm>
            <a:prstGeom prst="ellipse">
              <a:avLst/>
            </a:prstGeom>
            <a:solidFill>
              <a:srgbClr val="fffff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5-Point Star 8"/>
            <p:cNvSpPr/>
            <p:nvPr/>
          </p:nvSpPr>
          <p:spPr>
            <a:xfrm>
              <a:off x="1687320" y="4647960"/>
              <a:ext cx="725400" cy="672840"/>
            </a:xfrm>
            <a:custGeom>
              <a:avLst/>
              <a:gdLst/>
              <a:ahLst/>
              <a:rect l="l" t="t" r="r" b="b"/>
              <a:pathLst>
                <a:path w="1368889" h="1296737">
                  <a:moveTo>
                    <a:pt x="1" y="495308"/>
                  </a:moveTo>
                  <a:lnTo>
                    <a:pt x="522872" y="495312"/>
                  </a:lnTo>
                  <a:lnTo>
                    <a:pt x="684445" y="0"/>
                  </a:lnTo>
                  <a:lnTo>
                    <a:pt x="846017" y="495312"/>
                  </a:lnTo>
                  <a:lnTo>
                    <a:pt x="1368888" y="495308"/>
                  </a:lnTo>
                  <a:lnTo>
                    <a:pt x="945874" y="801424"/>
                  </a:lnTo>
                  <a:lnTo>
                    <a:pt x="1107454" y="1296734"/>
                  </a:lnTo>
                  <a:lnTo>
                    <a:pt x="684445" y="990612"/>
                  </a:lnTo>
                  <a:lnTo>
                    <a:pt x="261435" y="1296734"/>
                  </a:lnTo>
                  <a:lnTo>
                    <a:pt x="423015" y="801424"/>
                  </a:lnTo>
                  <a:lnTo>
                    <a:pt x="1" y="495308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5-Point Star 10"/>
            <p:cNvSpPr/>
            <p:nvPr/>
          </p:nvSpPr>
          <p:spPr>
            <a:xfrm>
              <a:off x="1687320" y="5394240"/>
              <a:ext cx="725400" cy="672840"/>
            </a:xfrm>
            <a:custGeom>
              <a:avLst/>
              <a:gdLst/>
              <a:ahLst/>
              <a:rect l="l" t="t" r="r" b="b"/>
              <a:pathLst>
                <a:path w="1368889" h="1296737">
                  <a:moveTo>
                    <a:pt x="1" y="495308"/>
                  </a:moveTo>
                  <a:lnTo>
                    <a:pt x="522872" y="495312"/>
                  </a:lnTo>
                  <a:lnTo>
                    <a:pt x="684445" y="0"/>
                  </a:lnTo>
                  <a:lnTo>
                    <a:pt x="846017" y="495312"/>
                  </a:lnTo>
                  <a:lnTo>
                    <a:pt x="1368888" y="495308"/>
                  </a:lnTo>
                  <a:lnTo>
                    <a:pt x="945874" y="801424"/>
                  </a:lnTo>
                  <a:lnTo>
                    <a:pt x="1107454" y="1296734"/>
                  </a:lnTo>
                  <a:lnTo>
                    <a:pt x="684445" y="990612"/>
                  </a:lnTo>
                  <a:lnTo>
                    <a:pt x="261435" y="1296734"/>
                  </a:lnTo>
                  <a:lnTo>
                    <a:pt x="423015" y="801424"/>
                  </a:lnTo>
                  <a:lnTo>
                    <a:pt x="1" y="495308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1309680" y="23760"/>
            <a:ext cx="4702320" cy="4052880"/>
          </a:xfrm>
          <a:prstGeom prst="rect">
            <a:avLst/>
          </a:prstGeom>
          <a:ln w="0">
            <a:noFill/>
          </a:ln>
        </p:spPr>
      </p:pic>
      <p:sp>
        <p:nvSpPr>
          <p:cNvPr id="346" name="TextBox 14"/>
          <p:cNvSpPr/>
          <p:nvPr/>
        </p:nvSpPr>
        <p:spPr>
          <a:xfrm>
            <a:off x="4427640" y="4292640"/>
            <a:ext cx="439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i bandera tiene un círculo y dos estrella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TextBox 4"/>
          <p:cNvSpPr/>
          <p:nvPr/>
        </p:nvSpPr>
        <p:spPr>
          <a:xfrm>
            <a:off x="179280" y="1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152280" y="4221000"/>
            <a:ext cx="1789200" cy="254808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1871640" y="4221000"/>
            <a:ext cx="1789200" cy="25480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Cross 12"/>
          <p:cNvSpPr/>
          <p:nvPr/>
        </p:nvSpPr>
        <p:spPr>
          <a:xfrm>
            <a:off x="1468440" y="4591080"/>
            <a:ext cx="806400" cy="793800"/>
          </a:xfrm>
          <a:prstGeom prst="plus">
            <a:avLst>
              <a:gd name="adj" fmla="val 3765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Oval 6"/>
          <p:cNvSpPr/>
          <p:nvPr/>
        </p:nvSpPr>
        <p:spPr>
          <a:xfrm>
            <a:off x="1414440" y="5549760"/>
            <a:ext cx="912960" cy="851040"/>
          </a:xfrm>
          <a:prstGeom prst="ellipse">
            <a:avLst/>
          </a:prstGeom>
          <a:solidFill>
            <a:srgbClr val="ffff09"/>
          </a:solidFill>
          <a:ln w="25560">
            <a:solidFill>
              <a:srgbClr val="fff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309680" y="23760"/>
            <a:ext cx="470232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Box 4"/>
          <p:cNvSpPr/>
          <p:nvPr/>
        </p:nvSpPr>
        <p:spPr>
          <a:xfrm>
            <a:off x="179280" y="1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152280" y="4221000"/>
            <a:ext cx="1789200" cy="254808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Rectangle 11"/>
          <p:cNvSpPr/>
          <p:nvPr/>
        </p:nvSpPr>
        <p:spPr>
          <a:xfrm>
            <a:off x="1871640" y="4221000"/>
            <a:ext cx="1789200" cy="25480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Cross 12"/>
          <p:cNvSpPr/>
          <p:nvPr/>
        </p:nvSpPr>
        <p:spPr>
          <a:xfrm>
            <a:off x="1468440" y="4591080"/>
            <a:ext cx="806400" cy="793800"/>
          </a:xfrm>
          <a:prstGeom prst="plus">
            <a:avLst>
              <a:gd name="adj" fmla="val 3765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Oval 6"/>
          <p:cNvSpPr/>
          <p:nvPr/>
        </p:nvSpPr>
        <p:spPr>
          <a:xfrm>
            <a:off x="1414440" y="5549760"/>
            <a:ext cx="912960" cy="851040"/>
          </a:xfrm>
          <a:prstGeom prst="ellipse">
            <a:avLst/>
          </a:prstGeom>
          <a:solidFill>
            <a:srgbClr val="ffff09"/>
          </a:solidFill>
          <a:ln w="25560">
            <a:solidFill>
              <a:srgbClr val="fff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1309680" y="23760"/>
            <a:ext cx="4702320" cy="4052880"/>
          </a:xfrm>
          <a:prstGeom prst="rect">
            <a:avLst/>
          </a:prstGeom>
          <a:ln w="0">
            <a:noFill/>
          </a:ln>
        </p:spPr>
      </p:pic>
      <p:sp>
        <p:nvSpPr>
          <p:cNvPr id="361" name="TextBox 14"/>
          <p:cNvSpPr/>
          <p:nvPr/>
        </p:nvSpPr>
        <p:spPr>
          <a:xfrm>
            <a:off x="4427640" y="4292640"/>
            <a:ext cx="439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i bandera tiene una cruz y un círcul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TextBox 14"/>
          <p:cNvSpPr/>
          <p:nvPr/>
        </p:nvSpPr>
        <p:spPr>
          <a:xfrm>
            <a:off x="2376360" y="147600"/>
            <a:ext cx="66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i bandera es azul, blanca, verde y negra.  Mi bandera tiene un escudo y tres franj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64" name="Group 10"/>
          <p:cNvGrpSpPr/>
          <p:nvPr/>
        </p:nvGrpSpPr>
        <p:grpSpPr>
          <a:xfrm>
            <a:off x="179280" y="165240"/>
            <a:ext cx="2016360" cy="1360440"/>
            <a:chOff x="179280" y="165240"/>
            <a:chExt cx="2016360" cy="1360440"/>
          </a:xfrm>
        </p:grpSpPr>
        <p:sp>
          <p:nvSpPr>
            <p:cNvPr id="365" name="Rectangle 15"/>
            <p:cNvSpPr/>
            <p:nvPr/>
          </p:nvSpPr>
          <p:spPr>
            <a:xfrm>
              <a:off x="179280" y="165240"/>
              <a:ext cx="2016360" cy="136044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Rectangle 16"/>
            <p:cNvSpPr/>
            <p:nvPr/>
          </p:nvSpPr>
          <p:spPr>
            <a:xfrm>
              <a:off x="179280" y="165240"/>
              <a:ext cx="2016360" cy="45396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Rectangle 17"/>
            <p:cNvSpPr/>
            <p:nvPr/>
          </p:nvSpPr>
          <p:spPr>
            <a:xfrm>
              <a:off x="179280" y="1071720"/>
              <a:ext cx="2016360" cy="45396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Flowchart: Delay 18"/>
            <p:cNvSpPr/>
            <p:nvPr/>
          </p:nvSpPr>
          <p:spPr>
            <a:xfrm rot="5400000">
              <a:off x="842760" y="592200"/>
              <a:ext cx="690480" cy="544320"/>
            </a:xfrm>
            <a:prstGeom prst="flowChartDelay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69" name="Group 19"/>
          <p:cNvGrpSpPr/>
          <p:nvPr/>
        </p:nvGrpSpPr>
        <p:grpSpPr>
          <a:xfrm>
            <a:off x="179280" y="3446640"/>
            <a:ext cx="2016360" cy="1444320"/>
            <a:chOff x="179280" y="3446640"/>
            <a:chExt cx="2016360" cy="1444320"/>
          </a:xfrm>
        </p:grpSpPr>
        <p:sp>
          <p:nvSpPr>
            <p:cNvPr id="370" name="Rectangle 20"/>
            <p:cNvSpPr/>
            <p:nvPr/>
          </p:nvSpPr>
          <p:spPr>
            <a:xfrm>
              <a:off x="179280" y="3446640"/>
              <a:ext cx="2016360" cy="143640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Rectangle 21"/>
            <p:cNvSpPr/>
            <p:nvPr/>
          </p:nvSpPr>
          <p:spPr>
            <a:xfrm>
              <a:off x="179280" y="4135320"/>
              <a:ext cx="2016360" cy="755640"/>
            </a:xfrm>
            <a:prstGeom prst="rect">
              <a:avLst/>
            </a:prstGeom>
            <a:solidFill>
              <a:srgbClr val="ffffe9"/>
            </a:solidFill>
            <a:ln w="255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Rectangle 22"/>
            <p:cNvSpPr/>
            <p:nvPr/>
          </p:nvSpPr>
          <p:spPr>
            <a:xfrm>
              <a:off x="179280" y="3446640"/>
              <a:ext cx="2016360" cy="728640"/>
            </a:xfrm>
            <a:prstGeom prst="rect">
              <a:avLst/>
            </a:prstGeom>
            <a:solidFill>
              <a:srgbClr val="009900"/>
            </a:solidFill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Oval 23"/>
            <p:cNvSpPr/>
            <p:nvPr/>
          </p:nvSpPr>
          <p:spPr>
            <a:xfrm>
              <a:off x="672840" y="3618000"/>
              <a:ext cx="987480" cy="1042920"/>
            </a:xfrm>
            <a:prstGeom prst="ellipse">
              <a:avLst/>
            </a:prstGeom>
            <a:solidFill>
              <a:srgbClr val="fffff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5-Point Star 24"/>
            <p:cNvSpPr/>
            <p:nvPr/>
          </p:nvSpPr>
          <p:spPr>
            <a:xfrm>
              <a:off x="976320" y="3724200"/>
              <a:ext cx="382680" cy="374400"/>
            </a:xfrm>
            <a:custGeom>
              <a:avLst/>
              <a:gdLst/>
              <a:ahLst/>
              <a:rect l="l" t="t" r="r" b="b"/>
              <a:pathLst>
                <a:path w="1366468" h="1295219">
                  <a:moveTo>
                    <a:pt x="1" y="494728"/>
                  </a:moveTo>
                  <a:lnTo>
                    <a:pt x="521947" y="494732"/>
                  </a:lnTo>
                  <a:lnTo>
                    <a:pt x="683234" y="0"/>
                  </a:lnTo>
                  <a:lnTo>
                    <a:pt x="844521" y="494732"/>
                  </a:lnTo>
                  <a:lnTo>
                    <a:pt x="1366467" y="494728"/>
                  </a:lnTo>
                  <a:lnTo>
                    <a:pt x="944202" y="800486"/>
                  </a:lnTo>
                  <a:lnTo>
                    <a:pt x="1105495" y="1295216"/>
                  </a:lnTo>
                  <a:lnTo>
                    <a:pt x="683234" y="989452"/>
                  </a:lnTo>
                  <a:lnTo>
                    <a:pt x="260973" y="1295216"/>
                  </a:lnTo>
                  <a:lnTo>
                    <a:pt x="422266" y="800486"/>
                  </a:lnTo>
                  <a:lnTo>
                    <a:pt x="1" y="494728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5-Point Star 25"/>
            <p:cNvSpPr/>
            <p:nvPr/>
          </p:nvSpPr>
          <p:spPr>
            <a:xfrm>
              <a:off x="976320" y="4140360"/>
              <a:ext cx="382680" cy="374400"/>
            </a:xfrm>
            <a:custGeom>
              <a:avLst/>
              <a:gdLst/>
              <a:ahLst/>
              <a:rect l="l" t="t" r="r" b="b"/>
              <a:pathLst>
                <a:path w="1366468" h="1295219">
                  <a:moveTo>
                    <a:pt x="1" y="494728"/>
                  </a:moveTo>
                  <a:lnTo>
                    <a:pt x="521947" y="494732"/>
                  </a:lnTo>
                  <a:lnTo>
                    <a:pt x="683234" y="0"/>
                  </a:lnTo>
                  <a:lnTo>
                    <a:pt x="844521" y="494732"/>
                  </a:lnTo>
                  <a:lnTo>
                    <a:pt x="1366467" y="494728"/>
                  </a:lnTo>
                  <a:lnTo>
                    <a:pt x="944202" y="800486"/>
                  </a:lnTo>
                  <a:lnTo>
                    <a:pt x="1105495" y="1295216"/>
                  </a:lnTo>
                  <a:lnTo>
                    <a:pt x="683234" y="989452"/>
                  </a:lnTo>
                  <a:lnTo>
                    <a:pt x="260973" y="1295216"/>
                  </a:lnTo>
                  <a:lnTo>
                    <a:pt x="422266" y="800486"/>
                  </a:lnTo>
                  <a:lnTo>
                    <a:pt x="1" y="494728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76" name="Group 26"/>
          <p:cNvGrpSpPr/>
          <p:nvPr/>
        </p:nvGrpSpPr>
        <p:grpSpPr>
          <a:xfrm>
            <a:off x="179280" y="1779480"/>
            <a:ext cx="2009880" cy="1413000"/>
            <a:chOff x="179280" y="1779480"/>
            <a:chExt cx="2009880" cy="1413000"/>
          </a:xfrm>
        </p:grpSpPr>
        <p:sp>
          <p:nvSpPr>
            <p:cNvPr id="377" name="Rectangle 27"/>
            <p:cNvSpPr/>
            <p:nvPr/>
          </p:nvSpPr>
          <p:spPr>
            <a:xfrm>
              <a:off x="179280" y="1779480"/>
              <a:ext cx="2009880" cy="14050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Rectangle 28"/>
            <p:cNvSpPr/>
            <p:nvPr/>
          </p:nvSpPr>
          <p:spPr>
            <a:xfrm>
              <a:off x="179280" y="1779480"/>
              <a:ext cx="2009880" cy="4683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Rectangle 29"/>
            <p:cNvSpPr/>
            <p:nvPr/>
          </p:nvSpPr>
          <p:spPr>
            <a:xfrm>
              <a:off x="179280" y="2252520"/>
              <a:ext cx="2009880" cy="4683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Rectangle 30"/>
            <p:cNvSpPr/>
            <p:nvPr/>
          </p:nvSpPr>
          <p:spPr>
            <a:xfrm>
              <a:off x="179280" y="2724120"/>
              <a:ext cx="2009880" cy="46836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Cross 31"/>
            <p:cNvSpPr/>
            <p:nvPr/>
          </p:nvSpPr>
          <p:spPr>
            <a:xfrm>
              <a:off x="239400" y="2268360"/>
              <a:ext cx="461880" cy="438120"/>
            </a:xfrm>
            <a:prstGeom prst="plus">
              <a:avLst>
                <a:gd name="adj" fmla="val 37653"/>
              </a:avLst>
            </a:prstGeom>
            <a:solidFill>
              <a:srgbClr val="009900"/>
            </a:solidFill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2" name="Rectangle 33"/>
          <p:cNvSpPr/>
          <p:nvPr/>
        </p:nvSpPr>
        <p:spPr>
          <a:xfrm>
            <a:off x="179280" y="5145120"/>
            <a:ext cx="1042920" cy="152244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Rectangle 34"/>
          <p:cNvSpPr/>
          <p:nvPr/>
        </p:nvSpPr>
        <p:spPr>
          <a:xfrm>
            <a:off x="1181160" y="5145120"/>
            <a:ext cx="1041480" cy="152244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Cross 35"/>
          <p:cNvSpPr/>
          <p:nvPr/>
        </p:nvSpPr>
        <p:spPr>
          <a:xfrm>
            <a:off x="946080" y="5365800"/>
            <a:ext cx="469800" cy="474480"/>
          </a:xfrm>
          <a:prstGeom prst="plus">
            <a:avLst>
              <a:gd name="adj" fmla="val 3765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Oval 36"/>
          <p:cNvSpPr/>
          <p:nvPr/>
        </p:nvSpPr>
        <p:spPr>
          <a:xfrm>
            <a:off x="914400" y="5938920"/>
            <a:ext cx="531720" cy="507960"/>
          </a:xfrm>
          <a:prstGeom prst="ellipse">
            <a:avLst/>
          </a:prstGeom>
          <a:solidFill>
            <a:srgbClr val="ffff09"/>
          </a:solidFill>
          <a:ln w="25560">
            <a:solidFill>
              <a:srgbClr val="fff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Box 37"/>
          <p:cNvSpPr/>
          <p:nvPr/>
        </p:nvSpPr>
        <p:spPr>
          <a:xfrm>
            <a:off x="2376360" y="1806480"/>
            <a:ext cx="66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i bandera es roja, amarilla, azul y verde.  Mi bandera tiene una cruz y tres franj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Box 38"/>
          <p:cNvSpPr/>
          <p:nvPr/>
        </p:nvSpPr>
        <p:spPr>
          <a:xfrm>
            <a:off x="2376360" y="3449520"/>
            <a:ext cx="66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i bandera es verde y blanca. 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i bandera tiene un círculo y dos estrell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Box 39"/>
          <p:cNvSpPr/>
          <p:nvPr/>
        </p:nvSpPr>
        <p:spPr>
          <a:xfrm>
            <a:off x="2376360" y="5216400"/>
            <a:ext cx="66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i bandera es naranja, roja, negra y amarilla.  Mi bandera tiene una cruz y un círcul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5" name="Group 6"/>
          <p:cNvGrpSpPr/>
          <p:nvPr/>
        </p:nvGrpSpPr>
        <p:grpSpPr>
          <a:xfrm>
            <a:off x="210960" y="3500280"/>
            <a:ext cx="4721400" cy="3168720"/>
            <a:chOff x="210960" y="3500280"/>
            <a:chExt cx="4721400" cy="3168720"/>
          </a:xfrm>
        </p:grpSpPr>
        <p:sp>
          <p:nvSpPr>
            <p:cNvPr id="216" name="Rectangle 1"/>
            <p:cNvSpPr/>
            <p:nvPr/>
          </p:nvSpPr>
          <p:spPr>
            <a:xfrm>
              <a:off x="210960" y="3500280"/>
              <a:ext cx="4721400" cy="316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Rectangle 2"/>
            <p:cNvSpPr/>
            <p:nvPr/>
          </p:nvSpPr>
          <p:spPr>
            <a:xfrm>
              <a:off x="210960" y="3500280"/>
              <a:ext cx="4721400" cy="105732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Rectangle 5"/>
            <p:cNvSpPr/>
            <p:nvPr/>
          </p:nvSpPr>
          <p:spPr>
            <a:xfrm>
              <a:off x="210960" y="5613480"/>
              <a:ext cx="4721400" cy="105552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Flowchart: Delay 3"/>
            <p:cNvSpPr/>
            <p:nvPr/>
          </p:nvSpPr>
          <p:spPr>
            <a:xfrm rot="5400000">
              <a:off x="1767960" y="4492440"/>
              <a:ext cx="1608120" cy="1274760"/>
            </a:xfrm>
            <a:prstGeom prst="flowChartDelay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0" name="TextBox 4"/>
          <p:cNvSpPr/>
          <p:nvPr/>
        </p:nvSpPr>
        <p:spPr>
          <a:xfrm>
            <a:off x="179280" y="1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489744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3" name="Group 6"/>
          <p:cNvGrpSpPr/>
          <p:nvPr/>
        </p:nvGrpSpPr>
        <p:grpSpPr>
          <a:xfrm>
            <a:off x="210960" y="3500280"/>
            <a:ext cx="4721400" cy="3168720"/>
            <a:chOff x="210960" y="3500280"/>
            <a:chExt cx="4721400" cy="3168720"/>
          </a:xfrm>
        </p:grpSpPr>
        <p:sp>
          <p:nvSpPr>
            <p:cNvPr id="224" name="Rectangle 1"/>
            <p:cNvSpPr/>
            <p:nvPr/>
          </p:nvSpPr>
          <p:spPr>
            <a:xfrm>
              <a:off x="210960" y="3500280"/>
              <a:ext cx="4721400" cy="316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Rectangle 2"/>
            <p:cNvSpPr/>
            <p:nvPr/>
          </p:nvSpPr>
          <p:spPr>
            <a:xfrm>
              <a:off x="210960" y="3500280"/>
              <a:ext cx="4721400" cy="105732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Rectangle 5"/>
            <p:cNvSpPr/>
            <p:nvPr/>
          </p:nvSpPr>
          <p:spPr>
            <a:xfrm>
              <a:off x="210960" y="5613480"/>
              <a:ext cx="4721400" cy="105552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Flowchart: Delay 3"/>
            <p:cNvSpPr/>
            <p:nvPr/>
          </p:nvSpPr>
          <p:spPr>
            <a:xfrm rot="5400000">
              <a:off x="1767960" y="4492440"/>
              <a:ext cx="1608120" cy="1274760"/>
            </a:xfrm>
            <a:prstGeom prst="flowChartDelay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8" name="TextBox 4"/>
          <p:cNvSpPr/>
          <p:nvPr/>
        </p:nvSpPr>
        <p:spPr>
          <a:xfrm>
            <a:off x="179280" y="1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4897440" cy="3254400"/>
          </a:xfrm>
          <a:prstGeom prst="rect">
            <a:avLst/>
          </a:prstGeom>
          <a:ln w="0">
            <a:noFill/>
          </a:ln>
        </p:spPr>
      </p:pic>
      <p:sp>
        <p:nvSpPr>
          <p:cNvPr id="230" name="TextBox 7"/>
          <p:cNvSpPr/>
          <p:nvPr/>
        </p:nvSpPr>
        <p:spPr>
          <a:xfrm>
            <a:off x="5092560" y="3716280"/>
            <a:ext cx="39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i bandera es azul, blanca, verde y negr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179280" y="1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147600" y="3573360"/>
            <a:ext cx="4424400" cy="3168720"/>
            <a:chOff x="147600" y="3573360"/>
            <a:chExt cx="4424400" cy="3168720"/>
          </a:xfrm>
        </p:grpSpPr>
        <p:sp>
          <p:nvSpPr>
            <p:cNvPr id="234" name="Rectangle 1"/>
            <p:cNvSpPr/>
            <p:nvPr/>
          </p:nvSpPr>
          <p:spPr>
            <a:xfrm>
              <a:off x="147600" y="3573360"/>
              <a:ext cx="4424400" cy="31528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Rectangle 2"/>
            <p:cNvSpPr/>
            <p:nvPr/>
          </p:nvSpPr>
          <p:spPr>
            <a:xfrm>
              <a:off x="147600" y="3573360"/>
              <a:ext cx="4424400" cy="10508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Rectangle 5"/>
            <p:cNvSpPr/>
            <p:nvPr/>
          </p:nvSpPr>
          <p:spPr>
            <a:xfrm>
              <a:off x="147600" y="4632120"/>
              <a:ext cx="4424400" cy="10508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>
              <a:off x="147600" y="5691240"/>
              <a:ext cx="4424400" cy="105084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Cross 6"/>
            <p:cNvSpPr/>
            <p:nvPr/>
          </p:nvSpPr>
          <p:spPr>
            <a:xfrm>
              <a:off x="280800" y="4670280"/>
              <a:ext cx="1017360" cy="982440"/>
            </a:xfrm>
            <a:prstGeom prst="plus">
              <a:avLst>
                <a:gd name="adj" fmla="val 37653"/>
              </a:avLst>
            </a:prstGeom>
            <a:solidFill>
              <a:srgbClr val="009900"/>
            </a:solidFill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489744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Box 4"/>
          <p:cNvSpPr/>
          <p:nvPr/>
        </p:nvSpPr>
        <p:spPr>
          <a:xfrm>
            <a:off x="179280" y="1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2" name="Group 3"/>
          <p:cNvGrpSpPr/>
          <p:nvPr/>
        </p:nvGrpSpPr>
        <p:grpSpPr>
          <a:xfrm>
            <a:off x="147600" y="3573360"/>
            <a:ext cx="4424400" cy="3168720"/>
            <a:chOff x="147600" y="3573360"/>
            <a:chExt cx="4424400" cy="3168720"/>
          </a:xfrm>
        </p:grpSpPr>
        <p:sp>
          <p:nvSpPr>
            <p:cNvPr id="243" name="Rectangle 1"/>
            <p:cNvSpPr/>
            <p:nvPr/>
          </p:nvSpPr>
          <p:spPr>
            <a:xfrm>
              <a:off x="147600" y="3573360"/>
              <a:ext cx="4424400" cy="31528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Rectangle 2"/>
            <p:cNvSpPr/>
            <p:nvPr/>
          </p:nvSpPr>
          <p:spPr>
            <a:xfrm>
              <a:off x="147600" y="3573360"/>
              <a:ext cx="4424400" cy="10508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Rectangle 5"/>
            <p:cNvSpPr/>
            <p:nvPr/>
          </p:nvSpPr>
          <p:spPr>
            <a:xfrm>
              <a:off x="147600" y="4632120"/>
              <a:ext cx="4424400" cy="10508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147600" y="5691240"/>
              <a:ext cx="4424400" cy="105084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Cross 6"/>
            <p:cNvSpPr/>
            <p:nvPr/>
          </p:nvSpPr>
          <p:spPr>
            <a:xfrm>
              <a:off x="280800" y="4670280"/>
              <a:ext cx="1017360" cy="982440"/>
            </a:xfrm>
            <a:prstGeom prst="plus">
              <a:avLst>
                <a:gd name="adj" fmla="val 37653"/>
              </a:avLst>
            </a:prstGeom>
            <a:solidFill>
              <a:srgbClr val="009900"/>
            </a:solidFill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4897440" cy="32544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11"/>
          <p:cNvSpPr/>
          <p:nvPr/>
        </p:nvSpPr>
        <p:spPr>
          <a:xfrm>
            <a:off x="5092560" y="3716280"/>
            <a:ext cx="39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i bandera es roja, amarilla, azul y verd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179280" y="1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179280" y="3573360"/>
            <a:ext cx="4608720" cy="3206880"/>
            <a:chOff x="179280" y="3573360"/>
            <a:chExt cx="4608720" cy="3206880"/>
          </a:xfrm>
        </p:grpSpPr>
        <p:sp>
          <p:nvSpPr>
            <p:cNvPr id="253" name="Rectangle 1"/>
            <p:cNvSpPr/>
            <p:nvPr/>
          </p:nvSpPr>
          <p:spPr>
            <a:xfrm>
              <a:off x="179280" y="3573360"/>
              <a:ext cx="4608720" cy="319104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Rectangle 7"/>
            <p:cNvSpPr/>
            <p:nvPr/>
          </p:nvSpPr>
          <p:spPr>
            <a:xfrm>
              <a:off x="179280" y="5103720"/>
              <a:ext cx="4608720" cy="1676520"/>
            </a:xfrm>
            <a:prstGeom prst="rect">
              <a:avLst/>
            </a:prstGeom>
            <a:solidFill>
              <a:srgbClr val="ffffe9"/>
            </a:solidFill>
            <a:ln w="255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Rectangle 2"/>
            <p:cNvSpPr/>
            <p:nvPr/>
          </p:nvSpPr>
          <p:spPr>
            <a:xfrm>
              <a:off x="179280" y="3573360"/>
              <a:ext cx="4608720" cy="1619280"/>
            </a:xfrm>
            <a:prstGeom prst="rect">
              <a:avLst/>
            </a:prstGeom>
            <a:solidFill>
              <a:srgbClr val="009900"/>
            </a:solidFill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Oval 3"/>
            <p:cNvSpPr/>
            <p:nvPr/>
          </p:nvSpPr>
          <p:spPr>
            <a:xfrm>
              <a:off x="1309680" y="3955680"/>
              <a:ext cx="2257560" cy="2311560"/>
            </a:xfrm>
            <a:prstGeom prst="ellipse">
              <a:avLst/>
            </a:prstGeom>
            <a:solidFill>
              <a:srgbClr val="fffff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5-Point Star 8"/>
            <p:cNvSpPr/>
            <p:nvPr/>
          </p:nvSpPr>
          <p:spPr>
            <a:xfrm>
              <a:off x="2000160" y="4189320"/>
              <a:ext cx="876240" cy="831960"/>
            </a:xfrm>
            <a:custGeom>
              <a:avLst/>
              <a:gdLst/>
              <a:ahLst/>
              <a:rect l="l" t="t" r="r" b="b"/>
              <a:pathLst>
                <a:path w="1369238" h="1295545">
                  <a:moveTo>
                    <a:pt x="1" y="494853"/>
                  </a:moveTo>
                  <a:lnTo>
                    <a:pt x="523005" y="494856"/>
                  </a:lnTo>
                  <a:lnTo>
                    <a:pt x="684619" y="0"/>
                  </a:lnTo>
                  <a:lnTo>
                    <a:pt x="846233" y="494856"/>
                  </a:lnTo>
                  <a:lnTo>
                    <a:pt x="1369237" y="494853"/>
                  </a:lnTo>
                  <a:lnTo>
                    <a:pt x="946116" y="800687"/>
                  </a:lnTo>
                  <a:lnTo>
                    <a:pt x="1107736" y="1295542"/>
                  </a:lnTo>
                  <a:lnTo>
                    <a:pt x="684619" y="989701"/>
                  </a:lnTo>
                  <a:lnTo>
                    <a:pt x="261502" y="1295542"/>
                  </a:lnTo>
                  <a:lnTo>
                    <a:pt x="423122" y="800687"/>
                  </a:lnTo>
                  <a:lnTo>
                    <a:pt x="1" y="494853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5-Point Star 10"/>
            <p:cNvSpPr/>
            <p:nvPr/>
          </p:nvSpPr>
          <p:spPr>
            <a:xfrm>
              <a:off x="2000160" y="5113440"/>
              <a:ext cx="876240" cy="831960"/>
            </a:xfrm>
            <a:custGeom>
              <a:avLst/>
              <a:gdLst/>
              <a:ahLst/>
              <a:rect l="l" t="t" r="r" b="b"/>
              <a:pathLst>
                <a:path w="1369238" h="1295545">
                  <a:moveTo>
                    <a:pt x="1" y="494853"/>
                  </a:moveTo>
                  <a:lnTo>
                    <a:pt x="523005" y="494856"/>
                  </a:lnTo>
                  <a:lnTo>
                    <a:pt x="684619" y="0"/>
                  </a:lnTo>
                  <a:lnTo>
                    <a:pt x="846233" y="494856"/>
                  </a:lnTo>
                  <a:lnTo>
                    <a:pt x="1369237" y="494853"/>
                  </a:lnTo>
                  <a:lnTo>
                    <a:pt x="946116" y="800687"/>
                  </a:lnTo>
                  <a:lnTo>
                    <a:pt x="1107736" y="1295542"/>
                  </a:lnTo>
                  <a:lnTo>
                    <a:pt x="684619" y="989701"/>
                  </a:lnTo>
                  <a:lnTo>
                    <a:pt x="261502" y="1295542"/>
                  </a:lnTo>
                  <a:lnTo>
                    <a:pt x="423122" y="800687"/>
                  </a:lnTo>
                  <a:lnTo>
                    <a:pt x="1" y="494853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489744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179280" y="1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2" name="Group 5"/>
          <p:cNvGrpSpPr/>
          <p:nvPr/>
        </p:nvGrpSpPr>
        <p:grpSpPr>
          <a:xfrm>
            <a:off x="179280" y="3573360"/>
            <a:ext cx="4608720" cy="3206880"/>
            <a:chOff x="179280" y="3573360"/>
            <a:chExt cx="4608720" cy="3206880"/>
          </a:xfrm>
        </p:grpSpPr>
        <p:sp>
          <p:nvSpPr>
            <p:cNvPr id="263" name="Rectangle 1"/>
            <p:cNvSpPr/>
            <p:nvPr/>
          </p:nvSpPr>
          <p:spPr>
            <a:xfrm>
              <a:off x="179280" y="3573360"/>
              <a:ext cx="4608720" cy="319104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Rectangle 7"/>
            <p:cNvSpPr/>
            <p:nvPr/>
          </p:nvSpPr>
          <p:spPr>
            <a:xfrm>
              <a:off x="179280" y="5103720"/>
              <a:ext cx="4608720" cy="1676520"/>
            </a:xfrm>
            <a:prstGeom prst="rect">
              <a:avLst/>
            </a:prstGeom>
            <a:solidFill>
              <a:srgbClr val="ffffe9"/>
            </a:solidFill>
            <a:ln w="25560">
              <a:solidFill>
                <a:srgbClr val="fff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Rectangle 2"/>
            <p:cNvSpPr/>
            <p:nvPr/>
          </p:nvSpPr>
          <p:spPr>
            <a:xfrm>
              <a:off x="179280" y="3573360"/>
              <a:ext cx="4608720" cy="1619280"/>
            </a:xfrm>
            <a:prstGeom prst="rect">
              <a:avLst/>
            </a:prstGeom>
            <a:solidFill>
              <a:srgbClr val="009900"/>
            </a:solidFill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Oval 3"/>
            <p:cNvSpPr/>
            <p:nvPr/>
          </p:nvSpPr>
          <p:spPr>
            <a:xfrm>
              <a:off x="1309680" y="3955680"/>
              <a:ext cx="2257560" cy="2311560"/>
            </a:xfrm>
            <a:prstGeom prst="ellipse">
              <a:avLst/>
            </a:prstGeom>
            <a:solidFill>
              <a:srgbClr val="fffff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" name="5-Point Star 8"/>
            <p:cNvSpPr/>
            <p:nvPr/>
          </p:nvSpPr>
          <p:spPr>
            <a:xfrm>
              <a:off x="2000160" y="4189320"/>
              <a:ext cx="876240" cy="831960"/>
            </a:xfrm>
            <a:custGeom>
              <a:avLst/>
              <a:gdLst/>
              <a:ahLst/>
              <a:rect l="l" t="t" r="r" b="b"/>
              <a:pathLst>
                <a:path w="1369238" h="1295545">
                  <a:moveTo>
                    <a:pt x="1" y="494853"/>
                  </a:moveTo>
                  <a:lnTo>
                    <a:pt x="523005" y="494856"/>
                  </a:lnTo>
                  <a:lnTo>
                    <a:pt x="684619" y="0"/>
                  </a:lnTo>
                  <a:lnTo>
                    <a:pt x="846233" y="494856"/>
                  </a:lnTo>
                  <a:lnTo>
                    <a:pt x="1369237" y="494853"/>
                  </a:lnTo>
                  <a:lnTo>
                    <a:pt x="946116" y="800687"/>
                  </a:lnTo>
                  <a:lnTo>
                    <a:pt x="1107736" y="1295542"/>
                  </a:lnTo>
                  <a:lnTo>
                    <a:pt x="684619" y="989701"/>
                  </a:lnTo>
                  <a:lnTo>
                    <a:pt x="261502" y="1295542"/>
                  </a:lnTo>
                  <a:lnTo>
                    <a:pt x="423122" y="800687"/>
                  </a:lnTo>
                  <a:lnTo>
                    <a:pt x="1" y="494853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" name="5-Point Star 10"/>
            <p:cNvSpPr/>
            <p:nvPr/>
          </p:nvSpPr>
          <p:spPr>
            <a:xfrm>
              <a:off x="2000160" y="5113440"/>
              <a:ext cx="876240" cy="831960"/>
            </a:xfrm>
            <a:custGeom>
              <a:avLst/>
              <a:gdLst/>
              <a:ahLst/>
              <a:rect l="l" t="t" r="r" b="b"/>
              <a:pathLst>
                <a:path w="1369238" h="1295545">
                  <a:moveTo>
                    <a:pt x="1" y="494853"/>
                  </a:moveTo>
                  <a:lnTo>
                    <a:pt x="523005" y="494856"/>
                  </a:lnTo>
                  <a:lnTo>
                    <a:pt x="684619" y="0"/>
                  </a:lnTo>
                  <a:lnTo>
                    <a:pt x="846233" y="494856"/>
                  </a:lnTo>
                  <a:lnTo>
                    <a:pt x="1369237" y="494853"/>
                  </a:lnTo>
                  <a:lnTo>
                    <a:pt x="946116" y="800687"/>
                  </a:lnTo>
                  <a:lnTo>
                    <a:pt x="1107736" y="1295542"/>
                  </a:lnTo>
                  <a:lnTo>
                    <a:pt x="684619" y="989701"/>
                  </a:lnTo>
                  <a:lnTo>
                    <a:pt x="261502" y="1295542"/>
                  </a:lnTo>
                  <a:lnTo>
                    <a:pt x="423122" y="800687"/>
                  </a:lnTo>
                  <a:lnTo>
                    <a:pt x="1" y="494853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4897440" cy="32544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12"/>
          <p:cNvSpPr/>
          <p:nvPr/>
        </p:nvSpPr>
        <p:spPr>
          <a:xfrm>
            <a:off x="5092560" y="3716280"/>
            <a:ext cx="39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i bandera es verde y blanc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179280" y="1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3" name="Group 2"/>
          <p:cNvGrpSpPr/>
          <p:nvPr/>
        </p:nvGrpSpPr>
        <p:grpSpPr>
          <a:xfrm>
            <a:off x="152280" y="3500280"/>
            <a:ext cx="4635720" cy="3273480"/>
            <a:chOff x="152280" y="3500280"/>
            <a:chExt cx="4635720" cy="3273480"/>
          </a:xfrm>
        </p:grpSpPr>
        <p:sp>
          <p:nvSpPr>
            <p:cNvPr id="274" name="Rectangle 5"/>
            <p:cNvSpPr/>
            <p:nvPr/>
          </p:nvSpPr>
          <p:spPr>
            <a:xfrm>
              <a:off x="152280" y="3500280"/>
              <a:ext cx="2363760" cy="326880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Rectangle 11"/>
            <p:cNvSpPr/>
            <p:nvPr/>
          </p:nvSpPr>
          <p:spPr>
            <a:xfrm>
              <a:off x="2424240" y="3504960"/>
              <a:ext cx="2363760" cy="32688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Cross 12"/>
            <p:cNvSpPr/>
            <p:nvPr/>
          </p:nvSpPr>
          <p:spPr>
            <a:xfrm>
              <a:off x="1890720" y="3974760"/>
              <a:ext cx="1066680" cy="1017360"/>
            </a:xfrm>
            <a:prstGeom prst="plus">
              <a:avLst>
                <a:gd name="adj" fmla="val 37653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Oval 6"/>
            <p:cNvSpPr/>
            <p:nvPr/>
          </p:nvSpPr>
          <p:spPr>
            <a:xfrm>
              <a:off x="1820880" y="5205240"/>
              <a:ext cx="1204920" cy="1090440"/>
            </a:xfrm>
            <a:prstGeom prst="ellipse">
              <a:avLst/>
            </a:prstGeom>
            <a:solidFill>
              <a:srgbClr val="ffff09"/>
            </a:solidFill>
            <a:ln w="25560">
              <a:solidFill>
                <a:srgbClr val="fff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489744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179280" y="189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1" name="Group 2"/>
          <p:cNvGrpSpPr/>
          <p:nvPr/>
        </p:nvGrpSpPr>
        <p:grpSpPr>
          <a:xfrm>
            <a:off x="152280" y="3500280"/>
            <a:ext cx="4635720" cy="3273480"/>
            <a:chOff x="152280" y="3500280"/>
            <a:chExt cx="4635720" cy="3273480"/>
          </a:xfrm>
        </p:grpSpPr>
        <p:sp>
          <p:nvSpPr>
            <p:cNvPr id="282" name="Rectangle 5"/>
            <p:cNvSpPr/>
            <p:nvPr/>
          </p:nvSpPr>
          <p:spPr>
            <a:xfrm>
              <a:off x="152280" y="3500280"/>
              <a:ext cx="2363760" cy="326880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2424240" y="3504960"/>
              <a:ext cx="2363760" cy="32688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Cross 12"/>
            <p:cNvSpPr/>
            <p:nvPr/>
          </p:nvSpPr>
          <p:spPr>
            <a:xfrm>
              <a:off x="1890720" y="3974760"/>
              <a:ext cx="1066680" cy="1017360"/>
            </a:xfrm>
            <a:prstGeom prst="plus">
              <a:avLst>
                <a:gd name="adj" fmla="val 37653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Oval 6"/>
            <p:cNvSpPr/>
            <p:nvPr/>
          </p:nvSpPr>
          <p:spPr>
            <a:xfrm>
              <a:off x="1820880" y="5205240"/>
              <a:ext cx="1204920" cy="1090440"/>
            </a:xfrm>
            <a:prstGeom prst="ellipse">
              <a:avLst/>
            </a:prstGeom>
            <a:solidFill>
              <a:srgbClr val="ffff09"/>
            </a:solidFill>
            <a:ln w="25560">
              <a:solidFill>
                <a:srgbClr val="fff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4897440" cy="3254400"/>
          </a:xfrm>
          <a:prstGeom prst="rect">
            <a:avLst/>
          </a:prstGeom>
          <a:ln w="0">
            <a:noFill/>
          </a:ln>
        </p:spPr>
      </p:pic>
      <p:sp>
        <p:nvSpPr>
          <p:cNvPr id="287" name="TextBox 9"/>
          <p:cNvSpPr/>
          <p:nvPr/>
        </p:nvSpPr>
        <p:spPr>
          <a:xfrm>
            <a:off x="5092560" y="3716280"/>
            <a:ext cx="3961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i bandera es naranja, roja, negra y amarill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7-07T10:56:37Z</dcterms:modified>
  <cp:revision>144</cp:revision>
  <dc:subject/>
  <dc:title>TITLE</dc:title>
</cp:coreProperties>
</file>