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B069-D2AA-405C-BD89-B09B5FB4E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489D-B1FD-4B9B-AF3F-E2982FE12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F42B-4900-474B-B7E5-9B3EE4588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C1BB-1211-49F6-B36C-8B389E86F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0ABF-06D7-4D21-A493-ED99214CB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8FF4-BD2A-4FE3-8D37-876EEC457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F12B-60FC-4B6D-8FFB-CE5E77BCF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2638-B05F-4F81-8750-A823264F3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F8BB-E0DB-4AFB-A58D-BB57A4130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27F7-C9D5-4912-B8FB-216FE6C35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C077-BA76-4A33-BA01-4886B93B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AFFF-8EC1-43B4-9903-AC2CA819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436BA-29E9-4DD1-8404-76A87CB2D64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4910400" cy="6480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227640" y="3645000"/>
            <a:ext cx="244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hinacat"/>
              </a:rPr>
              <a:t>South Amer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8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2448000" cy="163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492360" y="404640"/>
            <a:ext cx="2374920" cy="1781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372360" y="404640"/>
            <a:ext cx="2376360" cy="1586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395280" y="3789360"/>
            <a:ext cx="2521080" cy="1679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3492360" y="3789360"/>
            <a:ext cx="2519640" cy="1679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6443640" y="3789360"/>
            <a:ext cx="2521080" cy="16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0" y="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987640" y="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0"/>
            <a:ext cx="5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06864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87640" y="314172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3068640"/>
            <a:ext cx="5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2448000" cy="163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492360" y="404640"/>
            <a:ext cx="2374920" cy="1781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6372360" y="404640"/>
            <a:ext cx="2376360" cy="1586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395280" y="3789360"/>
            <a:ext cx="2521080" cy="1679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3492360" y="3789360"/>
            <a:ext cx="2519640" cy="1679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6443640" y="3789360"/>
            <a:ext cx="2521080" cy="16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0" y="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987640" y="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867280" y="0"/>
            <a:ext cx="5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306864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987640" y="314172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84720" y="3068640"/>
            <a:ext cx="5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9280" y="227664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inacat"/>
              </a:rPr>
              <a:t>C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03640" y="234936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inacat"/>
              </a:rPr>
              <a:t>Argent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56360" y="234936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inacat"/>
              </a:rPr>
              <a:t>Colomb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558972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inacat"/>
              </a:rPr>
              <a:t>Boliv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48000" y="558972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hinacat"/>
              </a:rPr>
              <a:t>Per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56360" y="558972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inacat"/>
              </a:rPr>
              <a:t>Urugu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3T12:51:37Z</dcterms:created>
  <dc:creator>Clare</dc:creator>
  <dc:description/>
  <dc:language>en-US</dc:language>
  <cp:lastModifiedBy>Clare</cp:lastModifiedBy>
  <dcterms:modified xsi:type="dcterms:W3CDTF">2010-01-26T15:20:10Z</dcterms:modified>
  <cp:revision>3</cp:revision>
  <dc:subject/>
  <dc:title>Slide 1</dc:title>
</cp:coreProperties>
</file>