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35056-AE5F-4D4F-BFF3-623359CDF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21D5F-A155-4601-B1BB-CB8743084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5C89C-E626-4A64-9A60-E24AA3C63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BC18C-BCF9-46AF-8DE3-055F59B9D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38D48-27DE-4651-9453-9C60BBBF4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7F394-FBB9-4208-803F-9FC3DF23A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7569A-357B-4132-A698-D6AA59E88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4810E-0DCE-4EEC-844F-BF4EFF498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2131A-EBCB-4142-A432-3251CDF88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5DD88-09EC-41E6-86BA-10C374EA3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3251D-EC24-4E1B-AC6F-158110C75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C014C-9421-4B8E-9131-D76BA46EB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7D6E8-E634-4FFC-8179-3852478EE63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187280" y="189000"/>
            <a:ext cx="4910400" cy="6480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227640" y="3645000"/>
            <a:ext cx="2448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hinacat"/>
              </a:rPr>
              <a:t>South Ameri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476280"/>
            <a:ext cx="9144000" cy="581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95280" y="549360"/>
            <a:ext cx="2448000" cy="1630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492360" y="404640"/>
            <a:ext cx="2374920" cy="1781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6372360" y="404640"/>
            <a:ext cx="2376360" cy="1586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395280" y="3789360"/>
            <a:ext cx="2521080" cy="1679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8" name="" descr=""/>
          <p:cNvPicPr/>
          <p:nvPr/>
        </p:nvPicPr>
        <p:blipFill>
          <a:blip r:embed="rId5"/>
          <a:stretch/>
        </p:blipFill>
        <p:spPr>
          <a:xfrm>
            <a:off x="3492360" y="3789360"/>
            <a:ext cx="2519640" cy="1679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9" name="" descr=""/>
          <p:cNvPicPr/>
          <p:nvPr/>
        </p:nvPicPr>
        <p:blipFill>
          <a:blip r:embed="rId6"/>
          <a:stretch/>
        </p:blipFill>
        <p:spPr>
          <a:xfrm>
            <a:off x="6443640" y="3789360"/>
            <a:ext cx="2521080" cy="1676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0" y="0"/>
            <a:ext cx="50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987640" y="0"/>
            <a:ext cx="50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0"/>
            <a:ext cx="50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068640"/>
            <a:ext cx="50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87640" y="3141720"/>
            <a:ext cx="50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84720" y="3068640"/>
            <a:ext cx="50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95280" y="549360"/>
            <a:ext cx="2448000" cy="1630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492360" y="404640"/>
            <a:ext cx="2374920" cy="1781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6372360" y="404640"/>
            <a:ext cx="2376360" cy="1586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395280" y="3789360"/>
            <a:ext cx="2521080" cy="1679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0" name="" descr=""/>
          <p:cNvPicPr/>
          <p:nvPr/>
        </p:nvPicPr>
        <p:blipFill>
          <a:blip r:embed="rId5"/>
          <a:stretch/>
        </p:blipFill>
        <p:spPr>
          <a:xfrm>
            <a:off x="3492360" y="3789360"/>
            <a:ext cx="2519640" cy="1679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6"/>
          <a:stretch/>
        </p:blipFill>
        <p:spPr>
          <a:xfrm>
            <a:off x="6443640" y="3789360"/>
            <a:ext cx="2521080" cy="1676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2" name=""/>
          <p:cNvSpPr/>
          <p:nvPr/>
        </p:nvSpPr>
        <p:spPr>
          <a:xfrm>
            <a:off x="0" y="0"/>
            <a:ext cx="50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987640" y="0"/>
            <a:ext cx="50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867280" y="0"/>
            <a:ext cx="50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0" y="3068640"/>
            <a:ext cx="50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987640" y="3141720"/>
            <a:ext cx="50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84720" y="3068640"/>
            <a:ext cx="50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79280" y="2276640"/>
            <a:ext cx="280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hinacat"/>
              </a:rPr>
              <a:t>Chi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203640" y="2349360"/>
            <a:ext cx="280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hinacat"/>
              </a:rPr>
              <a:t>Argenti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156360" y="2349360"/>
            <a:ext cx="280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hinacat"/>
              </a:rPr>
              <a:t>Colomb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50920" y="5589720"/>
            <a:ext cx="280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hinacat"/>
              </a:rPr>
              <a:t>Boliv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348000" y="5589720"/>
            <a:ext cx="280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hinacat"/>
              </a:rPr>
              <a:t>Per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156360" y="5589720"/>
            <a:ext cx="280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hinacat"/>
              </a:rPr>
              <a:t>Urugu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3T12:51:37Z</dcterms:created>
  <dc:creator>Clare</dc:creator>
  <dc:description/>
  <dc:language>en-US</dc:language>
  <cp:lastModifiedBy>Clare</cp:lastModifiedBy>
  <dcterms:modified xsi:type="dcterms:W3CDTF">2010-01-26T15:20:10Z</dcterms:modified>
  <cp:revision>3</cp:revision>
  <dc:subject/>
  <dc:title>Slide 1</dc:title>
</cp:coreProperties>
</file>