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248B-37A2-43BF-A0C9-AAB5492A326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A4ED-1A76-4711-8B48-9B5A49E7A7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EE39-A0DE-4725-978A-F046080D38C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F582-B953-4F2B-A28D-369A2D5EF05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0B4B-56FD-4A90-BF3D-4419039C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99F-14A8-4805-BD47-F2E01CE9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8E98-144C-4930-8D20-BDE2EC5F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43C-3272-48D9-BA19-B0FA4884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B05-5536-4411-B78A-79B644D4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140-8106-48FB-9D4D-46244E51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43F-EAE0-414A-A277-728F633B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66E-56BF-481F-A8B6-17BF18DD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0480-4B66-4199-9BD2-E60502DF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404-11B2-4DC9-87C6-4C2C5A7F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91CF-FC64-4079-B27B-30C0DE57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F2BA-8182-4846-AB63-01A3703F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16BD-ADEF-43F2-B91E-CE35A9642E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topnews.in/files/Italy-Flag_0.jpg&amp;imgrefurl=http://www.topnews.in/italy-arrests-moroccan-alqaeda-suspects-295083&amp;usg=__LRhffs9CCWcSb7TamdwCLKjtuRU=&amp;h=533&amp;w=800&amp;sz=8&amp;hl=en&amp;start=2&amp;um=1&amp;tbnid=bg6uSP2ieC1EyM:&amp;tbnh=95&amp;tbnw=143&amp;prev=/images%3Fq%3Ditaly%2Bflag%26hl%3Den%26rlz%3D1R2GPEA_en%26sa%3DN%26um%3D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.uk/imgres?imgurl=http://www.spain-flag.eu/photos/spain-plain.gif&amp;imgrefurl=http://www.spain-flag.eu/flag-variants.htm&amp;usg=__1c5WN2A9lXu7iYM32yTz6uGlhYI=&amp;h=490&amp;w=740&amp;sz=2&amp;hl=en&amp;start=63&amp;um=1&amp;tbnid=cAWAgIzTq6zW-M:&amp;tbnh=93&amp;tbnw=141&amp;prev=/images%3Fq%3Dspain%2Bflag%26ndsp%3D20%26hl%3Den%26rlz%3D1R2GPEA_en%26sa%3DN%26start%3D60%26um%3D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images.google.co.uk/imgres?imgurl=https://www.vtrenz.net/imarkownerfiles/ownerassets/868/france_flag.gif&amp;imgrefurl=http://gw.vtrenz.net/%3FH7FF4GPJ9T%26&amp;usg=__PnwPX5b_eMGncOOHtRozl1fkxIA=&amp;h=419&amp;w=574&amp;sz=4&amp;hl=en&amp;start=1&amp;um=1&amp;tbnid=G70qn1l86qSD-M:&amp;tbnh=98&amp;tbnw=134&amp;prev=/images%3Fq%3Dfrance%2Bflag%26hl%3Den%26rlz%3D1R2GPEA_en%26um%3D1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images.google.co.uk/imgres?imgurl=http://www.lacndb.com/php/Flags/Germany_flag.jpg&amp;imgrefurl=http://www.lacndb.com/php/Info.php%3Fname%3DArnold%2520Rothstein&amp;usg=__Ug1Kaj6OAbIvY2rqj3REcUQz1Hc=&amp;h=1200&amp;w=1600&amp;sz=14&amp;hl=en&amp;start=6&amp;um=1&amp;tbnid=tpls21kkZT3nWM:&amp;tbnh=113&amp;tbnw=150&amp;prev=/images%3Fq%3Dgermany%2Bflag%26hl%3Den%26rlz%3D1R2GPEA_en%26um%3D1" TargetMode="Externa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unimaps.com/flags-europe/poland-flag.gif&amp;imgrefurl=http://unimaps.com/flags-europe/poland-print2.html&amp;usg=__VsJM3Zz4ehiy_kSOj_3gQTvn4VU=&amp;h=600&amp;w=900&amp;sz=4&amp;hl=en&amp;start=7&amp;um=1&amp;tbnid=nLRxT7zTEG9ARM:&amp;tbnh=97&amp;tbnw=146&amp;prev=/images%3Fq%3Dpoland%2Bflag%26hl%3Den%26rlz%3D1R2GPEA_en%26um%3D1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mages.google.co.uk/imgres?imgurl=http://www.flags-and-anthems.com/media/flags/flag-greece.gif&amp;imgrefurl=http://www.flags-and-anthems.com/flag-greece.html&amp;usg=__oaH-wVfdGnP7FhHpDLQYw3V1VjM=&amp;h=316&amp;w=500&amp;sz=2&amp;hl=en&amp;start=8&amp;um=1&amp;tbnid=mlP3FpX4xXk8xM:&amp;tbnh=82&amp;tbnw=130&amp;prev=/images%3Fq%3Dgreece%2Bflag%26hl%3Den%26rlz%3D1R2GPEA_en%26um%3D1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images.google.co.uk/imgres?imgurl=http://unimaps.com/flags-europe/romania-flag.gif&amp;imgrefurl=http://unimaps.com/flags-europe/romania-print2.html&amp;usg=__va7GSj_b_B34CPPnkeJXVIWngfM=&amp;h=600&amp;w=900&amp;sz=19&amp;hl=en&amp;start=1&amp;um=1&amp;tbnid=oWtIQ-rB1VDXuM:&amp;tbnh=97&amp;tbnw=146&amp;prev=/images%3Fq%3Dromania%2Bflag%26hl%3Den%26rlz%3D1R2GPEA_en%26um%3D1" TargetMode="External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028000" y="6453360"/>
            <a:ext cx="1116000" cy="404640"/>
          </a:xfrm>
          <a:prstGeom prst="rect">
            <a:avLst/>
          </a:prstGeom>
          <a:solidFill>
            <a:srgbClr val="911d11"/>
          </a:solidFill>
          <a:ln w="9360">
            <a:solidFill>
              <a:srgbClr val="911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11280" y="2492280"/>
            <a:ext cx="8064360" cy="18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Comic Sans MS"/>
              </a:rPr>
              <a:t>los colore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911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620640"/>
            <a:ext cx="2951280" cy="1960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3716280"/>
            <a:ext cx="2880000" cy="189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19640" y="549360"/>
            <a:ext cx="2737080" cy="200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92720" y="3645000"/>
            <a:ext cx="2592360" cy="195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911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04640"/>
            <a:ext cx="3311640" cy="2200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88000" y="404640"/>
            <a:ext cx="3600360" cy="2271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8360" y="3573360"/>
            <a:ext cx="3311640" cy="22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4788000" y="3573360"/>
            <a:ext cx="3313080" cy="221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12-01T15:38:09Z</dcterms:modified>
  <cp:revision>58</cp:revision>
  <dc:subject/>
  <dc:title>TITLE</dc:title>
</cp:coreProperties>
</file>