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69D8-51AF-402C-A606-DB3D2C8E21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7DF-3186-45E5-AF87-BC54349803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B21-1C6F-4690-9F0A-9D24843889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5BD-B8D0-49DA-9579-6984F33E7D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7DD-1D0B-4233-A6C1-22C448F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985-BBF7-46E5-AE9F-6A20BDB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7B2-BBC4-46FD-ACBE-986BAD1B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A55-72A2-46C2-BE59-2AF399A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CF0-7D4A-461D-8CDB-9E442C27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0D5-7207-478A-9A32-64891DE6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2C0-8465-4E04-916A-03C91E6C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DA0-09B6-43E5-A7F5-8AC29B7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F87-4175-4C66-B720-5D2C3153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376-7AB9-4684-BC2D-FACEC4B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81B-60A7-450F-9DF0-FE64B19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5BA-5EF7-4EE0-8D9F-DFBD69D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CB97-410A-4364-B497-E95514EE15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topnews.in/files/Italy-Flag_0.jpg&amp;imgrefurl=http://www.topnews.in/italy-arrests-moroccan-alqaeda-suspects-295083&amp;usg=__LRhffs9CCWcSb7TamdwCLKjtuRU=&amp;h=533&amp;w=800&amp;sz=8&amp;hl=en&amp;start=2&amp;um=1&amp;tbnid=bg6uSP2ieC1EyM:&amp;tbnh=95&amp;tbnw=143&amp;prev=/images%3Fq%3Ditaly%2Bflag%26hl%3Den%26rlz%3D1R2GPEA_en%26sa%3DN%26um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.uk/imgres?imgurl=http://www.spain-flag.eu/photos/spain-plain.gif&amp;imgrefurl=http://www.spain-flag.eu/flag-variants.htm&amp;usg=__1c5WN2A9lXu7iYM32yTz6uGlhYI=&amp;h=490&amp;w=740&amp;sz=2&amp;hl=en&amp;start=63&amp;um=1&amp;tbnid=cAWAgIzTq6zW-M:&amp;tbnh=93&amp;tbnw=141&amp;prev=/images%3Fq%3Dspain%2Bflag%26ndsp%3D20%26hl%3Den%26rlz%3D1R2GPEA_en%26sa%3DN%26start%3D60%26um%3D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.uk/imgres?imgurl=https://www.vtrenz.net/imarkownerfiles/ownerassets/868/france_flag.gif&amp;imgrefurl=http://gw.vtrenz.net/%3FH7FF4GPJ9T%26&amp;usg=__PnwPX5b_eMGncOOHtRozl1fkxIA=&amp;h=419&amp;w=574&amp;sz=4&amp;hl=en&amp;start=1&amp;um=1&amp;tbnid=G70qn1l86qSD-M:&amp;tbnh=98&amp;tbnw=134&amp;prev=/images%3Fq%3Dfrance%2Bflag%26hl%3Den%26rlz%3D1R2GPEA_en%26um%3D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.uk/imgres?imgurl=http://www.lacndb.com/php/Flags/Germany_flag.jpg&amp;imgrefurl=http://www.lacndb.com/php/Info.php%3Fname%3DArnold%2520Rothstein&amp;usg=__Ug1Kaj6OAbIvY2rqj3REcUQz1Hc=&amp;h=1200&amp;w=1600&amp;sz=14&amp;hl=en&amp;start=6&amp;um=1&amp;tbnid=tpls21kkZT3nWM:&amp;tbnh=113&amp;tbnw=150&amp;prev=/images%3Fq%3Dgermany%2Bflag%26hl%3Den%26rlz%3D1R2GPEA_en%26um%3D1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nimaps.com/flags-europe/poland-flag.gif&amp;imgrefurl=http://unimaps.com/flags-europe/poland-print2.html&amp;usg=__VsJM3Zz4ehiy_kSOj_3gQTvn4VU=&amp;h=600&amp;w=900&amp;sz=4&amp;hl=en&amp;start=7&amp;um=1&amp;tbnid=nLRxT7zTEG9ARM:&amp;tbnh=97&amp;tbnw=146&amp;prev=/images%3Fq%3Dpoland%2Bflag%26hl%3Den%26rlz%3D1R2GPEA_en%26um%3D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.uk/imgres?imgurl=http://www.flags-and-anthems.com/media/flags/flag-greece.gif&amp;imgrefurl=http://www.flags-and-anthems.com/flag-greece.html&amp;usg=__oaH-wVfdGnP7FhHpDLQYw3V1VjM=&amp;h=316&amp;w=500&amp;sz=2&amp;hl=en&amp;start=8&amp;um=1&amp;tbnid=mlP3FpX4xXk8xM:&amp;tbnh=82&amp;tbnw=130&amp;prev=/images%3Fq%3Dgreece%2Bflag%26hl%3Den%26rlz%3D1R2GPEA_en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.uk/imgres?imgurl=http://unimaps.com/flags-europe/romania-flag.gif&amp;imgrefurl=http://unimaps.com/flags-europe/romania-print2.html&amp;usg=__va7GSj_b_B34CPPnkeJXVIWngfM=&amp;h=600&amp;w=900&amp;sz=19&amp;hl=en&amp;start=1&amp;um=1&amp;tbnid=oWtIQ-rB1VDXuM:&amp;tbnh=97&amp;tbnw=146&amp;prev=/images%3Fq%3Dromania%2Bflag%26hl%3Den%26rlz%3D1R2GPEA_en%26um%3D1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28000" y="6453360"/>
            <a:ext cx="1116000" cy="404640"/>
          </a:xfrm>
          <a:prstGeom prst="rect">
            <a:avLst/>
          </a:prstGeom>
          <a:solidFill>
            <a:srgbClr val="911d11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492280"/>
            <a:ext cx="806436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Comic Sans MS"/>
              </a:rPr>
              <a:t>los color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620640"/>
            <a:ext cx="2951280" cy="196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3716280"/>
            <a:ext cx="2880000" cy="189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549360"/>
            <a:ext cx="273708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92720" y="3645000"/>
            <a:ext cx="2592360" cy="195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3311640" cy="22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04640"/>
            <a:ext cx="3600360" cy="227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3573360"/>
            <a:ext cx="33116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788000" y="3573360"/>
            <a:ext cx="3313080" cy="22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38:09Z</dcterms:modified>
  <cp:revision>58</cp:revision>
  <dc:subject/>
  <dc:title>TITLE</dc:title>
</cp:coreProperties>
</file>