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3D1-9B12-4163-9BA4-E23812D4EA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Flash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801-5B28-4B04-A6DF-FB58E7CC28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C33-AAE2-4B66-B37E-1044B33A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073-E5DF-4ED3-8576-1F07E33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05C-129C-4C32-BD42-57D8E3DB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38D-6897-4AB7-99D4-2C86400C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1DA-D743-4B18-9F78-02E01E4E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F60-4D8E-4DFD-A47E-4BAD9F9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802-5582-4D39-AD98-396CE029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77C-C33D-4B79-A0E7-0CCD16E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586-3148-4B2D-BF29-D130ECC7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150-2AE3-44CD-AE8B-B3E3CD5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E29-6832-4F4C-AF62-376BEB6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CE4-E39D-40E8-A1CB-62B10D6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6B9-47A8-4215-88D5-87D1944B20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908000" y="83664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-197172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908000" y="335772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-19000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40720" y="4221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-182736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908000" y="530208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2360" y="1628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96360" y="-117936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96360" y="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468000" y="608004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9640" y="-19000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-190008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58436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908000" y="-117936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18519E-006 L -0.55122 1.32316 E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1.3967 -0.02106 E">
                                      <p:cBhvr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40741E-007 C -0.09792 -0.21875 -0.19584 -0.43774 -0.22501 -0.58056 C -0.25417 -0.72315 -0.15695 -0.72825 -0.17501 -0.85556 C -0.19306 -0.98288 -0.30973 -1.26181 -0.33334 -1.34422 C -0.35695 -1.42663 -0.33681 -1.3882 -0.31667 -1.34977 E">
                                      <p:cBhvr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1759 L 0.51719 0.11759 C 0.74931 0.11759 1.03455 0.41203 1.03455 0.65208 L 1.03455 1.18657 E">
                                      <p:cBhvr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05504 -1.35903 E">
                                      <p:cBhvr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03704E-006 C -0.01979 0.00879 -0.0283 0.02638 -0.04375 0.04444 C -0.06788 0.07245 -0.08056 0.08934 -0.10833 0.1111 C -0.12153 0.12129 -0.13472 0.13147 -0.14792 0.14166 C -0.1526 0.14536 -0.15573 0.15208 -0.16042 0.15555 C -0.21181 0.19444 -0.26667 0.22638 -0.32292 0.24999 C -0.36319 0.26689 -0.39965 0.28471 -0.44167 0.29166 C -0.475 0.28796 -0.50868 0.28772 -0.54167 0.28055 C -0.55087 0.27846 -0.57986 0.2368 -0.5875 0.22777 C -0.60017 0.19421 -0.61649 0.16411 -0.62917 0.13055 C -0.63316 0.09907 -0.62795 0.1287 -0.63958 0.09421 C -0.64236 0.0861 -0.6434 0.07754 -0.64583 0.06944 C -0.64653 0.06388 -0.64653 0.05809 -0.64792 0.05277 C -0.64878 0.04953 -0.65156 0.04768 -0.65208 0.04444 C -0.65503 0.028 -0.65833 -0.00556 -0.65833 -0.00556 C -0.65937 -0.0595 -0.66997 -0.16413 -0.65417 -0.21667 C -0.65174 -0.23589 -0.64566 -0.25117 -0.64167 -0.26945 C -0.6401 -0.27686 -0.63924 -0.2845 -0.6375 -0.29167 C -0.63576 -0.29839 -0.63281 -0.30441 -0.63125 -0.31112 C -0.62274 -0.34769 -0.63247 -0.32454 -0.62083 -0.35279 C -0.61771 -0.36019 -0.61267 -0.3713 -0.60833 -0.37779 C -0.60434 -0.38357 -0.59913 -0.38797 -0.59583 -0.39445 C -0.5901 -0.40579 -0.58472 -0.41367 -0.575 -0.41945 C -0.56476 -0.42547 -0.55278 -0.42848 -0.54167 -0.43056 C -0.53333 -0.42871 -0.52465 -0.42848 -0.51667 -0.42524 C -0.50972 -0.422 -0.50608 -0.40186 -0.50417 -0.39746 C -0.48455 -0.34908 -0.51372 -0.43334 -0.49167 -0.36968 C -0.48472 -0.34931 -0.47969 -0.32848 -0.47292 -0.30834 C -0.4651 -0.21783 -0.4684 -0.26042 -0.4625 -0.18056 C -0.46458 -0.16019 -0.46597 -0.13959 -0.46875 -0.11945 C -0.47222 -0.09306 -0.4717 -0.11181 -0.47917 -0.09191 C -0.49809 -0.04144 -0.51111 0.0199 -0.55208 0.04698 C -0.56858 0.05809 -0.58872 0.06087 -0.60625 0.06643 C -0.62639 0.06481 -0.6467 0.06434 -0.66667 0.0611 C -0.67378 0.05995 -0.68038 0.05439 -0.6875 0.05277 C -0.69097 0.05092 -0.69427 0.04837 -0.69792 0.04698 C -0.70469 0.04467 -0.71198 0.04467 -0.71875 0.04166 C -0.72865 0.03703 -0.73906 0.02383 -0.74792 0.01666 C -0.76128 -0.01297 -0.77951 -0.0382 -0.79375 -0.06667 C -0.79583 -0.07802 -0.79444 -0.09237 -0.80417 -0.09723 C -0.80747 -0.09885 -0.81111 -0.09908 -0.81458 -0.10024 C -0.81858 -0.11598 -0.81337 -0.10255 -0.82292 -0.11112 C -0.83056 -0.11806 -0.83455 -0.1264 -0.84375 -0.13056 C -0.85469 -0.14144 -0.85937 -0.15579 -0.86892 -0.16945 C -0.88576 -0.19376 -0.90399 -0.21829 -0.91667 -0.24746 C -0.91927 -0.25325 -0.92031 -0.26042 -0.92292 -0.26691 C -0.92726 -0.27732 -0.93368 -0.28265 -0.93958 -0.29167 C -0.94896 -0.30579 -0.95087 -0.31529 -0.9625 -0.32779 C -0.97361 -0.35232 -0.98316 -0.37779 -0.99375 -0.40279 C -0.99722 -0.41135 -0.99948 -0.42061 -1.00417 -0.42779 C -1.025 -0.46042 -1.04271 -0.49515 -1.06042 -0.53056 C -1.06875 -0.547 -1.08056 -0.55904 -1.08958 -0.57501 C -1.09861 -0.59098 -1.10556 -0.60904 -1.11458 -0.62501 C -1.11753 -0.64816 -1.12569 -0.66042 -1.13333 -0.68056 C -1.13976 -0.69769 -1.12865 -0.67964 -1.14167 -0.70279 C -1.1434 -0.70603 -1.14635 -0.70765 -1.14792 -0.71112 C -1.1533 -0.72316 -1.16198 -0.74862 -1.16667 -0.7639 C -1.17083 -0.77802 -1.17292 -0.79306 -1.17917 -0.80556 C -1.18108 -0.81529 -1.18333 -0.82339 -1.18333 -0.83334 E">
                                      <p:cBhvr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0.00092 -0.00469 0.00069 -0.00625 0.00277 C -0.00973 0.0074 -0.01025 0.01574 -0.01441 0.01944 C -0.03212 0.03495 -0.04271 0.06088 -0.06042 0.075 C -0.0625 0.0787 -0.06407 0.08287 -0.06667 0.08611 C -0.0691 0.08935 -0.07257 0.09097 -0.075 0.09444 C -0.07743 0.09838 -0.07848 0.10439 -0.08125 0.10833 C -0.08768 0.11689 -0.09896 0.12245 -0.10608 0.13055 C -0.11129 0.13611 -0.1125 0.14097 -0.11875 0.14444 C -0.12813 0.14976 -0.12518 0.14467 -0.13316 0.15 C -0.13976 0.15439 -0.14115 0.15879 -0.14775 0.16388 C -0.14966 0.16527 -0.15209 0.16527 -0.15417 0.16643 C -0.16129 0.17175 -0.16823 0.17708 -0.175 0.18333 C -0.1823 0.19027 -0.18837 0.20115 -0.19584 0.20833 C -0.19844 0.21064 -0.20122 0.21157 -0.204 0.21365 C -0.20764 0.21643 -0.21111 0.21898 -0.21459 0.22199 C -0.22032 0.22824 -0.22327 0.23865 -0.229 0.24421 C -0.23351 0.24838 -0.23872 0.25 -0.24358 0.25277 C -0.26233 0.27777 -0.28247 0.28912 -0.304 0.30833 C -0.32778 0.32916 -0.35261 0.35046 -0.38108 0.35833 C -0.41459 0.39166 -0.46771 0.38194 -0.504 0.3831 C -0.51528 0.38703 -0.52431 0.39513 -0.53525 0.4 C -0.53889 0.40162 -0.54931 0.41273 -0.554 0.41365 C -0.56216 0.41574 -0.57066 0.4155 -0.579 0.41666 C -0.60348 0.41365 -0.62761 0.41157 -0.65209 0.40833 C -0.65434 0.4081 -0.65677 0.4074 -0.65834 0.40532 C -0.66372 0.39814 -0.66615 0.38842 -0.67084 0.38055 C -0.67032 0.36365 -0.68039 0.28865 -0.65834 0.26666 C -0.65209 0.26041 -0.64393 0.25856 -0.63733 0.25277 C -0.63455 0.2537 -0.63108 0.25254 -0.62917 0.25555 C -0.62639 0.25995 -0.625 0.27222 -0.625 0.27222 C -0.629 0.35578 -0.62726 0.35254 -0.6415 0.41365 C -0.65243 0.45972 -0.63889 0.42013 -0.65209 0.45555 C -0.65712 0.48564 -0.66042 0.49074 -0.67084 0.51666 C -0.67848 0.53588 -0.68368 0.55439 -0.69358 0.57222 C -0.69809 0.60069 -0.69167 0.57523 -0.70191 0.59166 C -0.71129 0.60625 -0.70886 0.61296 -0.72275 0.62222 C -0.72986 0.63472 -0.73889 0.64259 -0.74792 0.65277 C -0.75643 0.66273 -0.77014 0.68125 -0.78108 0.68611 C -0.79705 0.70717 -0.82118 0.71388 -0.8415 0.725 C -0.85295 0.73101 -0.86285 0.74189 -0.875 0.74421 C -0.8941 0.74884 -0.90903 0.76018 -0.92691 0.76944 C -0.9316 0.77152 -0.93698 0.77268 -0.94167 0.77476 C -0.94948 0.77893 -0.95712 0.78356 -0.96459 0.78865 C -0.96736 0.7912 -0.96962 0.79606 -0.97292 0.79699 C -0.98282 0.80115 -0.99393 0.8 -1.00417 0.80277 C -1.01146 0.80787 -1.01962 0.81134 -1.02709 0.81666 C -1.03004 0.81875 -1.0323 0.82291 -1.03525 0.825 C -1.05348 0.8368 -1.08507 0.83958 -1.104 0.84166 C -1.16945 0.8375 -1.23247 0.83888 -1.29775 0.83888 E">
                                      <p:cBhvr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0.00092 -0.00469 0.00069 -0.00625 0.00277 C -0.00973 0.0074 -0.01025 0.01574 -0.01441 0.01944 C -0.03212 0.03495 -0.04271 0.06088 -0.06042 0.075 C -0.0625 0.0787 -0.06407 0.08287 -0.06667 0.08611 C -0.0691 0.08935 -0.07257 0.09097 -0.075 0.09444 C -0.07743 0.09838 -0.07848 0.10439 -0.08125 0.10833 C -0.08768 0.11689 -0.09896 0.12245 -0.10608 0.13055 C -0.11129 0.13611 -0.1125 0.14097 -0.11875 0.14444 C -0.12813 0.14976 -0.12518 0.14467 -0.13316 0.15 C -0.13976 0.15439 -0.14115 0.15879 -0.14775 0.16388 C -0.14966 0.16527 -0.15209 0.16527 -0.15417 0.16643 C -0.16129 0.17175 -0.16823 0.17708 -0.175 0.18333 C -0.1823 0.19027 -0.18837 0.20115 -0.19584 0.20833 C -0.19844 0.21064 -0.20122 0.21157 -0.204 0.21365 C -0.20764 0.21643 -0.21111 0.21898 -0.21459 0.22199 C -0.22032 0.22824 -0.22327 0.23865 -0.229 0.24421 C -0.23351 0.24838 -0.23872 0.25 -0.24358 0.25277 C -0.26233 0.27777 -0.28247 0.28912 -0.304 0.30833 C -0.32778 0.32916 -0.35261 0.35046 -0.38108 0.35833 C -0.41459 0.39166 -0.46771 0.38194 -0.504 0.3831 C -0.51528 0.38703 -0.52431 0.39513 -0.53525 0.4 C -0.53889 0.40162 -0.54931 0.41273 -0.554 0.41365 C -0.56216 0.41574 -0.57066 0.4155 -0.579 0.41666 C -0.60348 0.41365 -0.62761 0.41157 -0.65209 0.40833 C -0.65434 0.4081 -0.65677 0.4074 -0.65834 0.40532 C -0.66372 0.39814 -0.66615 0.38842 -0.67084 0.38055 C -0.67032 0.36365 -0.68039 0.28865 -0.65834 0.26666 C -0.65209 0.26041 -0.64393 0.25856 -0.63733 0.25277 C -0.63455 0.2537 -0.63108 0.25254 -0.62917 0.25555 C -0.62639 0.25995 -0.625 0.27222 -0.625 0.27222 C -0.629 0.35578 -0.62726 0.35254 -0.6415 0.41365 C -0.65243 0.45972 -0.63889 0.42013 -0.65209 0.45555 C -0.65712 0.48564 -0.66042 0.49074 -0.67084 0.51666 C -0.67848 0.53588 -0.68368 0.55439 -0.69358 0.57222 C -0.69809 0.60069 -0.69167 0.57523 -0.70191 0.59166 C -0.71129 0.60625 -0.70886 0.61296 -0.72275 0.62222 C -0.72986 0.63472 -0.73889 0.64259 -0.74792 0.65277 C -0.75643 0.66273 -0.77014 0.68125 -0.78108 0.68611 C -0.79705 0.70717 -0.82118 0.71388 -0.8415 0.725 C -0.85295 0.73101 -0.86285 0.74189 -0.875 0.74421 C -0.8941 0.74884 -0.90903 0.76018 -0.92691 0.76944 C -0.9316 0.77152 -0.93698 0.77268 -0.94167 0.77476 C -0.94948 0.77893 -0.95712 0.78356 -0.96459 0.78865 C -0.96736 0.7912 -0.96962 0.79606 -0.97292 0.79699 C -0.98282 0.80115 -0.99393 0.8 -1.00417 0.80277 C -1.01146 0.80787 -1.01962 0.81134 -1.02709 0.81666 C -1.03004 0.81875 -1.0323 0.82291 -1.03525 0.825 C -1.05348 0.8368 -1.08507 0.83958 -1.104 0.84166 C -1.16945 0.8375 -1.23247 0.83888 -1.29775 0.83888 E">
                                      <p:cBhvr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-0.03924 1.32292 E">
                                      <p:cBhvr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1.44896 0.24352 E">
                                      <p:cBhvr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C 0.02899 0.00254 0.03246 0.00324 0.05625 0.01389 C 0.05833 0.01666 0.06007 0.02014 0.0625 0.02222 C 0.06441 0.02384 0.06701 0.02315 0.06875 0.025 C 0.07066 0.02708 0.07135 0.03078 0.07291 0.03333 C 0.07934 0.04328 0.08264 0.04398 0.0875 0.05555 C 0.08923 0.05995 0.08993 0.06504 0.09166 0.06944 C 0.09409 0.07523 0.09722 0.08055 0.1 0.08611 C 0.10121 0.08889 0.10104 0.09213 0.10208 0.09444 C 0.10955 0.11458 0.10312 0.08958 0.11041 0.11412 C 0.11198 0.11944 0.11319 0.125 0.11458 0.13055 C 0.11527 0.13333 0.11666 0.13889 0.11666 0.13889 C 0.11475 0.15879 0.11545 0.18981 0.10625 0.20833 C 0.10607 0.21018 0.10295 0.23588 0.10208 0.23889 C 0.096 0.26065 0.0993 0.23449 0.09583 0.25555 C 0.08854 0.2993 0.10017 0.24236 0.08958 0.29166 C 0.09027 0.31389 0.08993 0.33611 0.09166 0.35833 C 0.09375 0.38472 0.12378 0.39861 0.13958 0.40278 C 0.16788 0.42963 0.18159 0.41828 0.21875 0.41389 C 0.22812 0.40972 0.23836 0.40741 0.24791 0.40278 C 0.25086 0.40139 0.2533 0.39884 0.25625 0.39722 C 0.26024 0.39514 0.2651 0.39491 0.26875 0.39166 C 0.27083 0.38981 0.27257 0.38727 0.275 0.38611 C 0.29027 0.37847 0.30816 0.37662 0.32291 0.36666 C 0.33732 0.35717 0.34444 0.35671 0.3625 0.35278 C 0.36666 0.35185 0.375 0.35 0.375 0.35 C 0.38819 0.35092 0.40156 0.35046 0.41458 0.35278 C 0.42205 0.35416 0.42413 0.36805 0.43333 0.37222 C 0.43871 0.38634 0.44149 0.39699 0.44982 0.40833 C 0.45625 0.43426 0.44514 0.3912 0.45816 0.43055 C 0.46284 0.44467 0.46562 0.46296 0.46857 0.47778 C 0.46597 0.5162 0.46684 0.55301 0.45208 0.58611 C 0.44965 0.5993 0.44566 0.60578 0.43941 0.61666 C 0.43646 0.6287 0.42534 0.67245 0.425 0.675 C 0.42066 0.7037 0.41823 0.73217 0.41458 0.76111 C 0.41527 0.8037 0.41041 0.84768 0.41875 0.88889 C 0.42639 0.92592 0.45746 0.93819 0.48125 0.94444 C 0.50069 0.94259 0.52014 0.94143 0.53958 0.93889 C 0.55139 0.93727 0.56562 0.92824 0.57708 0.925 C 0.59514 0.91967 0.61319 0.91435 0.63125 0.90833 C 0.64357 0.8919 0.63055 0.90578 0.65416 0.89722 C 0.65659 0.89629 0.65798 0.89282 0.66041 0.89166 C 0.66371 0.89004 0.66736 0.88981 0.67083 0.88889 C 0.69236 0.88981 0.71406 0.8875 0.73541 0.89166 C 0.73923 0.89236 0.74062 0.89977 0.74375 0.90278 C 0.74878 0.90764 0.75486 0.90972 0.76041 0.91389 C 0.7625 0.91852 0.76406 0.92361 0.76649 0.92778 C 0.77031 0.93379 0.77916 0.94444 0.77916 0.94444 C 0.78437 0.96528 0.77673 0.94028 0.7875 0.95833 C 0.78871 0.96065 0.78854 0.96412 0.78958 0.96666 C 0.79323 0.97685 0.79687 0.98541 0.80399 0.99166 C 0.80486 0.99537 0.80503 0.9993 0.80607 1.00278 C 0.8092 1.01065 0.81666 1.025 0.81666 1.025 C 0.81736 1.05463 0.81632 1.08449 0.81875 1.11389 C 0.81909 1.11921 0.82378 1.12268 0.82482 1.12778 C 0.82656 1.13495 0.82586 1.14282 0.82708 1.15 C 0.83021 1.16828 0.83854 1.18541 0.84357 1.20278 C 0.85 1.22384 0.84357 1.21551 0.85416 1.225 C 0.85659 1.23009 0.85764 1.23657 0.86024 1.24166 C 0.86458 1.24977 0.86961 1.25694 0.875 1.26389 C 0.87986 1.27037 0.88576 1.27106 0.89166 1.275 C 0.90104 1.28148 0.91146 1.2875 0.92083 1.29444 C 0.93316 1.3037 0.94531 1.31759 0.95833 1.325 C 0.96076 1.32639 0.96406 1.32639 0.96649 1.32778 C 0.97534 1.33217 0.98055 1.33866 0.98958 1.34166 C 1.00277 1.35347 0.9934 1.34722 1.02066 1.34722 E">
                                      <p:cBhvr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07407E-006 L 1.19305 -1.33797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-1.2599 -0.59444 E">
                                      <p:cBhvr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1.23629 -0.21852 E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C 0.00139 -0.00925 0.00122 -0.01921 0.00417 -0.02777 C 0.00503 -0.03055 0.00851 -0.02916 0.01042 -0.03055 C 0.01337 -0.03287 0.0158 -0.03657 0.01875 -0.03888 C 0.02969 -0.04699 0.02934 -0.04305 0.04167 -0.04722 C 0.05781 -0.05254 0.07292 -0.05833 0.08958 -0.06111 C 0.11979 -0.07893 0.14479 -0.08726 0.175 -0.10277 C 0.20417 -0.11782 0.23142 -0.13935 0.26042 -0.15555 C 0.29323 -0.17384 0.32726 -0.18819 0.36042 -0.20555 C 0.36753 -0.20925 0.42569 -0.24375 0.44792 -0.25277 C 0.4559 -0.25601 0.46458 -0.2574 0.47274 -0.26111 C 0.50052 -0.27338 0.52517 -0.28796 0.55417 -0.29444 C 0.57014 -0.30671 0.58976 -0.31504 0.60399 -0.33055 C 0.62135 -0.34953 0.60816 -0.33865 0.62292 -0.35833 C 0.63941 -0.38032 0.65642 -0.40023 0.67274 -0.42222 C 0.68333 -0.45324 0.70139 -0.47916 0.71024 -0.51111 C 0.72483 -0.56365 0.73785 -0.61689 0.75208 -0.66944 C 0.75903 -0.69537 0.76233 -0.71875 0.77292 -0.74166 C 0.77413 -0.75995 0.77049 -0.77476 0.78316 -0.78055 C 0.79045 -0.77106 0.79566 -0.76018 0.80417 -0.75277 C 0.81441 -0.7324 0.81753 -0.72615 0.83524 -0.71666 C 0.84358 -0.70023 0.85573 -0.69074 0.86667 -0.67777 C 0.87535 -0.66736 0.88333 -0.65555 0.89149 -0.64444 C 0.90417 -0.62777 0.89566 -0.64328 0.90608 -0.63055 C 0.91615 -0.61898 0.92066 -0.60833 0.93333 -0.60277 C 0.93698 -0.59768 0.94201 -0.59398 0.94566 -0.58888 C 0.94757 -0.58657 0.94774 -0.58217 0.94983 -0.58055 C 0.95486 -0.57685 0.96111 -0.57731 0.96649 -0.575 C 0.97274 -0.56226 0.9783 -0.55902 0.98733 -0.55 C 0.99184 -0.5456 0.99306 -0.5368 0.99792 -0.53333 C 1.00104 -0.53101 1.00469 -0.53148 1.00816 -0.53055 C 1.01545 -0.51481 1.02101 -0.50925 1.03108 -0.49722 C 1.03333 -0.49467 1.0349 -0.49074 1.03733 -0.48888 C 1.04045 -0.4868 1.04444 -0.48703 1.04774 -0.48611 C 1.05399 -0.47361 1.06007 -0.46296 1.07083 -0.45833 C 1.07448 -0.45324 1.07726 -0.44675 1.08108 -0.44166 C 1.0842 -0.4375 1.08854 -0.43495 1.09149 -0.43055 C 1.09479 -0.42569 1.09566 -0.41759 1.1 -0.41388 C 1.10938 -0.40555 1.11753 -0.40162 1.12691 -0.39444 C 1.13142 -0.3912 1.1349 -0.38541 1.13941 -0.38333 C 1.15781 -0.37523 1.1401 -0.3824 1.18125 -0.375 C 1.19323 -0.37291 1.20451 -0.36875 1.21667 -0.36666 C 1.26441 -0.37268 1.24583 -0.37222 1.27274 -0.37222 E">
                                      <p:cBhvr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03142 1.39861 E">
                                      <p:cBhvr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31493 -1.30209 E">
                                      <p:cBhvr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5.92593E-006 C -0.02362 0.00116 -0.04844 -0.00439 -0.07084 0.00556 C -0.08508 0.01181 -0.09358 0.02663 -0.10834 0.03056 C -0.11615 0.04353 -0.1191 0.05163 -0.13126 0.05556 C -0.13334 0.06019 -0.13473 0.06575 -0.13751 0.06945 C -0.14376 0.07778 -0.154 0.08334 -0.16042 0.09167 C -0.17379 0.1095 -0.16268 0.10278 -0.17501 0.10834 C -0.18021 0.11343 -0.18438 0.11991 -0.18959 0.12501 C -0.19289 0.12825 -0.19671 0.1301 -0.20001 0.13334 C -0.20834 0.14167 -0.20643 0.14815 -0.21667 0.15278 C -0.23664 0.1794 -0.21112 0.14792 -0.22917 0.1639 C -0.23508 0.16922 -0.24046 0.18218 -0.24376 0.1889 C -0.24619 0.19376 -0.25105 0.19561 -0.25417 0.20001 C -0.26667 0.21667 -0.2724 0.23936 -0.28751 0.25278 C -0.29254 0.27269 -0.28542 0.24862 -0.29584 0.26945 C -0.29879 0.27524 -0.29931 0.28288 -0.30209 0.2889 C -0.30956 0.30556 -0.30834 0.30278 -0.31667 0.3139 C -0.31806 0.31853 -0.31893 0.32362 -0.32084 0.32778 C -0.3224 0.33103 -0.32518 0.33288 -0.32709 0.33612 C -0.32935 0.33959 -0.3316 0.34329 -0.33334 0.34723 C -0.34706 0.37987 -0.32761 0.34329 -0.34376 0.37223 C -0.35018 0.41552 -0.33837 0.34561 -0.35626 0.40556 C -0.35834 0.41228 -0.35678 0.42061 -0.35834 0.42778 C -0.35956 0.43288 -0.36285 0.43681 -0.36459 0.44167 C -0.36633 0.44677 -0.36702 0.45278 -0.36876 0.45834 C -0.37049 0.46413 -0.37292 0.46922 -0.37501 0.47501 C -0.37761 0.49237 -0.38282 0.50857 -0.38751 0.52501 C -0.39515 0.55232 -0.39445 0.57315 -0.41042 0.59445 C -0.41268 0.60672 -0.41355 0.61714 -0.41876 0.62778 C -0.42344 0.6588 -0.41893 0.64769 -0.42709 0.6639 C -0.42987 0.68635 -0.42778 0.67524 -0.43334 0.69723 C -0.43473 0.70278 -0.43751 0.7139 -0.43751 0.7139 C -0.44202 0.75579 -0.44706 0.80626 -0.42709 0.84167 C -0.42206 0.86181 -0.41459 0.87917 -0.40001 0.8889 C -0.39584 0.90556 -0.4014 0.88936 -0.38959 0.90255 C -0.37414 0.91991 -0.40105 0.90348 -0.37501 0.9139 C -0.36581 0.9176 -0.35695 0.92385 -0.34792 0.92778 C -0.33976 0.93149 -0.33872 0.92894 -0.33126 0.93612 C -0.32883 0.93843 -0.32761 0.9426 -0.32501 0.94445 C -0.3198 0.94839 -0.31372 0.94931 -0.30834 0.95278 C -0.30278 0.9639 -0.29983 0.96228 -0.29167 0.96945 C -0.28751 0.99167 -0.27969 0.99653 -0.26876 1.01112 C -0.26407 1.02964 -0.24688 1.04862 -0.23751 1.06112 C -0.2066 1.10232 -0.16181 1.10579 -0.12084 1.10834 C -0.10695 1.12061 -0.12292 1.10834 -0.09584 1.11667 C -0.09289 1.1176 -0.09063 1.1213 -0.08751 1.12223 C -0.08091 1.12408 -0.07362 1.12408 -0.06667 1.12501 C -0.05087 1.13751 -0.06216 1.13033 -0.04792 1.13612 C -0.04376 1.13774 -0.03542 1.14167 -0.03542 1.14167 C -0.02778 1.15718 -0.0356 1.14491 -0.02501 1.15278 C -0.02067 1.15603 -0.01737 1.16228 -0.01251 1.1639 C 0.00104 1.16829 0.01598 1.17107 0.02709 1.18334 C 0.05139 1.21042 0.03455 1.2014 0.05 1.20834 C 0.05608 1.22061 0.05973 1.23218 0.06667 1.24445 C 0.0698 1.26112 0.07813 1.27478 0.08125 1.29167 C 0.08525 1.31297 0.08334 1.31552 0.08334 1.34445 E">
                                      <p:cBhvr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7:39Z</dcterms:modified>
  <cp:revision>63</cp:revision>
  <dc:subject/>
  <dc:title>TITLE</dc:title>
</cp:coreProperties>
</file>