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DE33-E11D-47F4-BCD1-A0D8073C56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8C03-C0C0-4AF6-96D6-DF20107FEE3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D25B-13F2-46FF-8F3E-20BD7FE6B2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3A1-921A-42E0-9FE6-C861160B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CDA-E0FC-4939-98DC-49990612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47F-EA8C-4114-83FA-9DA5407A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974-4BA7-4B6C-9933-32D3A9F0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64B-54A1-4ABC-988C-58DB743D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BDE-70E0-4282-A732-AFFC43F9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D8A-993B-49FF-9BD0-6738A028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938-1AD0-40D4-9133-77568FF9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A10-2359-4EE9-921C-638CED30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584-DB54-4EBF-A5EF-6743FBA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D4D-B1F3-4A96-B49D-7E4AE28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E39-8584-45D2-B245-32257FE7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BB12-2CC9-4873-A59B-841C2C9873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020000" y="5805360"/>
            <a:ext cx="2124000" cy="1052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95280" y="1773360"/>
          <a:ext cx="8424720" cy="4846680"/>
        </p:xfrm>
        <a:graphic>
          <a:graphicData uri="http://schemas.openxmlformats.org/drawingml/2006/table">
            <a:tbl>
              <a:tblPr/>
              <a:tblGrid>
                <a:gridCol w="2736720"/>
                <a:gridCol w="5688000"/>
              </a:tblGrid>
              <a:tr h="969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4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Dadhand"/>
                        </a:rPr>
                        <a:t>queso,  zum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  <a:tr h="96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4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Dadhand"/>
                        </a:rPr>
                        <a:t>limonada,  pizz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  <a:tr h="969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ércol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4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Dadhand"/>
                        </a:rPr>
                        <a:t>jamón,  lech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  <a:tr h="96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ev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4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Dadhand"/>
                        </a:rPr>
                        <a:t>queso,  limonad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  <a:tr h="970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rn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4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Dadhand"/>
                        </a:rPr>
                        <a:t>pizza,  zum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50" name="TextBox 2"/>
          <p:cNvSpPr/>
          <p:nvPr/>
        </p:nvSpPr>
        <p:spPr>
          <a:xfrm>
            <a:off x="395280" y="692280"/>
            <a:ext cx="5400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Verdad o mentir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79280" y="189000"/>
            <a:ext cx="8856720" cy="64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They’re having cheese on Monday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They’re having ham on Wednesday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They’re having milk twice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On Friday they’re having juice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They’re having lemonade on Friday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This person has a food and a drink every day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a"/>
                </a:solidFill>
                <a:latin typeface="Comic Sans MS"/>
              </a:rPr>
              <a:t>On Tuesday they’re only having foods with masculine words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17:10Z</dcterms:modified>
  <cp:revision>142</cp:revision>
  <dc:subject/>
  <dc:title>TITLE</dc:title>
</cp:coreProperties>
</file>