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7AC0-D9E9-46E1-AC08-80F82370EA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FF53-CB89-4CC9-88BF-C0CC136157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2B74-BDCF-4F36-A0F1-B3D501EBD3C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543-1F10-465A-8DFD-EA0FFA05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713-28B5-4203-AFB8-858B6435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72F-388E-4D7A-91FB-4C57CCED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86F-73F6-489F-B6A4-14F5B3E2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38A-8F52-4101-91C2-3A811378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A7E-81DF-46C3-9832-FD148888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998-0AB7-42DF-98BE-6E2737F2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161-1E4F-4003-9B5D-C9B4E88F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EA9-5D21-4AEB-810F-B2855A4A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DA4-B4CB-43F3-869B-435770EF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58A-F441-457C-B420-DCF3C27F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C97-83AC-4A5E-ABE2-9C020609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190D-8D80-44E9-BC1F-EAC3B1D6BB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020000" y="5805360"/>
            <a:ext cx="2124000" cy="1052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95280" y="1773360"/>
          <a:ext cx="8424720" cy="4846680"/>
        </p:xfrm>
        <a:graphic>
          <a:graphicData uri="http://schemas.openxmlformats.org/drawingml/2006/table">
            <a:tbl>
              <a:tblPr/>
              <a:tblGrid>
                <a:gridCol w="2736720"/>
                <a:gridCol w="5688000"/>
              </a:tblGrid>
              <a:tr h="969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4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Dadhand"/>
                        </a:rPr>
                        <a:t>queso,  zum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  <a:tr h="96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4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Dadhand"/>
                        </a:rPr>
                        <a:t>limonada,  pizz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  <a:tr h="969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ércol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4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Dadhand"/>
                        </a:rPr>
                        <a:t>jamón,  lech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  <a:tr h="96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ev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4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Dadhand"/>
                        </a:rPr>
                        <a:t>queso,  limonad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  <a:tr h="970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rn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4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Dadhand"/>
                        </a:rPr>
                        <a:t>pizza,  zum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50" name="TextBox 2"/>
          <p:cNvSpPr/>
          <p:nvPr/>
        </p:nvSpPr>
        <p:spPr>
          <a:xfrm>
            <a:off x="395280" y="692280"/>
            <a:ext cx="5400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Verdad o mentir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79280" y="189000"/>
            <a:ext cx="8856720" cy="64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a"/>
                </a:solidFill>
                <a:latin typeface="Comic Sans MS"/>
              </a:rPr>
              <a:t>They’re having cheese on Monday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a"/>
                </a:solidFill>
                <a:latin typeface="Comic Sans MS"/>
              </a:rPr>
              <a:t>They’re having ham on Wednesday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a"/>
                </a:solidFill>
                <a:latin typeface="Comic Sans MS"/>
              </a:rPr>
              <a:t>They’re having milk twice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a"/>
                </a:solidFill>
                <a:latin typeface="Comic Sans MS"/>
              </a:rPr>
              <a:t>On Friday they’re having juice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a"/>
                </a:solidFill>
                <a:latin typeface="Comic Sans MS"/>
              </a:rPr>
              <a:t>They’re having lemonade on Friday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a"/>
                </a:solidFill>
                <a:latin typeface="Comic Sans MS"/>
              </a:rPr>
              <a:t>This person has a food and a drink every day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a"/>
                </a:solidFill>
                <a:latin typeface="Comic Sans MS"/>
              </a:rPr>
              <a:t>On Tuesday they’re only having foods with masculine words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17:10Z</dcterms:modified>
  <cp:revision>142</cp:revision>
  <dc:subject/>
  <dc:title>TITLE</dc:title>
</cp:coreProperties>
</file>