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E28E-2D56-448E-8182-086A317547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8430-3A83-4A48-B829-AD1D604F3C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72CD-6A01-43DC-91D2-415F370937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02B6-40E1-46AB-B12B-81042240D7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86C5-5C5B-4830-BB6E-06E8A0E167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398F-8435-4233-996C-F29BE73942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1295-3BF4-4FE0-A4C2-422FAD9E19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B70-E80E-4663-BC4B-573F4CC5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0EA-AA61-4197-AA2E-E8CC0E86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7A0-15C6-4616-B8A6-F478C574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D81-1693-43A3-AC93-896FB703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526-94BF-4D00-9765-3319777D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4BE-C092-4872-BD80-368466C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E11-E75E-4639-B299-22C63C82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13B-FD56-4E46-845B-E40CC7E8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155-14D0-4AB7-A33C-5D2E207F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CAE-FE50-45F5-830D-1548669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066-E4F3-4342-996A-B3F8D2A5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C87-3C22-4D01-87E3-F6AB489D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DDBB-2D77-44C6-A9F9-1D58859CE7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1"/>
          <p:cNvSpPr/>
          <p:nvPr/>
        </p:nvSpPr>
        <p:spPr>
          <a:xfrm>
            <a:off x="1403280" y="4581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651640" y="458136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1"/>
          <p:cNvSpPr/>
          <p:nvPr/>
        </p:nvSpPr>
        <p:spPr>
          <a:xfrm>
            <a:off x="1619280" y="45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435640" y="4581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1"/>
          <p:cNvSpPr/>
          <p:nvPr/>
        </p:nvSpPr>
        <p:spPr>
          <a:xfrm>
            <a:off x="1835280" y="45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219640" y="4581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1"/>
          <p:cNvSpPr/>
          <p:nvPr/>
        </p:nvSpPr>
        <p:spPr>
          <a:xfrm>
            <a:off x="2050920" y="4581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003640" y="4581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" name="Group 2"/>
          <p:cNvGrpSpPr/>
          <p:nvPr/>
        </p:nvGrpSpPr>
        <p:grpSpPr>
          <a:xfrm>
            <a:off x="2340000" y="4581360"/>
            <a:ext cx="4535640" cy="2288520"/>
            <a:chOff x="2340000" y="4581360"/>
            <a:chExt cx="4535640" cy="2288520"/>
          </a:xfrm>
        </p:grpSpPr>
        <p:sp>
          <p:nvSpPr>
            <p:cNvPr id="73" name="TextBox 1"/>
            <p:cNvSpPr/>
            <p:nvPr/>
          </p:nvSpPr>
          <p:spPr>
            <a:xfrm>
              <a:off x="2340000" y="4581360"/>
              <a:ext cx="201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99ccff"/>
                  </a:solidFill>
                  <a:latin typeface="Comic Sans MS"/>
                </a:rPr>
                <a:t>diez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TextBox 4"/>
            <p:cNvSpPr/>
            <p:nvPr/>
          </p:nvSpPr>
          <p:spPr>
            <a:xfrm>
              <a:off x="4212000" y="4581360"/>
              <a:ext cx="64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99ccff"/>
                  </a:solidFill>
                  <a:latin typeface="Comic Sans MS"/>
                </a:rPr>
                <a:t>y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TextBox 5"/>
            <p:cNvSpPr/>
            <p:nvPr/>
          </p:nvSpPr>
          <p:spPr>
            <a:xfrm>
              <a:off x="4716000" y="4581360"/>
              <a:ext cx="2159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99ccff"/>
                  </a:solidFill>
                  <a:latin typeface="Comic Sans MS"/>
                </a:rPr>
                <a:t>ocho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" name="TextBox 7"/>
          <p:cNvSpPr/>
          <p:nvPr/>
        </p:nvSpPr>
        <p:spPr>
          <a:xfrm>
            <a:off x="2492280" y="5805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c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292640" y="58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579920" y="5805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Straight Connector 10"/>
          <p:cNvSpPr/>
          <p:nvPr/>
        </p:nvSpPr>
        <p:spPr>
          <a:xfrm>
            <a:off x="2195640" y="5181480"/>
            <a:ext cx="4680000" cy="119160"/>
          </a:xfrm>
          <a:prstGeom prst="line">
            <a:avLst/>
          </a:prstGeom>
          <a:ln w="7632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4:58Z</dcterms:modified>
  <cp:revision>112</cp:revision>
  <dc:subject/>
  <dc:title>TITLE</dc:title>
</cp:coreProperties>
</file>