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E524-00CB-4BBC-BE73-0D7A4ABC092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B4AF-13EC-481F-BEF4-3B6F53D1EEC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25B7-F167-4944-B562-F1691EA2EC0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EA7C-B09E-4EDB-9FA3-E715D48EEE5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1485-D884-4610-A982-760BBF6D23E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1AC8-EAE2-4CEC-8747-6ACE53C7737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9232-8F6C-4B01-80C8-BF9F2486A44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3C3F-D32A-4C91-B509-9D8DFD039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E30F-BA76-4B39-B18C-D7F3332B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CF69-10DD-4DA9-B44F-8A2E9364E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8CD7-01DC-4B88-8B08-AD6C74843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6E01-BAC6-43E3-81D8-67A67CEF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DA0B-6986-4F53-BFCE-DAEB151D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E824-BFBA-430A-A63B-703F78BE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00EB-D9F8-4915-AF7C-BF6D664B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FEB2-B995-48B6-B071-597EDC56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59FB-58B5-4DCE-A308-B52789EF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B50B-B27A-4567-9292-391092D2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AA2D-E0DC-410F-A93F-C9F6D8A1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77B4-87EE-4C1B-B76A-5C7680135A1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11280" y="1052640"/>
            <a:ext cx="2087640" cy="2087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419640" y="1052640"/>
            <a:ext cx="2160360" cy="2103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300720" y="3860640"/>
            <a:ext cx="2374920" cy="1838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395280" y="3933720"/>
            <a:ext cx="2266920" cy="1754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rcRect l="1483" t="1759" r="2573" b="2894"/>
          <a:stretch/>
        </p:blipFill>
        <p:spPr>
          <a:xfrm>
            <a:off x="3132000" y="3933720"/>
            <a:ext cx="2772000" cy="1763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6227640" y="1052640"/>
            <a:ext cx="21607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39640" y="414972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332000" y="692280"/>
            <a:ext cx="2160360" cy="2103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348000" y="3500280"/>
            <a:ext cx="2374920" cy="1838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4859280" y="404640"/>
            <a:ext cx="2266920" cy="1754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6588000" y="3141720"/>
            <a:ext cx="21607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084720" y="364500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003640" y="333360"/>
            <a:ext cx="2374920" cy="1838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619280" y="4365720"/>
            <a:ext cx="2266920" cy="1753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403280" y="76500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124000" y="148428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900000" y="4076640"/>
            <a:ext cx="2374920" cy="1838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084720" y="2852640"/>
            <a:ext cx="226728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356000" y="4076640"/>
            <a:ext cx="2374920" cy="1838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547640" y="1484280"/>
            <a:ext cx="226728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23749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0-06-21T13:38:06Z</dcterms:modified>
  <cp:revision>175</cp:revision>
  <dc:subject/>
  <dc:title>TITLE</dc:title>
</cp:coreProperties>
</file>