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0B77-4C20-4425-8BF3-FD314F6932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C160-160C-4F8C-AB94-86916DE422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971C-B9F3-4D99-BE9E-9D9B6878F4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72A-64F0-43F2-BD76-E3EABC0158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1D33-D992-4F47-B726-FB438AD9AB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AF7C-5626-47DD-9A2A-E298279B59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A52C-887F-4928-A6ED-F53960B7A8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DD4-73C0-439B-BB36-3BC6A3AC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84C-AF8C-4DFB-B40C-76F027E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C43-9DE2-44A8-B60F-9D35DE19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3BF-DCD6-423F-934B-702EF9FB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EFC-C663-4A61-8E20-6297C948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ACD-188C-422B-A715-7F16EA71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7A2-00C4-422C-9D5B-DB5C490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69A-D222-4429-8FB1-1EB6826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A09-174A-4A22-90C2-74EE8657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3E8-C808-480C-B5E1-C3C2FBF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274-16B0-4687-88A6-DFDAF31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AFF-63D3-474A-B1D7-CF0DF1FC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AB6E-EE54-4F2D-96A4-076446F309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19640" y="105264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00720" y="3860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2266920" cy="175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483" t="1759" r="2573" b="2894"/>
          <a:stretch/>
        </p:blipFill>
        <p:spPr>
          <a:xfrm>
            <a:off x="3132000" y="3933720"/>
            <a:ext cx="2772000" cy="17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227640" y="105264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69228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348000" y="350028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859280" y="404640"/>
            <a:ext cx="2266920" cy="1754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588000" y="314172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2266920" cy="175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403280" y="765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2672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47640" y="1484280"/>
            <a:ext cx="22672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374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8:06Z</dcterms:modified>
  <cp:revision>175</cp:revision>
  <dc:subject/>
  <dc:title>TITLE</dc:title>
</cp:coreProperties>
</file>