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22FC-0727-4C37-9C51-0F6F1C8DD8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028E-A46E-405C-8C73-E05535FEC8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0C25-3A12-423F-BF66-CCD2A35C2E6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2F3-D992-46CF-BA8E-B3354760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391-0FF1-4936-9A3A-459D16E5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A15-4001-4985-94BE-F861C6ED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542-2442-4497-AA37-B831E6A9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D02-586C-4F53-ADFF-933C3E00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C85-7EB6-4CF6-A38C-F194E098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ED2-B906-4799-BD51-283CF773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1F0-2C43-4D1E-B9C0-6AF4B8F6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5B7-855D-4512-B92F-A624FCC1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DFB-AF03-487C-9B93-7154E95B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8EA-3E23-48FE-987B-62F4298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B41-D3EB-47AD-8A2A-14F4B1F3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32D1-1FEF-46BD-B773-329D135C3E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419640" y="1052640"/>
            <a:ext cx="216036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00720" y="386064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95280" y="3933720"/>
            <a:ext cx="2266920" cy="175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1483" t="1759" r="2573" b="2894"/>
          <a:stretch/>
        </p:blipFill>
        <p:spPr>
          <a:xfrm>
            <a:off x="3132000" y="3933720"/>
            <a:ext cx="2772000" cy="176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6227640" y="10526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19640" y="371628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300720" y="3716280"/>
            <a:ext cx="2160720" cy="2103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419640" y="1413000"/>
            <a:ext cx="2374560" cy="1838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300720" y="1413000"/>
            <a:ext cx="2266920" cy="1753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rcRect l="1483" t="1759" r="2573" b="2894"/>
          <a:stretch/>
        </p:blipFill>
        <p:spPr>
          <a:xfrm>
            <a:off x="324000" y="1413000"/>
            <a:ext cx="2771640" cy="176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84360" y="364500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4292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57340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40:22Z</dcterms:modified>
  <cp:revision>166</cp:revision>
  <dc:subject/>
  <dc:title>TITLE</dc:title>
</cp:coreProperties>
</file>