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7C59-4C1F-43A8-BCC9-9F1361E244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2F6C-E15C-4075-8774-57241A6AC6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0E23-FB20-4CE8-85B0-1DE72218AF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01B-4666-4FE6-9750-1B2CC7D5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140-300B-4683-8D40-620C88A6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C73-D8D1-4010-AF92-7FB6D62B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29F-14CA-47C1-A413-33C656DA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E1E-7043-40FC-9EC2-2232FF1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E90-2681-40B2-BA9A-9A848D47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1AC-DE36-46D3-8D12-2993B299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D4C-DD93-4268-AE0A-562B5F95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100-74AA-4013-BFDD-6E25C356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70F-C8DF-47AB-AD90-B88007DF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1AD-F289-4D0C-A87A-7031128C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8A1-1FE0-4599-AABB-402F23F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850A-CA65-4ABA-82AB-CC12C5D342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19640" y="1052640"/>
            <a:ext cx="216036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00720" y="386064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2266920" cy="175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1483" t="1759" r="2573" b="2894"/>
          <a:stretch/>
        </p:blipFill>
        <p:spPr>
          <a:xfrm>
            <a:off x="3132000" y="3933720"/>
            <a:ext cx="2772000" cy="176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6227640" y="10526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19640" y="371628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300720" y="3716280"/>
            <a:ext cx="2160720" cy="2103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419640" y="1413000"/>
            <a:ext cx="2374560" cy="1838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300720" y="1413000"/>
            <a:ext cx="2266920" cy="175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rcRect l="1483" t="1759" r="2573" b="2894"/>
          <a:stretch/>
        </p:blipFill>
        <p:spPr>
          <a:xfrm>
            <a:off x="324000" y="1413000"/>
            <a:ext cx="2771640" cy="176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84360" y="364500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292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40:22Z</dcterms:modified>
  <cp:revision>166</cp:revision>
  <dc:subject/>
  <dc:title>TITLE</dc:title>
</cp:coreProperties>
</file>