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9438-40F6-40FE-875D-808689C8C6D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57D2-14EF-42A4-84E9-E648819A605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91EC-F9A1-4494-9DA3-E43A885A8FF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2013-AB22-42AD-AB02-FFB030DC6D8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BFA5-71AB-49FE-9605-4DE3D7583D6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C19F-B66F-4604-83EB-D692EAE89F7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15E0-D767-4529-945B-12F8F40DC9D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0B51-CDBB-473B-A077-81DE888E577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8228-3FFB-4A67-AF51-1371C13EC8A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6AE9-0BD3-4ECD-B432-5D784E8296B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9A7E-5CF5-4A98-A259-2D58AF675DD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FA60-C788-4767-B48E-F1177C2D2E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F93E-2B92-4A21-ADFC-03532F94284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4BC4-7727-4410-9264-1AF3202D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477-45A8-43BE-956D-35F03612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9DB-20DD-4B29-8D76-5BF1B48B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F5CF-3F63-47A9-8FDE-7180378F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DC5D-7D2B-416E-AF75-156DC416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300-A4CB-4708-AEC2-6599869F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F9A6-A623-4C6C-9CE3-68768248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A8E-1339-429C-B236-F12558CC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339-FA1C-4649-B9F1-68EE9218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286D-D194-4CF2-A9B4-1DED23C6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E4D-CFEB-4FB7-A02B-74B85F2F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7BC-FB02-4DB2-9A95-D9262420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970A-B6C1-4824-BC58-3154F94B209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slideLayout" Target="../slideLayouts/slideLayout2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slideLayout" Target="../slideLayouts/slideLayout2.xml"/><Relationship Id="rId1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9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9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9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5724360" y="476280"/>
            <a:ext cx="1252800" cy="1511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8395" t="7677" r="8395" b="0"/>
          <a:stretch/>
        </p:blipFill>
        <p:spPr>
          <a:xfrm>
            <a:off x="539640" y="333360"/>
            <a:ext cx="1800360" cy="13032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6877080" y="4437000"/>
            <a:ext cx="1800000" cy="1512720"/>
            <a:chOff x="6877080" y="4437000"/>
            <a:chExt cx="1800000" cy="1512720"/>
          </a:xfrm>
        </p:grpSpPr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7315560" y="5181840"/>
              <a:ext cx="924120" cy="76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5"/>
            <a:stretch/>
          </p:blipFill>
          <p:spPr>
            <a:xfrm>
              <a:off x="6877080" y="4437000"/>
              <a:ext cx="924480" cy="76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6"/>
            <a:stretch/>
          </p:blipFill>
          <p:spPr>
            <a:xfrm>
              <a:off x="7752960" y="4437000"/>
              <a:ext cx="924120" cy="767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2484360" y="47991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755640" y="2773440"/>
            <a:ext cx="1690560" cy="1317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rcRect l="0" t="7646" r="0" b="10227"/>
          <a:stretch/>
        </p:blipFill>
        <p:spPr>
          <a:xfrm>
            <a:off x="3132000" y="765000"/>
            <a:ext cx="1874880" cy="1192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2916360" y="306864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4716360" y="2708280"/>
            <a:ext cx="1368360" cy="1332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2"/>
          <a:stretch/>
        </p:blipFill>
        <p:spPr>
          <a:xfrm>
            <a:off x="7380360" y="11736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3"/>
          <a:stretch/>
        </p:blipFill>
        <p:spPr>
          <a:xfrm>
            <a:off x="395280" y="4653000"/>
            <a:ext cx="1728720" cy="1338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4"/>
          <a:srcRect l="1483" t="1759" r="2573" b="2894"/>
          <a:stretch/>
        </p:blipFill>
        <p:spPr>
          <a:xfrm>
            <a:off x="4643280" y="5013360"/>
            <a:ext cx="1764000" cy="1122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5"/>
          <a:stretch/>
        </p:blipFill>
        <p:spPr>
          <a:xfrm>
            <a:off x="6659640" y="2492280"/>
            <a:ext cx="151272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8395" t="7677" r="8395" b="0"/>
          <a:stretch/>
        </p:blipFill>
        <p:spPr>
          <a:xfrm>
            <a:off x="5292720" y="765000"/>
            <a:ext cx="1800360" cy="130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788000" y="335772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692360" y="4581360"/>
            <a:ext cx="136836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rcRect l="8395" t="7677" r="8395" b="0"/>
          <a:stretch/>
        </p:blipFill>
        <p:spPr>
          <a:xfrm>
            <a:off x="2700360" y="1628640"/>
            <a:ext cx="1800360" cy="1303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516720" y="3284640"/>
            <a:ext cx="1368360" cy="13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708360" y="2492280"/>
            <a:ext cx="136836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4500720" y="476280"/>
            <a:ext cx="1252440" cy="1511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8395" t="7677" r="8395" b="0"/>
          <a:stretch/>
        </p:blipFill>
        <p:spPr>
          <a:xfrm>
            <a:off x="7093080" y="2492280"/>
            <a:ext cx="1800000" cy="130356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395280" y="2205000"/>
            <a:ext cx="1800000" cy="1512720"/>
            <a:chOff x="395280" y="2205000"/>
            <a:chExt cx="1800000" cy="1512720"/>
          </a:xfrm>
        </p:grpSpPr>
        <p:pic>
          <p:nvPicPr>
            <p:cNvPr id="68" name="" descr=""/>
            <p:cNvPicPr/>
            <p:nvPr/>
          </p:nvPicPr>
          <p:blipFill>
            <a:blip r:embed="rId4"/>
            <a:stretch/>
          </p:blipFill>
          <p:spPr>
            <a:xfrm>
              <a:off x="833760" y="2949840"/>
              <a:ext cx="924120" cy="76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5"/>
            <a:stretch/>
          </p:blipFill>
          <p:spPr>
            <a:xfrm>
              <a:off x="395280" y="2205000"/>
              <a:ext cx="924480" cy="76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6"/>
            <a:stretch/>
          </p:blipFill>
          <p:spPr>
            <a:xfrm>
              <a:off x="1271160" y="2205000"/>
              <a:ext cx="924120" cy="767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1547640" y="47628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4859280" y="2852640"/>
            <a:ext cx="1690920" cy="1317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rcRect l="0" t="7646" r="0" b="10227"/>
          <a:stretch/>
        </p:blipFill>
        <p:spPr>
          <a:xfrm>
            <a:off x="2700360" y="2421000"/>
            <a:ext cx="1874880" cy="1192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2627280" y="4365720"/>
            <a:ext cx="1368360" cy="1331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1"/>
          <a:stretch/>
        </p:blipFill>
        <p:spPr>
          <a:xfrm>
            <a:off x="7093080" y="486900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2"/>
          <a:stretch/>
        </p:blipFill>
        <p:spPr>
          <a:xfrm>
            <a:off x="7164360" y="476280"/>
            <a:ext cx="1728720" cy="1338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3"/>
          <a:srcRect l="1483" t="1759" r="2573" b="2894"/>
          <a:stretch/>
        </p:blipFill>
        <p:spPr>
          <a:xfrm>
            <a:off x="4643280" y="5013360"/>
            <a:ext cx="1764000" cy="1122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4"/>
          <a:stretch/>
        </p:blipFill>
        <p:spPr>
          <a:xfrm>
            <a:off x="611280" y="4508640"/>
            <a:ext cx="1512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2556000" y="5013360"/>
            <a:ext cx="1252440" cy="151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rcRect l="8395" t="7677" r="8395" b="0"/>
          <a:stretch/>
        </p:blipFill>
        <p:spPr>
          <a:xfrm>
            <a:off x="6372360" y="476280"/>
            <a:ext cx="1800000" cy="1303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588000" y="4292640"/>
            <a:ext cx="1690920" cy="1317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rcRect l="0" t="7646" r="0" b="10227"/>
          <a:stretch/>
        </p:blipFill>
        <p:spPr>
          <a:xfrm>
            <a:off x="1116000" y="620640"/>
            <a:ext cx="1874880" cy="119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7164360" y="2492280"/>
            <a:ext cx="1368360" cy="1332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3635280" y="234936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9"/>
          <a:stretch/>
        </p:blipFill>
        <p:spPr>
          <a:xfrm>
            <a:off x="468360" y="2205000"/>
            <a:ext cx="1728720" cy="1338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0"/>
          <a:srcRect l="1483" t="1759" r="2573" b="2894"/>
          <a:stretch/>
        </p:blipFill>
        <p:spPr>
          <a:xfrm>
            <a:off x="3851280" y="333360"/>
            <a:ext cx="1763640" cy="1122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1"/>
          <a:stretch/>
        </p:blipFill>
        <p:spPr>
          <a:xfrm>
            <a:off x="4284720" y="5013360"/>
            <a:ext cx="1512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6227640" y="692280"/>
            <a:ext cx="1252800" cy="1511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rcRect l="8395" t="7677" r="8395" b="0"/>
          <a:stretch/>
        </p:blipFill>
        <p:spPr>
          <a:xfrm>
            <a:off x="5435640" y="4724280"/>
            <a:ext cx="1800360" cy="1303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395280" y="404640"/>
            <a:ext cx="1690560" cy="131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rcRect l="0" t="7646" r="0" b="10227"/>
          <a:stretch/>
        </p:blipFill>
        <p:spPr>
          <a:xfrm>
            <a:off x="6516720" y="2637000"/>
            <a:ext cx="1874880" cy="1191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4427640" y="765000"/>
            <a:ext cx="1368360" cy="133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3132000" y="501336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rcRect l="1483" t="1759" r="2573" b="2894"/>
          <a:stretch/>
        </p:blipFill>
        <p:spPr>
          <a:xfrm>
            <a:off x="3924360" y="3284640"/>
            <a:ext cx="1763640" cy="112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1763640" y="1844640"/>
            <a:ext cx="151308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6804000" y="2492280"/>
            <a:ext cx="1252440" cy="1511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8395" t="7677" r="8395" b="0"/>
          <a:stretch/>
        </p:blipFill>
        <p:spPr>
          <a:xfrm>
            <a:off x="3203640" y="3141720"/>
            <a:ext cx="1800000" cy="1303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940360" y="549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5435640" y="4365720"/>
            <a:ext cx="1690560" cy="1317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395280" y="2565360"/>
            <a:ext cx="1368360" cy="1332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3203640" y="105264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rcRect l="1483" t="1759" r="2573" b="2894"/>
          <a:stretch/>
        </p:blipFill>
        <p:spPr>
          <a:xfrm>
            <a:off x="2843280" y="5229360"/>
            <a:ext cx="1763640" cy="112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684360" y="5013360"/>
            <a:ext cx="1512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2556000" y="5157720"/>
            <a:ext cx="125244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8395" t="7677" r="8395" b="0"/>
          <a:stretch/>
        </p:blipFill>
        <p:spPr>
          <a:xfrm>
            <a:off x="7020000" y="2349360"/>
            <a:ext cx="1800000" cy="1303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451640" y="436572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3132000" y="620640"/>
            <a:ext cx="1690920" cy="1317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867280" y="765000"/>
            <a:ext cx="1368720" cy="1332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rcRect l="1483" t="1759" r="2573" b="2894"/>
          <a:stretch/>
        </p:blipFill>
        <p:spPr>
          <a:xfrm>
            <a:off x="1692360" y="2997360"/>
            <a:ext cx="1763640" cy="1122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468360" y="1052640"/>
            <a:ext cx="1512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4572000" y="2997360"/>
            <a:ext cx="125244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rcRect l="8395" t="7677" r="8395" b="0"/>
          <a:stretch/>
        </p:blipFill>
        <p:spPr>
          <a:xfrm>
            <a:off x="1042920" y="2997360"/>
            <a:ext cx="1800360" cy="1303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796000" y="62064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2916360" y="5229360"/>
            <a:ext cx="1690560" cy="1317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332000" y="1125360"/>
            <a:ext cx="1368360" cy="1332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5580000" y="5084640"/>
            <a:ext cx="151308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1692360" y="4941720"/>
            <a:ext cx="1252440" cy="1511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8395" t="7677" r="8395" b="0"/>
          <a:stretch/>
        </p:blipFill>
        <p:spPr>
          <a:xfrm>
            <a:off x="3276720" y="476280"/>
            <a:ext cx="1800000" cy="1303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940360" y="2781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492360" y="3789360"/>
            <a:ext cx="1368720" cy="1332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258920" y="1916280"/>
            <a:ext cx="1512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5292720" y="4869000"/>
            <a:ext cx="1252440" cy="151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8395" t="7677" r="8395" b="0"/>
          <a:stretch/>
        </p:blipFill>
        <p:spPr>
          <a:xfrm>
            <a:off x="1763640" y="4941720"/>
            <a:ext cx="1800360" cy="1303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979640" y="242100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076720" y="2637000"/>
            <a:ext cx="1368360" cy="13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6-21T13:35:56Z</dcterms:modified>
  <cp:revision>175</cp:revision>
  <dc:subject/>
  <dc:title>TITLE</dc:title>
</cp:coreProperties>
</file>