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F75-B111-436F-9DD2-FE639B1E15E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01C9-604C-40E9-9189-827F12562D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CDA-9484-469F-8092-2C7BE96D94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B60A-3838-4359-8051-B2FDF61C7B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A02-D14A-4BC4-8AA3-BD4562364D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8CF-95F0-4F1D-903C-8CB1970231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ACE6-609E-4DFB-90EA-A2CF9F26C4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B54-E97D-4B4B-8F52-313647859F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6AE-DB5F-4BF6-A360-67B6F26862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36C-1BBB-42EB-925E-FAD49F8F80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471-4AE1-4950-9E41-AFF1C85B65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7CB-3DBE-4187-9479-62275C35D2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0F88-213A-45AB-A8A6-18718D42D3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6B7-C27F-4AE8-B72C-FF719EDF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739-F909-4892-B88F-31004776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CD6-9989-4A4B-ADEF-BCD0A1B9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03F-A138-4BC9-AFDD-0BE75998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996-1D31-43BE-A112-7E0E46B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5E0-9D68-4ABD-B50D-50A11A6F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2EE-F784-45B1-B494-812EC50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180-EAC6-4E6D-B8FF-6FDA7F63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775-D72E-4A64-BF4A-AC295D5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5C8-E48E-4D4C-A686-0600616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5DF-E2FE-4CAC-9BD2-72159A5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388-1AF5-4958-BFFD-905DAB4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FCE0-8F70-4981-AE32-EA7F976226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2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724360" y="476280"/>
            <a:ext cx="125280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539640" y="333360"/>
            <a:ext cx="1800360" cy="13032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6877080" y="4437000"/>
            <a:ext cx="1800000" cy="1512720"/>
            <a:chOff x="6877080" y="4437000"/>
            <a:chExt cx="1800000" cy="151272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7315560" y="5181840"/>
              <a:ext cx="92412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877080" y="4437000"/>
              <a:ext cx="92448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7752960" y="4437000"/>
              <a:ext cx="924120" cy="76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484360" y="47991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55640" y="277344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132000" y="76500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2916360" y="3068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4716360" y="270828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7380360" y="117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95280" y="4653000"/>
            <a:ext cx="172872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rcRect l="1483" t="1759" r="2573" b="2894"/>
          <a:stretch/>
        </p:blipFill>
        <p:spPr>
          <a:xfrm>
            <a:off x="4643280" y="5013360"/>
            <a:ext cx="1764000" cy="112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6659640" y="2492280"/>
            <a:ext cx="1512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5292720" y="76500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88000" y="3357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92360" y="4581360"/>
            <a:ext cx="1368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2700360" y="162864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13683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1368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4500720" y="47628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7093080" y="2492280"/>
            <a:ext cx="1800000" cy="1303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95280" y="2205000"/>
            <a:ext cx="1800000" cy="1512720"/>
            <a:chOff x="395280" y="2205000"/>
            <a:chExt cx="1800000" cy="1512720"/>
          </a:xfrm>
        </p:grpSpPr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833760" y="2949840"/>
              <a:ext cx="92412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395280" y="2205000"/>
              <a:ext cx="92448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1271160" y="2205000"/>
              <a:ext cx="924120" cy="76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547640" y="47628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859280" y="2852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2700360" y="242100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2627280" y="4365720"/>
            <a:ext cx="1368360" cy="133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093080" y="4869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7164360" y="476280"/>
            <a:ext cx="1728720" cy="133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rcRect l="1483" t="1759" r="2573" b="2894"/>
          <a:stretch/>
        </p:blipFill>
        <p:spPr>
          <a:xfrm>
            <a:off x="4643280" y="5013360"/>
            <a:ext cx="1764000" cy="112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611280" y="450864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2556000" y="501336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6372360" y="47628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588000" y="4292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1116000" y="620640"/>
            <a:ext cx="1874880" cy="11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164360" y="249228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635280" y="2349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468360" y="2205000"/>
            <a:ext cx="1728720" cy="133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rcRect l="1483" t="1759" r="2573" b="2894"/>
          <a:stretch/>
        </p:blipFill>
        <p:spPr>
          <a:xfrm>
            <a:off x="3851280" y="333360"/>
            <a:ext cx="1763640" cy="112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4284720" y="501336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227640" y="692280"/>
            <a:ext cx="125280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5435640" y="472428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1690560" cy="131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0" t="7646" r="0" b="10227"/>
          <a:stretch/>
        </p:blipFill>
        <p:spPr>
          <a:xfrm>
            <a:off x="6516720" y="2637000"/>
            <a:ext cx="1874880" cy="119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427640" y="76500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132000" y="501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rcRect l="1483" t="1759" r="2573" b="2894"/>
          <a:stretch/>
        </p:blipFill>
        <p:spPr>
          <a:xfrm>
            <a:off x="3924360" y="328464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763640" y="1844640"/>
            <a:ext cx="1513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804000" y="249228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3203640" y="314172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940360" y="549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435640" y="436572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95280" y="256536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203640" y="1052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rcRect l="1483" t="1759" r="2573" b="2894"/>
          <a:stretch/>
        </p:blipFill>
        <p:spPr>
          <a:xfrm>
            <a:off x="2843280" y="522936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684360" y="501336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2556000" y="515772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7020000" y="2349360"/>
            <a:ext cx="1800000" cy="130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451640" y="4365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620640"/>
            <a:ext cx="1690920" cy="131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867280" y="765000"/>
            <a:ext cx="1368720" cy="133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rcRect l="1483" t="1759" r="2573" b="2894"/>
          <a:stretch/>
        </p:blipFill>
        <p:spPr>
          <a:xfrm>
            <a:off x="1692360" y="2997360"/>
            <a:ext cx="1763640" cy="112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68360" y="105264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4572000" y="299736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042920" y="2997360"/>
            <a:ext cx="1800360" cy="130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96000" y="62064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916360" y="5229360"/>
            <a:ext cx="1690560" cy="1317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332000" y="112536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5130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1692360" y="4941720"/>
            <a:ext cx="125244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3276720" y="476280"/>
            <a:ext cx="1800000" cy="130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40360" y="2781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492360" y="3789360"/>
            <a:ext cx="1368720" cy="13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258920" y="1916280"/>
            <a:ext cx="1512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5292720" y="4869000"/>
            <a:ext cx="125244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63640" y="4941720"/>
            <a:ext cx="1800360" cy="1303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979640" y="242100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13683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5:56Z</dcterms:modified>
  <cp:revision>175</cp:revision>
  <dc:subject/>
  <dc:title>TITLE</dc:title>
</cp:coreProperties>
</file>