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B168-6FFD-4DFF-8724-67D1B4DCBE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47FF-2522-476B-910C-D54330915A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3DC-ED60-4925-8A26-DC83BB10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7EC-71EE-4EB5-BA6C-0395D028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47C-AA05-4EF7-B84A-EB07269C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1AA-F1C7-4A7B-9D1B-1D9E38D2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6A7-38A4-4EF0-B5E7-DB6750CA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0BF-437A-401C-B5CC-D73DF28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C43-4252-417A-941B-0E13FBFA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D82-C111-46F9-9F64-67D22429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EAD-3044-46D4-8B1B-91BDBF3D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919-0275-47BC-BE70-C0F257A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0DE-D7E0-450F-A4B1-3E7E000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2BA-8264-4FAA-B17D-999F0D5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432E-59D8-4B59-B352-69C02ED0BA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3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5640" y="40464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¡ Cantamos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133720"/>
            <a:ext cx="6337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1, 2 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4, 5,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7, 8,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10          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5834" t="12783" r="5834" b="9350"/>
          <a:stretch/>
        </p:blipFill>
        <p:spPr>
          <a:xfrm>
            <a:off x="4067280" y="2060640"/>
            <a:ext cx="1439640" cy="861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5834" t="12783" r="5834" b="9350"/>
          <a:stretch/>
        </p:blipFill>
        <p:spPr>
          <a:xfrm>
            <a:off x="3924360" y="3141720"/>
            <a:ext cx="1439640" cy="861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5834" t="12783" r="5834" b="9350"/>
          <a:stretch/>
        </p:blipFill>
        <p:spPr>
          <a:xfrm>
            <a:off x="3924360" y="4149720"/>
            <a:ext cx="1439640" cy="86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rcRect l="5834" t="12783" r="5834" b="9350"/>
          <a:stretch/>
        </p:blipFill>
        <p:spPr>
          <a:xfrm>
            <a:off x="2771640" y="5084640"/>
            <a:ext cx="1440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9:46Z</dcterms:modified>
  <cp:revision>65</cp:revision>
  <dc:subject/>
  <dc:title>TITLE</dc:title>
</cp:coreProperties>
</file>