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A62-D85F-47E1-96E2-CE139D506F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48E7-7A8D-495B-9F73-DAF5F9132E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14F-506E-4C19-8290-A51E5B98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5CB-E162-4B80-BBBA-8E002ED8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137-C28A-4FAD-80DD-EA00ACF0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F74-22E6-4E1B-93DF-B64D6CCA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470-AB84-4318-AFC4-BADB2E31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2D6-A77B-426A-84D5-948A5A4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10C-6EAD-4E0A-811F-867AB2A3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42E-2594-4056-ACF6-03281D78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818-6CA5-4E6F-B150-A9A8504C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C2C-4AC9-478B-A85C-ABA1E6FF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3BE-6AD1-440C-8356-E2995807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DF9-92F9-4531-8AA1-BFED96B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F6B3-06A5-4B6A-88E6-F347AA7112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3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5640" y="40464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¡ Cantamos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2133720"/>
            <a:ext cx="6337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1, 2 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4, 5,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7, 8,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10          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5834" t="12783" r="5834" b="9350"/>
          <a:stretch/>
        </p:blipFill>
        <p:spPr>
          <a:xfrm>
            <a:off x="4067280" y="2060640"/>
            <a:ext cx="1439640" cy="861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5834" t="12783" r="5834" b="9350"/>
          <a:stretch/>
        </p:blipFill>
        <p:spPr>
          <a:xfrm>
            <a:off x="3924360" y="3141720"/>
            <a:ext cx="1439640" cy="861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5834" t="12783" r="5834" b="9350"/>
          <a:stretch/>
        </p:blipFill>
        <p:spPr>
          <a:xfrm>
            <a:off x="3924360" y="4149720"/>
            <a:ext cx="1439640" cy="86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rcRect l="5834" t="12783" r="5834" b="9350"/>
          <a:stretch/>
        </p:blipFill>
        <p:spPr>
          <a:xfrm>
            <a:off x="2771640" y="5084640"/>
            <a:ext cx="1440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09-29T07:39:46Z</dcterms:modified>
  <cp:revision>65</cp:revision>
  <dc:subject/>
  <dc:title>TITLE</dc:title>
</cp:coreProperties>
</file>