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991-AA90-4DD1-9879-3D0C61D803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04DA-746F-40BB-976E-0C9CBC71D6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B16D-A9B0-4C83-9160-4498A5B06E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F463-F7A9-4178-99BF-2125BBB735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4AA-BED5-45B3-9F5A-2F8EAAEAE2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E331-AF28-4AB0-8E55-C47C8511B9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EF48-269D-4158-8AE0-534AC8C934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8CD2-83C4-438A-BCFD-3A787976B4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2D27-13C5-4851-AE1D-5D0D7F7B6B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1C92-225D-4AB6-A3D7-AA60BA2B2B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1C26-7C67-49A9-9772-8923DD7778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912C-25F0-40E6-B1E6-22248C62F4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E432-16B3-4B46-8948-5A2CC5444B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4B77-6F92-4BCC-A0A5-3A8746C709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7411-1CD9-40EE-A525-D30FC645EE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EB57-FF0B-4454-9D7D-210FA0EC1F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2271-B383-436F-86F2-E47B6C63A4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4E53-5112-4862-B21C-084CCC8628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1F4D-463D-4F66-9A1A-BB75905944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19DC-367F-4DDE-A85C-A58E414B7C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AFD3-C7D7-4EFA-A3CF-379CB855B0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4ACB-FD6D-4A0C-B53D-6F2DCDD9AA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6F24-F2AB-40F7-9413-3ABA41C8B6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9A31-3625-469A-9199-226A5731BD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5704-EDA8-439F-A387-255A73CB3D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4C25-7280-42B5-AF27-DF47DAFA47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9C0-4E0B-4AE0-A0A8-552428DD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544-0781-4C6B-AC88-229210E3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1D0-CC7E-4203-940E-4FF342D5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AA9-7638-4A2E-B8FE-2635154A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BFCD-A255-46BB-8683-E1F5A3B5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BF89-1889-4E87-9B3C-6D286437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254E-4DE3-4297-B5C8-721983C0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A96C-5A72-4341-B0E2-BFE9D1F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5F02-6891-4C96-829C-A6EA75CB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252F-7681-4414-88C4-A47D31F3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A0E4-861B-447C-ACF3-A5C5E60C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A02-E185-40B4-A5BB-3C30D9D7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75F2-6979-4640-A3C5-21A88D7D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42DB-9105-4CE0-A37A-27E7A6D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ED34-7EA1-4A69-BD3A-DC96C36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5F64-4228-4A3C-9571-FD95ADFD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1AE7-BE84-4110-AD89-D11D131A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2A7-9548-412C-B8B5-83BD27AE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A63-FCE4-44E1-A506-46A138B6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EE5-3224-49E1-9825-F9225B11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E8C-EAE9-448D-A347-F3C7ABF7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435-AD9F-436B-B8EC-E47DB7AC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4B1-64B2-4851-A7AC-59B4BAAF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C0A-DE9B-4E02-8CBB-FF35B4B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EA86-5CB0-4B0A-AEEB-D06FA0F289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DE0E-9368-4D29-9EC5-16DC49A05AE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258920" y="549360"/>
            <a:ext cx="237636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chic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54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258920" y="549360"/>
            <a:ext cx="2305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glob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60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1258920" y="549360"/>
            <a:ext cx="1873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lu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66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1258920" y="549360"/>
            <a:ext cx="2592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jiraf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7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258920" y="549360"/>
            <a:ext cx="273672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armari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324000" y="54936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2"/>
          <p:cNvSpPr/>
          <p:nvPr/>
        </p:nvSpPr>
        <p:spPr>
          <a:xfrm>
            <a:off x="108000" y="189000"/>
            <a:ext cx="90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lides marked 1-10 are for listening practice, to encourage children to hear the difference between un and una, and to hear o and a on the end of words.  The arrow animates after they’ve heard the word to enable them to see the ans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si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bolíg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zap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ro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no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lib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cami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caram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bote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cuade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1440000" y="6550200"/>
            <a:ext cx="770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Rounded MT Bold"/>
              </a:rPr>
              <a:t>©Light Bulb Languages 2021 </a:t>
            </a:r>
            <a:r>
              <a:rPr b="0" lang="en-GB" sz="1400" spc="-1" strike="noStrike" u="sng">
                <a:solidFill>
                  <a:srgbClr val="0563c1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1258920" y="549360"/>
            <a:ext cx="3097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guitar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12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258920" y="549360"/>
            <a:ext cx="201780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lápi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18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49360"/>
            <a:ext cx="34574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sacapu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258920" y="549360"/>
            <a:ext cx="22334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gori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30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258920" y="549360"/>
            <a:ext cx="237636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reg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36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258920" y="549360"/>
            <a:ext cx="2521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muj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42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1258920" y="549360"/>
            <a:ext cx="1981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va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48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3:22Z</dcterms:modified>
  <cp:revision>173</cp:revision>
  <dc:subject/>
  <dc:title>TITLE</dc:title>
</cp:coreProperties>
</file>