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D5C-35CE-42C5-A312-888A2AB6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88B-21FC-4111-BCCD-18287C6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F53-33BE-4F0D-A7CA-A1A35BE6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CC0-87FB-42C0-A103-C02B20B9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4CF-8662-4881-879A-EE34C888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036-ECC5-42B1-B861-B3B9511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CAB-DFE7-4812-B81D-90CA456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670-0BEF-4513-8A18-C993D41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4B3-CE4A-4363-BC7E-839A44C2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6F-21E2-4926-9F3C-4293C32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DE1-1187-42EE-8DB3-E11EA9B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9CA-9490-4BFF-BFB0-FA5B601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685-87BA-4616-85E3-D90F4D0541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5990" t="8121" r="24401" b="31212"/>
          <a:stretch/>
        </p:blipFill>
        <p:spPr>
          <a:xfrm>
            <a:off x="1116000" y="-22320"/>
            <a:ext cx="6948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91628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20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49228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8136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06864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33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36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3933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191628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2205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249228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78136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06864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335772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6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93372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4869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51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5445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4869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51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54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8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58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, j, n,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623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623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,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877000"/>
            <a:ext cx="64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229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52:42Z</dcterms:modified>
  <cp:revision>139</cp:revision>
  <dc:subject/>
  <dc:title>TITLE</dc:title>
</cp:coreProperties>
</file>