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4E8-BD37-43F4-91F1-C24C4863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C5E-255B-4F8E-A6A1-3DAAA933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373-A18F-40E7-A404-E3167525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6C8-1563-4795-A472-A6A0E3C1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692-7905-45B2-9EAB-7F8BFA5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A10-1F77-4BD4-9D96-D736FA6D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EDA-E775-40C5-8351-5C772B9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CB6-8A09-4C5E-B9E5-851B789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C0C-0992-4982-955C-2D1FE13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FB5-8925-4221-BD43-5E2EEEA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57F-3F32-43B0-AFF4-DC16496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9E4-3165-46AB-ADAA-27D7B4E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4CA2-C93A-4ED0-8DE8-5479746C4C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5990" t="8121" r="24401" b="31212"/>
          <a:stretch/>
        </p:blipFill>
        <p:spPr>
          <a:xfrm>
            <a:off x="1116000" y="-22320"/>
            <a:ext cx="6948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91628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20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49228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8136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06864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33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36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3933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191628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2205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249228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78136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06864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335772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6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93372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4869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51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5445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4869000"/>
            <a:ext cx="5047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515772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5445000"/>
            <a:ext cx="504720" cy="217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8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58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, j, n,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623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623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,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877000"/>
            <a:ext cx="64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229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a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3-02-15T09:52:42Z</dcterms:modified>
  <cp:revision>139</cp:revision>
  <dc:subject/>
  <dc:title>TITLE</dc:title>
</cp:coreProperties>
</file>