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EDF7-8AB0-4EA1-988F-5C098275DC2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FB64-D94E-4A0E-9EF8-CD33275F6FF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98AF-4FDF-4CD6-B932-2C2EECA5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1484-806A-42B8-998B-17097E3C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3AF3-8929-4471-9C9F-46F14B349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733B-D073-498A-8045-B91C0ACA7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0F14-1C37-48EC-B85F-6AE864CA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771F-6612-4298-B128-17B9825B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43DC-F6FD-4B16-AD69-629EB152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76E2-25B2-4C42-A9B0-F820EA9B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3C87-CD41-4FC9-8366-41BB0E60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6D41-4117-4530-93AB-B214E5DF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6A1C-09F1-4808-99F8-C55E12AB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C2DE-DFF4-4E28-8E52-22894AF2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A5E0-1051-4DE0-A923-4D167870602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3cc"/>
                </a:solidFill>
                <a:latin typeface="Comic Sans MS"/>
              </a:rPr>
              <a:t>masculine</a:t>
            </a: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 or </a:t>
            </a:r>
            <a:r>
              <a:rPr b="1" lang="en-GB" sz="4400" spc="-1" strike="noStrike">
                <a:solidFill>
                  <a:srgbClr val="ff0066"/>
                </a:solidFill>
                <a:latin typeface="Comic Sans MS"/>
              </a:rPr>
              <a:t>feminine</a:t>
            </a: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125360"/>
            <a:ext cx="36352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d9"/>
                </a:solidFill>
                <a:latin typeface="Century Gothic"/>
              </a:rPr>
              <a:t>mi herm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d9"/>
                </a:solidFill>
                <a:latin typeface="Century Gothic"/>
              </a:rPr>
              <a:t>my br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3716280"/>
            <a:ext cx="28796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d9"/>
                </a:solidFill>
                <a:latin typeface="Century Gothic"/>
              </a:rPr>
              <a:t>mi pad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d9"/>
                </a:solidFill>
                <a:latin typeface="Century Gothic"/>
              </a:rPr>
              <a:t>my 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92720" y="1125360"/>
            <a:ext cx="40672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d9"/>
                </a:solidFill>
                <a:latin typeface="Century Gothic"/>
              </a:rPr>
              <a:t>mi pr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d9"/>
                </a:solidFill>
                <a:latin typeface="Century Gothic"/>
              </a:rPr>
              <a:t>my (girl) cou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26920" y="5373720"/>
            <a:ext cx="3673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d9"/>
                </a:solidFill>
                <a:latin typeface="Century Gothic"/>
              </a:rPr>
              <a:t>mi abue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d9"/>
                </a:solidFill>
                <a:latin typeface="Century Gothic"/>
              </a:rPr>
              <a:t>my g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92720" y="4076640"/>
            <a:ext cx="34196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d9"/>
                </a:solidFill>
                <a:latin typeface="Century Gothic"/>
              </a:rPr>
              <a:t>mi tí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d9"/>
                </a:solidFill>
                <a:latin typeface="Century Gothic"/>
              </a:rPr>
              <a:t>my un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2492280"/>
            <a:ext cx="33116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d9"/>
                </a:solidFill>
                <a:latin typeface="Century Gothic"/>
              </a:rPr>
              <a:t>mi am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d9"/>
                </a:solidFill>
                <a:latin typeface="Century Gothic"/>
              </a:rPr>
              <a:t>my (boy)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252360" y="907920"/>
            <a:ext cx="4032360" cy="158436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052640"/>
            <a:ext cx="4032360" cy="158436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349360"/>
            <a:ext cx="4032360" cy="158436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252360" y="3500280"/>
            <a:ext cx="4032360" cy="158436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59280" y="3860640"/>
            <a:ext cx="4032360" cy="158436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5273640"/>
            <a:ext cx="4032360" cy="158436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19640" y="5661000"/>
            <a:ext cx="37450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d9"/>
                </a:solidFill>
                <a:latin typeface="Century Gothic"/>
              </a:rPr>
              <a:t>mi herm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d9"/>
                </a:solidFill>
                <a:latin typeface="Century Gothic"/>
              </a:rPr>
              <a:t>my 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11640" y="5445000"/>
            <a:ext cx="4032360" cy="158436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87640" y="1197000"/>
            <a:ext cx="576360" cy="7192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2565360"/>
            <a:ext cx="576360" cy="7192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08720" y="4149720"/>
            <a:ext cx="576360" cy="7192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28000" y="1197000"/>
            <a:ext cx="576360" cy="719280"/>
          </a:xfrm>
          <a:prstGeom prst="ellipse">
            <a:avLst/>
          </a:prstGeom>
          <a:noFill/>
          <a:ln w="572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44000" y="5734080"/>
            <a:ext cx="576000" cy="719280"/>
          </a:xfrm>
          <a:prstGeom prst="ellipse">
            <a:avLst/>
          </a:prstGeom>
          <a:noFill/>
          <a:ln w="572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64000" y="5445000"/>
            <a:ext cx="576360" cy="719280"/>
          </a:xfrm>
          <a:prstGeom prst="ellipse">
            <a:avLst/>
          </a:prstGeom>
          <a:noFill/>
          <a:ln w="572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0-01-26T15:21:25Z</dcterms:modified>
  <cp:revision>131</cp:revision>
  <dc:subject/>
  <dc:title>TITLE</dc:title>
</cp:coreProperties>
</file>