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2213-A40D-4F9E-9445-106F77113F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627-73EE-415D-94C9-A9CFE1E6DF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B99-6C66-407C-8B0E-F098AA83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455-731C-4D8C-97B9-95718201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0B8-B01A-4971-AF36-6C4235DE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DCB-0A19-4123-B05E-0458921E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F55-4198-473D-B491-CBBFCD8D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7B7-7499-4087-BB14-FA326B5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8DA-3749-4627-9E40-04F4B45C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82E-8E3D-4B81-A929-C990093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493-3693-407A-BF36-9299C77F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088-DD55-4967-BB65-AFFCA80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EA8-2B2A-46A0-A09D-FB4611B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CE2-0DA6-4674-960C-B0B5055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D99-7892-408F-B3B4-B1DDB87EF7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or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25360"/>
            <a:ext cx="3635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716280"/>
            <a:ext cx="287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125360"/>
            <a:ext cx="4067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(girl)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5373720"/>
            <a:ext cx="367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076640"/>
            <a:ext cx="341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tí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2492280"/>
            <a:ext cx="331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entury Gothic"/>
              </a:rPr>
              <a:t>mi am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Century Gothic"/>
              </a:rPr>
              <a:t>my (boy)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52360" y="90792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052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34936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350028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86064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273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5661000"/>
            <a:ext cx="37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d9"/>
                </a:solidFill>
                <a:latin typeface="Century Gothic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d9"/>
                </a:solidFill>
                <a:latin typeface="Century Gothic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11640" y="544500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119700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256536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4149720"/>
            <a:ext cx="576360" cy="719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1197000"/>
            <a:ext cx="57636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44000" y="5734080"/>
            <a:ext cx="57600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5445000"/>
            <a:ext cx="576360" cy="719280"/>
          </a:xfrm>
          <a:prstGeom prst="ellipse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1:25Z</dcterms:modified>
  <cp:revision>131</cp:revision>
  <dc:subject/>
  <dc:title>TITLE</dc:title>
</cp:coreProperties>
</file>