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7AB4-C9A5-4129-980F-2C642D3D8E8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5BF7-99DA-4F7D-ACF1-7180544A4CC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26D9-AEE2-438A-9EE2-103B28320CD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BAE9-E545-4148-BF4D-5AF35DB5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3A63-D436-49A8-9893-89A6BA90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313-FB95-45BD-BCCF-D5D00DB9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CC39-029C-4A6B-8066-0D5650F7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A195-1C17-4E5A-92DF-132D7441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446A-3DF0-4689-A406-D4B21928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2D7A-92AF-4C1F-8E8D-3441EC2F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6809-D1DD-40DF-8521-3B8B6689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36D1-4302-4E1B-AE92-CBBFCB21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4811-322C-40CC-98CB-DC9980F8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3EB5-71A6-4568-9819-E0466A69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4F90-48BA-4D4B-892F-24DF680B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C716-F0CF-4E99-AF3E-A8063EA9483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11280" y="1484280"/>
          <a:ext cx="7920000" cy="4968720"/>
        </p:xfrm>
        <a:graphic>
          <a:graphicData uri="http://schemas.openxmlformats.org/drawingml/2006/table">
            <a:tbl>
              <a:tblPr/>
              <a:tblGrid>
                <a:gridCol w="3529080"/>
                <a:gridCol w="2160360"/>
                <a:gridCol w="2230560"/>
              </a:tblGrid>
              <a:tr h="24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24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 txBox="1"/>
          <p:nvPr/>
        </p:nvSpPr>
        <p:spPr>
          <a:xfrm>
            <a:off x="755640" y="2349360"/>
            <a:ext cx="32400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masculin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55640" y="4869000"/>
            <a:ext cx="32400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feminin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189000"/>
            <a:ext cx="5256360" cy="1008360"/>
          </a:xfrm>
          <a:prstGeom prst="rect">
            <a:avLst/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ou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3280" y="2492280"/>
            <a:ext cx="1295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un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427640" y="4941720"/>
            <a:ext cx="158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una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77080" y="2492280"/>
            <a:ext cx="1152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-o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77080" y="4941720"/>
            <a:ext cx="10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-a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71640" y="2133720"/>
            <a:ext cx="2879640" cy="76428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195640" y="1989000"/>
            <a:ext cx="890640" cy="982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763640" y="4221000"/>
            <a:ext cx="1900440" cy="951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1224000" cy="1223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2195640" y="5084640"/>
            <a:ext cx="1050840" cy="989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716360" y="2133720"/>
            <a:ext cx="3888000" cy="76428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err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2133720"/>
            <a:ext cx="863280" cy="14346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99ff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6360" y="3284640"/>
            <a:ext cx="3888000" cy="76428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o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4292640"/>
            <a:ext cx="3888000" cy="76428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ch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16360" y="5157720"/>
            <a:ext cx="3888000" cy="76428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a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0000" y="4292640"/>
            <a:ext cx="863280" cy="14346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99ff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3284640"/>
            <a:ext cx="1150920" cy="14346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Comic Sans MS"/>
              </a:rPr>
              <a:t>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92360" y="5157720"/>
            <a:ext cx="1150920" cy="14346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Comic Sans MS"/>
              </a:rPr>
              <a:t>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0-01-26T15:23:49Z</dcterms:modified>
  <cp:revision>140</cp:revision>
  <dc:subject/>
  <dc:title>TITLE</dc:title>
</cp:coreProperties>
</file>