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BC1C-DC34-4764-82F5-0D731956B1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B257-191C-4DD9-8A27-B197766B996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8A7C-BCE0-448A-B3D9-9920DB72886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0162-C0DD-4097-B8E5-91780E6C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654-2948-4FE9-96E9-353A9364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B4B3-7BB5-47D1-8893-026B8230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96A-6DCD-40CB-B383-96B36F8B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BD9-AF82-42A2-A9C7-CF7FB648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9F8D-B6D9-4492-8DD1-82DA9B16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3A2-D318-43B9-B65A-9182AA8B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9EC6-78B4-4417-BEAF-7C6557E1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3FB-A4F7-45AD-8871-88E77D76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D58-A9E5-405D-B1AA-1CE1597A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AFB-A93C-4BE6-AB4A-A66C56DE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0D0-1ED4-43B7-9A9D-B92317AB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C066-9C98-48BF-B32A-98DFFF6ADC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11280" y="1484280"/>
          <a:ext cx="7920000" cy="4968720"/>
        </p:xfrm>
        <a:graphic>
          <a:graphicData uri="http://schemas.openxmlformats.org/drawingml/2006/table">
            <a:tbl>
              <a:tblPr/>
              <a:tblGrid>
                <a:gridCol w="3529080"/>
                <a:gridCol w="2160360"/>
                <a:gridCol w="2230560"/>
              </a:tblGrid>
              <a:tr h="24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24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 txBox="1"/>
          <p:nvPr/>
        </p:nvSpPr>
        <p:spPr>
          <a:xfrm>
            <a:off x="755640" y="2349360"/>
            <a:ext cx="32400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masculin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5640" y="4869000"/>
            <a:ext cx="32400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feminin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189000"/>
            <a:ext cx="5256360" cy="1008360"/>
          </a:xfrm>
          <a:prstGeom prst="rect">
            <a:avLst/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3280" y="2492280"/>
            <a:ext cx="129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un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27640" y="4941720"/>
            <a:ext cx="158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una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77080" y="2492280"/>
            <a:ext cx="115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-o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77080" y="494172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-a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71640" y="2133720"/>
            <a:ext cx="2879640" cy="764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95640" y="1989000"/>
            <a:ext cx="890640" cy="982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763640" y="4221000"/>
            <a:ext cx="1900440" cy="951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2195640" y="5084640"/>
            <a:ext cx="1050840" cy="989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716360" y="2133720"/>
            <a:ext cx="3888000" cy="764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rr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2133720"/>
            <a:ext cx="863280" cy="14346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99ff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3284640"/>
            <a:ext cx="3888000" cy="764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4292640"/>
            <a:ext cx="3888000" cy="764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ch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6360" y="5157720"/>
            <a:ext cx="3888000" cy="7642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4292640"/>
            <a:ext cx="863280" cy="14346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99ff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3284640"/>
            <a:ext cx="1150920" cy="14346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5157720"/>
            <a:ext cx="1150920" cy="14346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1-26T15:23:49Z</dcterms:modified>
  <cp:revision>140</cp:revision>
  <dc:subject/>
  <dc:title>TITLE</dc:title>
</cp:coreProperties>
</file>