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wmf" ContentType="image/x-wmf"/>
  <Override PartName="/ppt/media/image22.jpeg" ContentType="image/jpeg"/>
  <Override PartName="/ppt/media/image14.png" ContentType="image/png"/>
  <Override PartName="/ppt/media/image2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960-960D-4920-B51C-E10922A9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2E7-1802-4050-95D2-9A5E96FA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71D-E53A-4437-B838-0C4FE9D4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A2F-58D4-49D2-A672-A060BEA4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BF1-507D-430B-8C0E-6A76FF84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9D5-5036-4325-8C63-E48F6FD0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3B3-65FE-4F3F-AC5B-F4B943C5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0BB-056A-49B0-AE90-78B46150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E78-D342-432D-A844-801ACF81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EA0-0F81-40C4-B1AA-EF5A90AD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559-774E-4CF9-A154-ADDBFA8C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8F2-9F8E-4D9D-A57B-4465FF45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D92-BAFD-4E9D-A7BA-032FD01EF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97360" cy="46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4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El hombre de jengi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6524640"/>
            <a:ext cx="65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7059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719400">
            <a:off x="6587640" y="5300640"/>
            <a:ext cx="1040040" cy="1249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43280" y="2276640"/>
            <a:ext cx="2128680" cy="3678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95640" y="0"/>
            <a:ext cx="4897440" cy="2303640"/>
          </a:xfrm>
          <a:prstGeom prst="wedgeRoundRectCallout">
            <a:avLst>
              <a:gd name="adj1" fmla="val 14925"/>
              <a:gd name="adj2" fmla="val 177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No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Corre, corre, tan rápido como puedas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uedes alcanzarm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1039680" cy="1249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189000"/>
            <a:ext cx="2664000" cy="1295280"/>
          </a:xfrm>
          <a:prstGeom prst="wedgeRoundRectCallout">
            <a:avLst>
              <a:gd name="adj1" fmla="val -29916"/>
              <a:gd name="adj2" fmla="val 171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enos días Señor Zor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hombre de jengibre corre y corre y corre.  Encuentra un zor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43640" y="333360"/>
            <a:ext cx="3600360" cy="1366920"/>
          </a:xfrm>
          <a:prstGeom prst="wedgeRoundRectCallout">
            <a:avLst>
              <a:gd name="adj1" fmla="val -108861"/>
              <a:gd name="adj2" fmla="val 1452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Para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Quiero comert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4897440" cy="2303640"/>
          </a:xfrm>
          <a:prstGeom prst="wedgeRoundRectCallout">
            <a:avLst>
              <a:gd name="adj1" fmla="val -12819"/>
              <a:gd name="adj2" fmla="val 767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No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Corre, corre, tan rápido como puedas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uedes alcanzarm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 flipH="1">
            <a:off x="2700000" y="1415880"/>
            <a:ext cx="2592360" cy="254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907920"/>
            <a:ext cx="3097080" cy="1224000"/>
          </a:xfrm>
          <a:prstGeom prst="wedgeRoundRectCallout">
            <a:avLst>
              <a:gd name="adj1" fmla="val -2898"/>
              <a:gd name="adj2" fmla="val 1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o no puedo cruzar el rí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549360"/>
            <a:ext cx="3456000" cy="1727280"/>
          </a:xfrm>
          <a:prstGeom prst="wedgeRoundRectCallout">
            <a:avLst>
              <a:gd name="adj1" fmla="val -110953"/>
              <a:gd name="adj2" fmla="val 943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ero ayudarte.  Súbete en mi cabez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flipH="1" rot="240000">
            <a:off x="3632040" y="3358800"/>
            <a:ext cx="3457800" cy="3397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3429000"/>
            <a:ext cx="1279440" cy="1536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hombre de jengibre sube en la cabez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 zor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flipH="1" rot="2239800">
            <a:off x="3635280" y="2923560"/>
            <a:ext cx="3457800" cy="3397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9072000">
            <a:off x="2626920" y="1700280"/>
            <a:ext cx="1279440" cy="1536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620640"/>
            <a:ext cx="2880000" cy="1727280"/>
          </a:xfrm>
          <a:prstGeom prst="wedgeRoundRectCallout">
            <a:avLst>
              <a:gd name="adj1" fmla="val -85444"/>
              <a:gd name="adj2" fmla="val 169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Te como!  ¡Ñam ñ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ió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97360" cy="4681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4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El hombre de jengi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6524640"/>
            <a:ext cx="65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0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541440" y="1916280"/>
            <a:ext cx="26002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032000" y="2276280"/>
            <a:ext cx="5112000" cy="3311640"/>
            <a:chOff x="4032000" y="2276280"/>
            <a:chExt cx="5112000" cy="3311640"/>
          </a:xfrm>
        </p:grpSpPr>
        <p:sp>
          <p:nvSpPr>
            <p:cNvPr id="47" name=""/>
            <p:cNvSpPr/>
            <p:nvPr/>
          </p:nvSpPr>
          <p:spPr>
            <a:xfrm>
              <a:off x="8064000" y="2338920"/>
              <a:ext cx="287640" cy="2436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24000" y="2338920"/>
              <a:ext cx="287640" cy="2436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4032000" y="2275920"/>
              <a:ext cx="5111640" cy="874440"/>
            </a:xfrm>
            <a:custGeom>
              <a:avLst/>
              <a:gdLst>
                <a:gd name="textAreaLeft" fmla="*/ 877320 w 5111640"/>
                <a:gd name="textAreaRight" fmla="*/ 4234320 w 5111640"/>
                <a:gd name="textAreaTop" fmla="*/ 150120 h 874440"/>
                <a:gd name="textAreaBottom" fmla="*/ 724320 h 87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76" y="21600"/>
                  </a:lnTo>
                  <a:lnTo>
                    <a:pt x="3524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32360" y="3151080"/>
              <a:ext cx="5111640" cy="18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2360" y="3338640"/>
              <a:ext cx="287640" cy="2249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56000" y="3338640"/>
              <a:ext cx="287640" cy="224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2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4824360" y="-316080"/>
            <a:ext cx="3527640" cy="257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10800000">
            <a:off x="5256360" y="2349360"/>
            <a:ext cx="2808000" cy="648000"/>
          </a:xfrm>
          <a:custGeom>
            <a:avLst/>
            <a:gdLst>
              <a:gd name="textAreaLeft" fmla="*/ 522000 w 2808000"/>
              <a:gd name="textAreaRight" fmla="*/ 2286000 w 2808000"/>
              <a:gd name="textAreaTop" fmla="*/ 120240 h 648000"/>
              <a:gd name="textAreaBottom" fmla="*/ 5277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22" y="21600"/>
                </a:lnTo>
                <a:lnTo>
                  <a:pt x="4078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5688000" y="2349360"/>
            <a:ext cx="1924200" cy="551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8920" y="549360"/>
            <a:ext cx="3529080" cy="1368360"/>
          </a:xfrm>
          <a:prstGeom prst="wedgeRoundRectCallout">
            <a:avLst>
              <a:gd name="adj1" fmla="val -43074"/>
              <a:gd name="adj2" fmla="val 106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 llamo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ñora Ramírez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5661000"/>
            <a:ext cx="648036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Señora Ramírez prepar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hombre de jeng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0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541440" y="1916280"/>
            <a:ext cx="26002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032000" y="2276280"/>
            <a:ext cx="5112000" cy="3311640"/>
            <a:chOff x="4032000" y="2276280"/>
            <a:chExt cx="5112000" cy="3311640"/>
          </a:xfrm>
        </p:grpSpPr>
        <p:sp>
          <p:nvSpPr>
            <p:cNvPr id="63" name=""/>
            <p:cNvSpPr/>
            <p:nvPr/>
          </p:nvSpPr>
          <p:spPr>
            <a:xfrm>
              <a:off x="8064000" y="2338920"/>
              <a:ext cx="287640" cy="2436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4000" y="2338920"/>
              <a:ext cx="287640" cy="2436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4032000" y="2275920"/>
              <a:ext cx="5111640" cy="874440"/>
            </a:xfrm>
            <a:custGeom>
              <a:avLst/>
              <a:gdLst>
                <a:gd name="textAreaLeft" fmla="*/ 877320 w 5111640"/>
                <a:gd name="textAreaRight" fmla="*/ 4234320 w 5111640"/>
                <a:gd name="textAreaTop" fmla="*/ 150120 h 874440"/>
                <a:gd name="textAreaBottom" fmla="*/ 724320 h 87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76" y="21600"/>
                  </a:lnTo>
                  <a:lnTo>
                    <a:pt x="3524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2360" y="3151080"/>
              <a:ext cx="5111640" cy="18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2360" y="3338640"/>
              <a:ext cx="287640" cy="2249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6000" y="3338640"/>
              <a:ext cx="287640" cy="2249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2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64000" y="3338640"/>
              <a:ext cx="287640" cy="1437120"/>
            </a:xfrm>
            <a:prstGeom prst="rect">
              <a:avLst/>
            </a:prstGeom>
            <a:gradFill rotWithShape="0">
              <a:gsLst>
                <a:gs pos="0">
                  <a:srgbClr val="663300">
                    <a:alpha val="65098"/>
                  </a:srgbClr>
                </a:gs>
                <a:gs pos="100000">
                  <a:srgbClr val="2f1700">
                    <a:alpha val="6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824360" y="-316080"/>
            <a:ext cx="3527640" cy="2575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0800000">
            <a:off x="5256360" y="2349360"/>
            <a:ext cx="2808000" cy="648000"/>
          </a:xfrm>
          <a:custGeom>
            <a:avLst/>
            <a:gdLst>
              <a:gd name="textAreaLeft" fmla="*/ 522000 w 2808000"/>
              <a:gd name="textAreaRight" fmla="*/ 2286000 w 2808000"/>
              <a:gd name="textAreaTop" fmla="*/ 120240 h 648000"/>
              <a:gd name="textAreaBottom" fmla="*/ 5277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22" y="21600"/>
                </a:lnTo>
                <a:lnTo>
                  <a:pt x="4078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5724360" y="1052640"/>
            <a:ext cx="1460520" cy="1753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47640" y="1052640"/>
            <a:ext cx="1656000" cy="863640"/>
          </a:xfrm>
          <a:prstGeom prst="wedgeRoundRectCallout">
            <a:avLst>
              <a:gd name="adj1" fmla="val -52685"/>
              <a:gd name="adj2" fmla="val 1404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Ay 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260280"/>
            <a:ext cx="1871640" cy="863640"/>
          </a:xfrm>
          <a:prstGeom prst="wedgeRoundRectCallout">
            <a:avLst>
              <a:gd name="adj1" fmla="val -52291"/>
              <a:gd name="adj2" fmla="val 9154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Me v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5950080"/>
            <a:ext cx="648036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El hombre de jengibre se escap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2955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616200" cy="398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-1260360" y="907920"/>
            <a:ext cx="4092480" cy="4846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03640" y="4184640"/>
            <a:ext cx="5929200" cy="2857680"/>
          </a:xfrm>
          <a:custGeom>
            <a:avLst/>
            <a:gdLst/>
            <a:ahLst/>
            <a:rect l="l" t="t" r="r" b="b"/>
            <a:pathLst>
              <a:path w="3735" h="1800">
                <a:moveTo>
                  <a:pt x="3379" y="68"/>
                </a:moveTo>
                <a:cubicBezTo>
                  <a:pt x="3273" y="128"/>
                  <a:pt x="3160" y="310"/>
                  <a:pt x="3062" y="386"/>
                </a:cubicBezTo>
                <a:cubicBezTo>
                  <a:pt x="2964" y="462"/>
                  <a:pt x="2964" y="492"/>
                  <a:pt x="2790" y="522"/>
                </a:cubicBezTo>
                <a:cubicBezTo>
                  <a:pt x="2616" y="552"/>
                  <a:pt x="2291" y="514"/>
                  <a:pt x="2019" y="567"/>
                </a:cubicBezTo>
                <a:cubicBezTo>
                  <a:pt x="1747" y="620"/>
                  <a:pt x="1459" y="680"/>
                  <a:pt x="1157" y="839"/>
                </a:cubicBezTo>
                <a:cubicBezTo>
                  <a:pt x="855" y="998"/>
                  <a:pt x="385" y="1376"/>
                  <a:pt x="204" y="1520"/>
                </a:cubicBezTo>
                <a:cubicBezTo>
                  <a:pt x="23" y="1664"/>
                  <a:pt x="0" y="1663"/>
                  <a:pt x="68" y="1701"/>
                </a:cubicBezTo>
                <a:cubicBezTo>
                  <a:pt x="136" y="1739"/>
                  <a:pt x="379" y="1739"/>
                  <a:pt x="613" y="1747"/>
                </a:cubicBezTo>
                <a:cubicBezTo>
                  <a:pt x="847" y="1755"/>
                  <a:pt x="1285" y="1800"/>
                  <a:pt x="1474" y="1747"/>
                </a:cubicBezTo>
                <a:cubicBezTo>
                  <a:pt x="1663" y="1694"/>
                  <a:pt x="1634" y="1520"/>
                  <a:pt x="1747" y="1429"/>
                </a:cubicBezTo>
                <a:cubicBezTo>
                  <a:pt x="1860" y="1338"/>
                  <a:pt x="1996" y="1293"/>
                  <a:pt x="2155" y="1202"/>
                </a:cubicBezTo>
                <a:cubicBezTo>
                  <a:pt x="2314" y="1111"/>
                  <a:pt x="2518" y="983"/>
                  <a:pt x="2699" y="885"/>
                </a:cubicBezTo>
                <a:cubicBezTo>
                  <a:pt x="2880" y="787"/>
                  <a:pt x="3115" y="696"/>
                  <a:pt x="3243" y="613"/>
                </a:cubicBezTo>
                <a:cubicBezTo>
                  <a:pt x="3371" y="530"/>
                  <a:pt x="3410" y="462"/>
                  <a:pt x="3470" y="386"/>
                </a:cubicBezTo>
                <a:cubicBezTo>
                  <a:pt x="3530" y="310"/>
                  <a:pt x="3568" y="219"/>
                  <a:pt x="3606" y="159"/>
                </a:cubicBezTo>
                <a:cubicBezTo>
                  <a:pt x="3644" y="99"/>
                  <a:pt x="3735" y="46"/>
                  <a:pt x="3697" y="23"/>
                </a:cubicBezTo>
                <a:cubicBezTo>
                  <a:pt x="3659" y="0"/>
                  <a:pt x="3485" y="8"/>
                  <a:pt x="3379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300720" y="2421000"/>
            <a:ext cx="2332080" cy="1940040"/>
            <a:chOff x="6300720" y="2421000"/>
            <a:chExt cx="2332080" cy="1940040"/>
          </a:xfrm>
        </p:grpSpPr>
        <p:sp>
          <p:nvSpPr>
            <p:cNvPr id="82" name=""/>
            <p:cNvSpPr/>
            <p:nvPr/>
          </p:nvSpPr>
          <p:spPr>
            <a:xfrm>
              <a:off x="6536880" y="3418920"/>
              <a:ext cx="1775520" cy="73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6300720" y="2421000"/>
              <a:ext cx="2332080" cy="194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 rot="20988000">
            <a:off x="4140360" y="4076640"/>
            <a:ext cx="1460520" cy="175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380360" y="3645000"/>
            <a:ext cx="541440" cy="1079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692280"/>
            <a:ext cx="4249800" cy="2160360"/>
          </a:xfrm>
          <a:prstGeom prst="wedgeRoundRectCallout">
            <a:avLst>
              <a:gd name="adj1" fmla="val 28782"/>
              <a:gd name="adj2" fmla="val 1071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Corre, corre, tan rápido como puedas!  No puedes alcanzar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3529080" cy="2822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413000"/>
            <a:ext cx="2881080" cy="1295280"/>
          </a:xfrm>
          <a:prstGeom prst="wedgeRoundRectCallout">
            <a:avLst>
              <a:gd name="adj1" fmla="val -21736"/>
              <a:gd name="adj2" fmla="val 1647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enos días Señora Va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1557360"/>
            <a:ext cx="3600360" cy="1366920"/>
          </a:xfrm>
          <a:prstGeom prst="wedgeRoundRectCallout">
            <a:avLst>
              <a:gd name="adj1" fmla="val -81171"/>
              <a:gd name="adj2" fmla="val 1526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Para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Quiero comert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hombre de jengibre corre y corre y corre.  Encuentra una va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604800">
            <a:off x="7092720" y="4436640"/>
            <a:ext cx="1039680" cy="1249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771640" y="3357720"/>
            <a:ext cx="3529080" cy="282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5640" y="333360"/>
            <a:ext cx="4897440" cy="2303640"/>
          </a:xfrm>
          <a:prstGeom prst="wedgeRoundRectCallout">
            <a:avLst>
              <a:gd name="adj1" fmla="val 24101"/>
              <a:gd name="adj2" fmla="val 124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No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Corre, corre, tan rápido como puedas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uedes alcanzarm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4292640"/>
            <a:ext cx="1039680" cy="124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981000"/>
            <a:ext cx="3635640" cy="1295640"/>
          </a:xfrm>
          <a:prstGeom prst="wedgeRoundRectCallout">
            <a:avLst>
              <a:gd name="adj1" fmla="val -6115"/>
              <a:gd name="adj2" fmla="val 2004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enos días Señor Cabal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hombre de jengibre corre y corre y corre.  Encuentra un caba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836640"/>
            <a:ext cx="3600360" cy="1366920"/>
          </a:xfrm>
          <a:prstGeom prst="wedgeRoundRectCallout">
            <a:avLst>
              <a:gd name="adj1" fmla="val -111773"/>
              <a:gd name="adj2" fmla="val 153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Para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Quiero comert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493200">
            <a:off x="7093080" y="4365360"/>
            <a:ext cx="1039680" cy="124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95640" y="0"/>
            <a:ext cx="4897440" cy="2303640"/>
          </a:xfrm>
          <a:prstGeom prst="wedgeRoundRectCallout">
            <a:avLst>
              <a:gd name="adj1" fmla="val 24652"/>
              <a:gd name="adj2" fmla="val 1377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No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Corre, corre, tan rápido como puedas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uedes alcanzarm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705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1040040" cy="124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981000"/>
            <a:ext cx="3888000" cy="1295640"/>
          </a:xfrm>
          <a:prstGeom prst="wedgeRoundRectCallout">
            <a:avLst>
              <a:gd name="adj1" fmla="val -36240"/>
              <a:gd name="adj2" fmla="val 1605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enos días Señor el Granj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843280" y="2276640"/>
            <a:ext cx="2128680" cy="3678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5661000"/>
            <a:ext cx="871380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hombre de jengibre corre y corre y corre.  Encuentra a un granj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43640" y="836640"/>
            <a:ext cx="3600360" cy="1366920"/>
          </a:xfrm>
          <a:prstGeom prst="wedgeRoundRectCallout">
            <a:avLst>
              <a:gd name="adj1" fmla="val -89726"/>
              <a:gd name="adj2" fmla="val 136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Para! 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Quiero comert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20:34:13Z</dcterms:created>
  <dc:creator>Clare</dc:creator>
  <dc:description/>
  <dc:language>en-US</dc:language>
  <cp:lastModifiedBy>Clare</cp:lastModifiedBy>
  <dcterms:modified xsi:type="dcterms:W3CDTF">2013-03-04T13:05:54Z</dcterms:modified>
  <cp:revision>35</cp:revision>
  <dc:subject/>
  <dc:title>Slide 1</dc:title>
</cp:coreProperties>
</file>