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5902-6774-4606-A7AC-CD69451A956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EBC9-AA13-45F3-974E-05E8D9E4A86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FE6E-6D57-4609-8951-9BB2E679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5048-BFEA-4D36-A4B6-4DBFCDDA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B84D-8D29-4230-8508-8A802EA1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80C9-EA38-402D-834A-91011D35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BA0A-96F4-462A-9F30-A991FBE3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B9DC-2114-477C-8908-48ED5BF9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E31D-8642-4A39-99A9-4F69CE54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92FA-0E43-4D96-98CD-B23C813D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5D6A-7348-4773-A0BB-0FBD89B5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964A-D391-4022-B449-741038DD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B7C3-DEE0-479A-997E-E449A4E0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E957-1D36-4801-AD6A-D5055B57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5213-6635-434D-9C78-361FB393BB7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115920"/>
          <a:ext cx="8785440" cy="662616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23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228b8b"/>
                          </a:solidFill>
                          <a:latin typeface="Comic Sans MS"/>
                        </a:rPr>
                        <a:t>none of these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how are you?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hello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my name is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56360" y="404640"/>
            <a:ext cx="2606760" cy="171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564000" y="2565360"/>
            <a:ext cx="2330280" cy="180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rcRect l="83675" t="75929" r="0" b="0"/>
          <a:stretch/>
        </p:blipFill>
        <p:spPr>
          <a:xfrm>
            <a:off x="611280" y="189000"/>
            <a:ext cx="2098440" cy="208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4"/>
          <a:srcRect l="16480" t="0" r="67043" b="76836"/>
          <a:stretch/>
        </p:blipFill>
        <p:spPr>
          <a:xfrm>
            <a:off x="154080" y="5013360"/>
            <a:ext cx="1214280" cy="115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5"/>
          <a:srcRect l="16480" t="0" r="67043" b="76836"/>
          <a:stretch/>
        </p:blipFill>
        <p:spPr>
          <a:xfrm>
            <a:off x="1187280" y="4724280"/>
            <a:ext cx="1214640" cy="115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6"/>
          <a:srcRect l="16480" t="0" r="67043" b="76836"/>
          <a:stretch/>
        </p:blipFill>
        <p:spPr>
          <a:xfrm>
            <a:off x="1908000" y="5516640"/>
            <a:ext cx="1214640" cy="115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7"/>
          <a:srcRect l="30950" t="4901" r="7906" b="0"/>
          <a:stretch/>
        </p:blipFill>
        <p:spPr>
          <a:xfrm>
            <a:off x="6748560" y="4581360"/>
            <a:ext cx="1371600" cy="2132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13"/>
          <p:cNvSpPr/>
          <p:nvPr/>
        </p:nvSpPr>
        <p:spPr>
          <a:xfrm>
            <a:off x="8285040" y="2392200"/>
            <a:ext cx="5050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8321760" y="462744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8321760" y="21744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2441520" y="240840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17"/>
          <p:cNvSpPr/>
          <p:nvPr/>
        </p:nvSpPr>
        <p:spPr>
          <a:xfrm>
            <a:off x="5389560" y="18900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18"/>
          <p:cNvSpPr/>
          <p:nvPr/>
        </p:nvSpPr>
        <p:spPr>
          <a:xfrm>
            <a:off x="2514600" y="4626000"/>
            <a:ext cx="5032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19"/>
          <p:cNvSpPr/>
          <p:nvPr/>
        </p:nvSpPr>
        <p:spPr>
          <a:xfrm>
            <a:off x="5445000" y="2433600"/>
            <a:ext cx="5032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5389560" y="462744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2514600" y="217440"/>
            <a:ext cx="5032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9-12-02T10:13:11Z</dcterms:modified>
  <cp:revision>122</cp:revision>
  <dc:subject/>
  <dc:title>TITLE</dc:title>
</cp:coreProperties>
</file>