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D855-5F0F-4999-BF80-37605D05A9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7AD-AAC1-4CE8-8FFF-0F734A5658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BB9-C0C2-4C16-B76B-E7FF76FF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EC9-92FB-4373-A9B1-499A6DB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2BF-3718-4E0A-9827-3009CF8C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3FE-B080-4E06-B6AB-2F4196B5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C58-0628-4EBF-B994-6B1B6CE9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0E1-7D5C-4B1F-8C54-2C8A45C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D42-5681-424D-8EE3-4B61830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2CF-ADD6-4AA0-9BD6-A9E96B08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06C-4E8F-40A5-9169-DD09582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3CD-B0F8-485B-8C51-5BF5CA8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127-EB33-476E-97F4-84BFB52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0E1-EBB9-4DA2-B1DB-F1ADD68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838-CC0A-4602-A28D-E0CC1E143C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15920"/>
          <a:ext cx="8785440" cy="662616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228b8b"/>
                          </a:solidFill>
                          <a:latin typeface="Comic Sans MS"/>
                        </a:rPr>
                        <a:t>none of these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how are you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hel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my name is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60676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3302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83675" t="75929" r="0" b="0"/>
          <a:stretch/>
        </p:blipFill>
        <p:spPr>
          <a:xfrm>
            <a:off x="611280" y="189000"/>
            <a:ext cx="2098440" cy="20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rcRect l="16480" t="0" r="67043" b="76836"/>
          <a:stretch/>
        </p:blipFill>
        <p:spPr>
          <a:xfrm>
            <a:off x="154080" y="5013360"/>
            <a:ext cx="12142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rcRect l="16480" t="0" r="67043" b="76836"/>
          <a:stretch/>
        </p:blipFill>
        <p:spPr>
          <a:xfrm>
            <a:off x="1187280" y="4724280"/>
            <a:ext cx="121464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rcRect l="16480" t="0" r="67043" b="76836"/>
          <a:stretch/>
        </p:blipFill>
        <p:spPr>
          <a:xfrm>
            <a:off x="1908000" y="5516640"/>
            <a:ext cx="121464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7"/>
          <a:srcRect l="30950" t="4901" r="7906" b="0"/>
          <a:stretch/>
        </p:blipFill>
        <p:spPr>
          <a:xfrm>
            <a:off x="6748560" y="4581360"/>
            <a:ext cx="1371600" cy="2132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8285040" y="239220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8321760" y="462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8321760" y="21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2441520" y="2408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389560" y="1890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514600" y="46260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5445000" y="24336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389560" y="462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514600" y="21744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02T10:13:11Z</dcterms:modified>
  <cp:revision>122</cp:revision>
  <dc:subject/>
  <dc:title>TITLE</dc:title>
</cp:coreProperties>
</file>