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666A-36C7-45B6-BAB5-8C4CA051B8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67E4-29CF-48D7-A985-909AD91DFD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485D-674A-47CE-A27D-9A7EC57201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B0A1-72A5-4FC6-95E0-6955046C10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EE2C-94C5-4CE9-8C82-98F1DE1234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8B9A-ECDE-4D0C-9606-1087EB2E25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361C-926F-41CF-8DD3-0FD3CD237B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1138-B260-4963-905A-553B1FBEE0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1B2-D8D6-4191-B162-9BF9681C98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C9A-2D4D-4AD6-B0C6-DD4B7121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F7A-3B34-413A-A3F4-273DA26C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7FB-F8E3-44EB-96E7-9763AA0F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184-0D91-4A74-8521-47092754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19CD-9B61-4CC1-BF3D-93B996AE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8F32-3D1B-4AF5-9BA6-EA83C264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1335-2107-4130-9965-1CF0A52C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1E54-7FD3-4549-98D8-798AB690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8DD1-1FAA-43C3-BB71-14F8E9BD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255C-BF68-40F5-A780-643AEEAD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28A7-F10C-4D10-93B6-9D938CE9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625-E23E-4E75-A1F0-802BB184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CE85-EADE-47B8-9BB6-D022BDA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1EAC-63D8-4428-958E-859D83E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0DFA-F6CF-48A9-8B6F-3D67533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52BE-95A6-40A6-8E86-49FA4E4F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683B-F37E-4C8B-83F8-2F900EAB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EDC8-86D0-4962-B519-A62522C5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93B4-DBA9-486B-BEF9-EA7153D1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020A-3458-491B-A995-DAD68C2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B323-F6A9-41F9-AC8E-8E1FD450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6338-8804-4FBB-A6BA-884978E4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09B-3A68-4D44-B3C6-FAA01E3E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41FA-1211-4C31-ABE6-C688B5E8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9D99-3376-4833-98BD-12D4BD1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1CA2-DC47-4F44-BFC3-48275F0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6BDA-EF00-4403-A04C-0122CB3B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E1C9-B4D4-44CF-9477-827372EA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8060-9768-4BFD-B7E2-7D40E5EA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533E-E468-4D11-8228-96E7513E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228-4A6E-4BDB-8D1E-5DCDDAC8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0FC-2DF6-4B7F-B6A1-18B450BF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2BF-09BB-486B-AC18-BDC1B09F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425-2565-48D1-9A75-BCDE497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489-5F5F-40A8-BF61-DCDCBF8D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D8B-C4C3-4C6D-ABE7-2D9EB316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BF8F-1954-4401-92F8-7883CAC7A6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B050-A6AE-4057-B5B1-878153AF75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F17E-4B84-428E-843F-E52C5352E39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64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hablo inglés y alemán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hablo inglés y francés.  No hablo alemán.  Mi amigo habla galés y portugués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7912080" y="4937040"/>
            <a:ext cx="98748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hablo inglés y alemán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hablo inglés y francés.  No hablo alemán.  Mi amigo habla galés y portugués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hablo inglés y francés.  No hablo alemán.  Mi amigo habla galés y portugués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Mi amigo habla galés y portugués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5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migo habla galés y portugu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1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5934240" y="48290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castellano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migo habla galés y portugu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934240" y="48290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94036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o hablo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castellano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migo habla galés y portugu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6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934240" y="48290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94036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940360" y="587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o hablo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castellano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migo habla galés y portugu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75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5934240" y="48290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94036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5940360" y="587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23:26Z</dcterms:modified>
  <cp:revision>369</cp:revision>
  <dc:subject/>
  <dc:title>TITLE</dc:title>
</cp:coreProperties>
</file>