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7101-A61D-4FA6-9C97-7B1D40E7FE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C827-53B4-45F3-90B8-3F7A79C424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6C9F-CAAD-42DB-834F-7D42199A59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0838-7B69-433A-917E-C49484C8A4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E43A-F3B2-46C3-BFDC-78EF737ADB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D6C-9EE6-4F40-AEC6-851171FD38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BB2-D8D8-4C66-9536-95E8AA56F6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F365-66E7-41A5-9E1C-CB358470DE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B0DB-71FE-47C0-9563-C84C6A9F58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041-AEEE-4995-A18B-DAC0D75C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EDB-F2AF-4C3C-8B31-3568E407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D9E-C1A0-43B7-8804-8039EF07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4AE-8E69-4215-8022-85F8E25D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013-F0D2-4E81-B457-285EA273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4B37-FDA3-4A65-BAF3-F22B83B2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5B23-E0AF-42D7-811E-6D56C961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4EC-7B4A-4825-8592-201E679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BE9B-FFC3-4662-A498-67B89BD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2F4E-5E8A-478B-B88B-72E793C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0A3-9635-4655-BC00-382D3E3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ACC-E4A3-4D12-ABFC-B83BABA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5063-1B1C-46E0-BD77-9CB95C2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ABDE-A87D-451B-B2AA-22E8C4B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203-6484-46EF-BA52-6B9D9B37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729B-CED6-4A5C-BE35-22215076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A9A-B00C-49F2-A200-3C04CDF7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4114-37A7-4067-84C3-137BC84C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430F-32E7-484F-8481-9CD9709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099F-98A5-4D05-873D-FE6A3E43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D5A6-7F93-411E-A0E8-A83F4810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7590-EBF2-4BE4-B80E-487197B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0E8-25E4-4231-8855-CFC2852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B7AE-1C05-4389-A23B-AF04763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E38B-D47A-4074-B220-51149C5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8486-8120-489E-B299-16AB710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A8DD-AAE1-454C-B5C0-94C56C8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8663-7EFE-4D6E-9026-F8A7AF8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6EBC-8C82-490D-BA22-FD345AB7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EC6C-3302-408C-8347-436B32BD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0CF-D8AC-4B28-96F0-1DF9F33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790-0ECC-4AFF-B460-248C2C6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458-2F37-4534-832F-66BB1DA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0E6-44A4-48AA-8258-C139764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A4F-86BD-4DB0-A483-004104D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6B6-CA00-4BEE-B303-90B2619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2EA-909F-4A14-A180-458F637B10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40DF-5550-4E4E-87AA-2333D09B46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F3F1-4ABE-412E-B48A-87BC57B9881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64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hablo inglés y alemán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7912080" y="4937040"/>
            <a:ext cx="98748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hablo inglés y alemán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hablo inglés y francés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Mi amigo habla galés y portugués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hablo castellano 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1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francés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o hablo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hablo inglés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6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940360" y="587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15920"/>
          <a:ext cx="8856720" cy="2530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España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alemá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No hablo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Mi amiga habla italiano y chino.  ¿Hablas alemá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vo en Barcelona, y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castellano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catalán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 y franc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No hablo alemán. 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migo habla galés y portugu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¿Hablas árab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isa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Vivo en México, y hablo español.  También </a:t>
                      </a:r>
                      <a:r>
                        <a:rPr b="0" lang="en-GB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ablo inglé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y portugués porque mi madre es brasileña.  Mi padre habla alemán y francés.  ¿Hablas español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75" name="TextBox 3"/>
          <p:cNvSpPr/>
          <p:nvPr/>
        </p:nvSpPr>
        <p:spPr>
          <a:xfrm>
            <a:off x="108000" y="2637000"/>
            <a:ext cx="89280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True or fal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German.  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and Iker speak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Portugues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ker speaks Span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na speaks Frenc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risa speaks Engli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940360" y="32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940360" y="373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940360" y="4307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934240" y="48290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94036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5940360" y="587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3:26Z</dcterms:modified>
  <cp:revision>369</cp:revision>
  <dc:subject/>
  <dc:title>TITLE</dc:title>
</cp:coreProperties>
</file>