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980-4930-4A17-8005-ECA68E7A02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0CF-F319-4058-ADEE-B78FEDEF5E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2BF9-2FFA-4D96-948B-257B4FD0CB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856-2E17-42FF-9164-F176C4CC86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58F-34EB-46A4-8BB8-D5F5EC523B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F6D-BA33-4C35-BBA0-9163F88EE6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596-4754-43A8-84D0-E4AB518766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FB20-4945-4A3E-8659-B74B69C9A1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C5A6-11BA-47B9-B745-E96A3C5BB1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417-F7A9-470A-8ACF-2C542DD113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A08A-2232-4E98-A10A-2181CC74D3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4259-70E8-447D-92A1-EFA4893A09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C21A-93D2-4D27-9C20-3429ED2D00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652-572F-45B7-A482-9FEEE9718C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37F3-94F1-4551-A52C-D1079DE88A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F40-948C-47B4-B312-64CB5F61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0B4-CE7C-4BEE-B7AB-FADDEFE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37B-7175-4965-B961-ABCDBF2C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CDE-65A7-4A6D-8CDA-8C1AFE7C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BD7D-220E-4FAF-A20C-03DD036B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1B5-3844-4237-BD64-E8DAEEA2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F5A6-A9A9-46F1-B79A-6BA2788C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3E68-40D0-4E1D-8D5B-7CEB26C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457-F7CF-4C65-8109-DFA05013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D94A-4C28-4162-93B2-FFF9F20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31D0-95B0-423A-A995-6B26600A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5CA-7900-470F-9D17-E7EBD108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3F6-001F-4A9F-97BD-5285F1F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6E7-465C-4E46-84BE-DD3AD9B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E28A-62AD-4564-BDB9-9C8415C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CBA2-0BBF-4F25-9F0C-D0AD0D37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6397-2675-4ACF-AB41-2E72131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D443-DE61-4EDB-85D4-AAA91800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517A-EE84-4555-A986-A410C4EC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3DA2-8D2F-436E-9AEC-4CF524AB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BF92-B51B-4A99-BB6E-953E9106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8DDC-7EEF-4C59-B76E-56797A73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771-52BA-489D-BEDE-A2F16652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87A4-5DD3-4A22-9ECE-E7E93E7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9C85-572F-4FE7-8739-066FB37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74DD-DC9A-48D1-AA42-4E123E94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E190-1BC0-4FCF-A04B-36C9059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856A-5452-4D78-8772-E750E78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CD79-1C31-45B7-8D17-F4380CA2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C31F-7859-4388-AB0A-3808B4C4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A75-54B9-441A-A7FA-C7F4F924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983-0B70-4DF3-A54E-D9FB1D5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412-5C04-48AD-A363-1F783E2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3F7-24F0-4FF0-86F9-E6AE3C98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03C-6AB9-4ABC-BC98-B1C7985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923-7242-4D6D-AA07-D10FE4B4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1273-27D2-444F-B5DC-B2B24537BD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2BC-8469-4706-8278-F5982DE27F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7D7-F3C7-4FF5-883E-C794E4C937A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24000" y="152892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g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348000" y="1528920"/>
            <a:ext cx="244800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pañ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72360" y="152892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4000" y="442764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348000" y="4427640"/>
            <a:ext cx="244800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m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372360" y="442764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3355920" y="5195880"/>
            <a:ext cx="2440080" cy="1465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3348000" y="2309760"/>
            <a:ext cx="2448000" cy="160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6391440" y="5195880"/>
            <a:ext cx="2428560" cy="1617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4"/>
          <a:stretch/>
        </p:blipFill>
        <p:spPr>
          <a:xfrm>
            <a:off x="6372360" y="229716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5"/>
          <a:stretch/>
        </p:blipFill>
        <p:spPr>
          <a:xfrm>
            <a:off x="324000" y="5200560"/>
            <a:ext cx="2447640" cy="1468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6"/>
          <a:stretch/>
        </p:blipFill>
        <p:spPr>
          <a:xfrm>
            <a:off x="324000" y="2309760"/>
            <a:ext cx="24476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851280" y="2514600"/>
            <a:ext cx="2449440" cy="1606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6588000" y="251784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180" name="Down Arrow Callout 2"/>
          <p:cNvSpPr/>
          <p:nvPr/>
        </p:nvSpPr>
        <p:spPr>
          <a:xfrm>
            <a:off x="5796000" y="549360"/>
            <a:ext cx="1297080" cy="187164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Callout 9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Down Arrow Callout 2"/>
          <p:cNvSpPr/>
          <p:nvPr/>
        </p:nvSpPr>
        <p:spPr>
          <a:xfrm>
            <a:off x="5796000" y="549360"/>
            <a:ext cx="1297080" cy="187164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3851280" y="2567160"/>
            <a:ext cx="2449440" cy="1465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6588000" y="2529000"/>
            <a:ext cx="2428920" cy="1617480"/>
          </a:xfrm>
          <a:prstGeom prst="rect">
            <a:avLst/>
          </a:prstGeom>
          <a:ln w="0">
            <a:noFill/>
          </a:ln>
        </p:spPr>
      </p:pic>
      <p:sp>
        <p:nvSpPr>
          <p:cNvPr id="186" name="Oval Callout 10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Down Arrow Callout 2"/>
          <p:cNvSpPr/>
          <p:nvPr/>
        </p:nvSpPr>
        <p:spPr>
          <a:xfrm>
            <a:off x="5796000" y="549360"/>
            <a:ext cx="1297080" cy="187164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3851280" y="2693880"/>
            <a:ext cx="2449440" cy="1470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6588000" y="2693880"/>
            <a:ext cx="24400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2448000" cy="1468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2"/>
          <a:stretch/>
        </p:blipFill>
        <p:spPr>
          <a:xfrm>
            <a:off x="6667560" y="2565360"/>
            <a:ext cx="2441520" cy="1463760"/>
          </a:xfrm>
          <a:prstGeom prst="rect">
            <a:avLst/>
          </a:prstGeom>
          <a:ln w="0">
            <a:noFill/>
          </a:ln>
        </p:spPr>
      </p:pic>
      <p:sp>
        <p:nvSpPr>
          <p:cNvPr id="195" name="Oval Callout 7"/>
          <p:cNvSpPr/>
          <p:nvPr/>
        </p:nvSpPr>
        <p:spPr>
          <a:xfrm>
            <a:off x="179280" y="2421000"/>
            <a:ext cx="30974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5796000" y="2708280"/>
            <a:ext cx="871560" cy="91692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198" name="Cross 3"/>
          <p:cNvSpPr/>
          <p:nvPr/>
        </p:nvSpPr>
        <p:spPr>
          <a:xfrm rot="2836200">
            <a:off x="6652080" y="4425120"/>
            <a:ext cx="2156040" cy="2087640"/>
          </a:xfrm>
          <a:prstGeom prst="plus">
            <a:avLst>
              <a:gd name="adj" fmla="val 45454"/>
            </a:avLst>
          </a:prstGeom>
          <a:solidFill>
            <a:srgbClr val="ff0066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Down Arrow Callout 11"/>
          <p:cNvSpPr/>
          <p:nvPr/>
        </p:nvSpPr>
        <p:spPr>
          <a:xfrm>
            <a:off x="179280" y="4532400"/>
            <a:ext cx="1935360" cy="1873080"/>
          </a:xfrm>
          <a:prstGeom prst="downArrowCallout">
            <a:avLst>
              <a:gd name="adj1" fmla="val 15701"/>
              <a:gd name="adj2" fmla="val 25003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Callout 12"/>
          <p:cNvSpPr/>
          <p:nvPr/>
        </p:nvSpPr>
        <p:spPr>
          <a:xfrm>
            <a:off x="2700360" y="4532400"/>
            <a:ext cx="30956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 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"/>
          <a:stretch/>
        </p:blipFill>
        <p:spPr>
          <a:xfrm>
            <a:off x="6507000" y="4737240"/>
            <a:ext cx="2448000" cy="1465200"/>
          </a:xfrm>
          <a:prstGeom prst="rect">
            <a:avLst/>
          </a:prstGeom>
          <a:ln w="0">
            <a:noFill/>
          </a:ln>
        </p:spPr>
      </p:pic>
      <p:sp>
        <p:nvSpPr>
          <p:cNvPr id="203" name="Oval Callout 7"/>
          <p:cNvSpPr/>
          <p:nvPr/>
        </p:nvSpPr>
        <p:spPr>
          <a:xfrm>
            <a:off x="179280" y="2421000"/>
            <a:ext cx="30974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5796000" y="2708280"/>
            <a:ext cx="871560" cy="91692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Cross 3"/>
          <p:cNvSpPr/>
          <p:nvPr/>
        </p:nvSpPr>
        <p:spPr>
          <a:xfrm rot="2836200">
            <a:off x="6652080" y="4425120"/>
            <a:ext cx="2156040" cy="2087640"/>
          </a:xfrm>
          <a:prstGeom prst="plus">
            <a:avLst>
              <a:gd name="adj" fmla="val 45454"/>
            </a:avLst>
          </a:prstGeom>
          <a:solidFill>
            <a:srgbClr val="ff0066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Down Arrow Callout 11"/>
          <p:cNvSpPr/>
          <p:nvPr/>
        </p:nvSpPr>
        <p:spPr>
          <a:xfrm>
            <a:off x="179280" y="4532400"/>
            <a:ext cx="1935360" cy="1873080"/>
          </a:xfrm>
          <a:prstGeom prst="downArrowCallout">
            <a:avLst>
              <a:gd name="adj1" fmla="val 15701"/>
              <a:gd name="adj2" fmla="val 25003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Callout 12"/>
          <p:cNvSpPr/>
          <p:nvPr/>
        </p:nvSpPr>
        <p:spPr>
          <a:xfrm>
            <a:off x="2700360" y="4532400"/>
            <a:ext cx="30956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 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2"/>
          <a:stretch/>
        </p:blipFill>
        <p:spPr>
          <a:xfrm>
            <a:off x="3348000" y="2309760"/>
            <a:ext cx="2448000" cy="1606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6667560" y="2309760"/>
            <a:ext cx="24289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355920" y="5195880"/>
            <a:ext cx="2440080" cy="1465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3348000" y="2309760"/>
            <a:ext cx="2448000" cy="160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6391440" y="5195880"/>
            <a:ext cx="2428560" cy="161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6372360" y="229716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324000" y="5200560"/>
            <a:ext cx="2447640" cy="146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6"/>
          <a:stretch/>
        </p:blipFill>
        <p:spPr>
          <a:xfrm>
            <a:off x="324000" y="2309760"/>
            <a:ext cx="24476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971640" y="148428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Straight Connector 3"/>
          <p:cNvSpPr/>
          <p:nvPr/>
        </p:nvSpPr>
        <p:spPr>
          <a:xfrm>
            <a:off x="5219640" y="2781360"/>
            <a:ext cx="936720" cy="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971640" y="31100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Straight Connector 6"/>
          <p:cNvSpPr/>
          <p:nvPr/>
        </p:nvSpPr>
        <p:spPr>
          <a:xfrm>
            <a:off x="2484360" y="4365720"/>
            <a:ext cx="935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0520" y="5013360"/>
            <a:ext cx="455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o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4592520" y="5013360"/>
            <a:ext cx="455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3132000" y="6308640"/>
            <a:ext cx="576360" cy="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Straight Connector 10"/>
          <p:cNvSpPr/>
          <p:nvPr/>
        </p:nvSpPr>
        <p:spPr>
          <a:xfrm>
            <a:off x="4751280" y="6310440"/>
            <a:ext cx="935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4859280" y="2625840"/>
            <a:ext cx="2449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435640" y="2624040"/>
            <a:ext cx="2441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5292720" y="2612880"/>
            <a:ext cx="24480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580000" y="2697120"/>
            <a:ext cx="2448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5508720" y="2548080"/>
            <a:ext cx="24289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651640" y="2693880"/>
            <a:ext cx="244944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5:35Z</dcterms:modified>
  <cp:revision>345</cp:revision>
  <dc:subject/>
  <dc:title>TITLE</dc:title>
</cp:coreProperties>
</file>