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EEB7-EE24-42B7-A08D-F4E4C6C3BA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60AE-D658-45CD-BE0B-C78F835CE9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DB5A-CFEA-4133-B72C-D97FF5B8B11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0A3F-6D94-470D-A1A2-30289B41F3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B215-7093-4ABD-B94C-5357278960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4AAB-6AA4-47F4-A9AF-9D23398418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850E-A14F-4042-8787-46344579D6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AB14-41FF-4D65-B213-F3351855A7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CC76-ACC9-4174-8FDE-40E3FB4AF1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9708-5092-4E23-8C0E-169033A24D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06EA-26E3-4CAA-9936-EB935421E3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4B21-4EC8-4DEC-992D-2DDF4F1A2C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8F67-DF9D-4776-9E8C-0B4A06642D3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8654-9ECA-43F3-B591-F1BF3CF79D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47EB-7233-495A-A707-E990028053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366-CEB1-4591-B272-7F4C6BC8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6A0-FC57-48F5-B88E-68464435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0B8-A72D-4BE2-AAA4-A546594E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7D9-5B04-4D0E-8227-976A79DE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241B-94B1-494F-82A0-778CDFE5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C764-6013-41D2-9E39-1479A57A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C8E7-7805-46C8-BA05-9FED78AE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E74A-AAC2-4B0A-80CC-9086737D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206C-5834-4243-970F-2953CA18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FCB3-26B2-48C5-B165-35A43380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DCB1-8413-4D65-9A60-DFDCA734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B66-9950-48EE-95BD-98AA80A2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A404-712F-4173-B88E-E9ED44D8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9B19-B1AA-4E91-8493-090C0ED7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9FE8-0B09-4067-982E-751243B0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5464-795E-4BC8-8A83-84356E7F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6976-347E-49FE-ACF7-589F497A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AC8E-F4AC-47BD-9207-61A8681D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0BDE0-3CAD-4627-A741-E9247C0A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5BBB3-4E3E-4ABF-8789-61449B9A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DC9DF-86F6-4940-8FCC-5943F0F8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335AC-9D22-4441-B480-DC632498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F11-00A2-4787-BD35-7EBAC0AD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80142-74F9-4AAC-9689-C71B7CF6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8064-96D0-4645-8DAC-92FEB012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E06E-279E-41D6-B19D-66C1B06D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C3B2E-3627-41E6-AB44-6CFFE054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9ECEB-32E3-44F9-8633-05736535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5389-A935-480E-9014-4D1214B0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FEE04-E4BB-4C33-842D-99164F30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DDD-D097-4A1D-8402-F34A6BD5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EA6-55FB-4ABF-AB8E-CADA016F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8D9-EB79-474A-9342-04CF0A4A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BD0-6FD8-4EB3-95A1-0A03924F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674-BB20-42C8-A985-7201D246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4D7-F9FF-43A7-8DF2-06A90B36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12FD-6EEB-46F1-9DB2-ADEDA66B10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B045-D6C0-4C49-8DD7-1A02FE0D04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6B3E-9780-4275-934A-540F8FD9681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324000" y="1528920"/>
            <a:ext cx="24476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gl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3348000" y="1528920"/>
            <a:ext cx="244800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pañ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372360" y="1528920"/>
            <a:ext cx="24476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ranc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324000" y="4427640"/>
            <a:ext cx="24476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alé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3348000" y="4427640"/>
            <a:ext cx="244800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em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6372360" y="4427640"/>
            <a:ext cx="2447640" cy="764280"/>
          </a:xfrm>
          <a:prstGeom prst="rect">
            <a:avLst/>
          </a:prstGeom>
          <a:solidFill>
            <a:srgbClr val="ffff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i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3355920" y="5195880"/>
            <a:ext cx="2440080" cy="1465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2"/>
          <a:stretch/>
        </p:blipFill>
        <p:spPr>
          <a:xfrm>
            <a:off x="3348000" y="2309760"/>
            <a:ext cx="2448000" cy="1606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6391440" y="5195880"/>
            <a:ext cx="2428560" cy="1617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4"/>
          <a:stretch/>
        </p:blipFill>
        <p:spPr>
          <a:xfrm>
            <a:off x="6372360" y="2297160"/>
            <a:ext cx="2447640" cy="1631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"/>
          <p:cNvPicPr/>
          <p:nvPr/>
        </p:nvPicPr>
        <p:blipFill>
          <a:blip r:embed="rId5"/>
          <a:stretch/>
        </p:blipFill>
        <p:spPr>
          <a:xfrm>
            <a:off x="324000" y="5200560"/>
            <a:ext cx="2447640" cy="1468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"/>
          <p:cNvPicPr/>
          <p:nvPr/>
        </p:nvPicPr>
        <p:blipFill>
          <a:blip r:embed="rId6"/>
          <a:stretch/>
        </p:blipFill>
        <p:spPr>
          <a:xfrm>
            <a:off x="324000" y="2309760"/>
            <a:ext cx="244764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3851280" y="2514600"/>
            <a:ext cx="2449440" cy="1606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6588000" y="2517840"/>
            <a:ext cx="2448000" cy="1631880"/>
          </a:xfrm>
          <a:prstGeom prst="rect">
            <a:avLst/>
          </a:prstGeom>
          <a:ln w="0">
            <a:noFill/>
          </a:ln>
        </p:spPr>
      </p:pic>
      <p:sp>
        <p:nvSpPr>
          <p:cNvPr id="180" name="Down Arrow Callout 2"/>
          <p:cNvSpPr/>
          <p:nvPr/>
        </p:nvSpPr>
        <p:spPr>
          <a:xfrm>
            <a:off x="5796000" y="549360"/>
            <a:ext cx="1297080" cy="1871640"/>
          </a:xfrm>
          <a:prstGeom prst="down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Oval Callout 9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Down Arrow Callout 2"/>
          <p:cNvSpPr/>
          <p:nvPr/>
        </p:nvSpPr>
        <p:spPr>
          <a:xfrm>
            <a:off x="5796000" y="549360"/>
            <a:ext cx="1297080" cy="1871640"/>
          </a:xfrm>
          <a:prstGeom prst="down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3851280" y="2567160"/>
            <a:ext cx="2449440" cy="1465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6588000" y="2529000"/>
            <a:ext cx="2428920" cy="1617480"/>
          </a:xfrm>
          <a:prstGeom prst="rect">
            <a:avLst/>
          </a:prstGeom>
          <a:ln w="0">
            <a:noFill/>
          </a:ln>
        </p:spPr>
      </p:pic>
      <p:sp>
        <p:nvSpPr>
          <p:cNvPr id="186" name="Oval Callout 10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Oval Callout 8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Down Arrow Callout 2"/>
          <p:cNvSpPr/>
          <p:nvPr/>
        </p:nvSpPr>
        <p:spPr>
          <a:xfrm>
            <a:off x="5796000" y="549360"/>
            <a:ext cx="1297080" cy="1871640"/>
          </a:xfrm>
          <a:prstGeom prst="down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3851280" y="2693880"/>
            <a:ext cx="2449440" cy="1470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"/>
          <p:cNvPicPr/>
          <p:nvPr/>
        </p:nvPicPr>
        <p:blipFill>
          <a:blip r:embed="rId2"/>
          <a:stretch/>
        </p:blipFill>
        <p:spPr>
          <a:xfrm>
            <a:off x="6588000" y="2693880"/>
            <a:ext cx="244008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2448000" cy="1468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2"/>
          <a:stretch/>
        </p:blipFill>
        <p:spPr>
          <a:xfrm>
            <a:off x="6667560" y="2565360"/>
            <a:ext cx="2441520" cy="1463760"/>
          </a:xfrm>
          <a:prstGeom prst="rect">
            <a:avLst/>
          </a:prstGeom>
          <a:ln w="0">
            <a:noFill/>
          </a:ln>
        </p:spPr>
      </p:pic>
      <p:sp>
        <p:nvSpPr>
          <p:cNvPr id="195" name="Oval Callout 7"/>
          <p:cNvSpPr/>
          <p:nvPr/>
        </p:nvSpPr>
        <p:spPr>
          <a:xfrm>
            <a:off x="179280" y="2421000"/>
            <a:ext cx="309744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5796000" y="2708280"/>
            <a:ext cx="871560" cy="91692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9" descr=""/>
          <p:cNvPicPr/>
          <p:nvPr/>
        </p:nvPicPr>
        <p:blipFill>
          <a:blip r:embed="rId3"/>
          <a:stretch/>
        </p:blipFill>
        <p:spPr>
          <a:xfrm>
            <a:off x="6516720" y="4653000"/>
            <a:ext cx="2448000" cy="1631880"/>
          </a:xfrm>
          <a:prstGeom prst="rect">
            <a:avLst/>
          </a:prstGeom>
          <a:ln w="0">
            <a:noFill/>
          </a:ln>
        </p:spPr>
      </p:pic>
      <p:sp>
        <p:nvSpPr>
          <p:cNvPr id="198" name="Cross 3"/>
          <p:cNvSpPr/>
          <p:nvPr/>
        </p:nvSpPr>
        <p:spPr>
          <a:xfrm rot="2836200">
            <a:off x="6652080" y="4425120"/>
            <a:ext cx="2156040" cy="2087640"/>
          </a:xfrm>
          <a:prstGeom prst="plus">
            <a:avLst>
              <a:gd name="adj" fmla="val 45454"/>
            </a:avLst>
          </a:prstGeom>
          <a:solidFill>
            <a:srgbClr val="ff0066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Down Arrow Callout 11"/>
          <p:cNvSpPr/>
          <p:nvPr/>
        </p:nvSpPr>
        <p:spPr>
          <a:xfrm>
            <a:off x="179280" y="4532400"/>
            <a:ext cx="1935360" cy="1873080"/>
          </a:xfrm>
          <a:prstGeom prst="downArrowCallout">
            <a:avLst>
              <a:gd name="adj1" fmla="val 15701"/>
              <a:gd name="adj2" fmla="val 25003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per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Callout 12"/>
          <p:cNvSpPr/>
          <p:nvPr/>
        </p:nvSpPr>
        <p:spPr>
          <a:xfrm>
            <a:off x="2700360" y="4532400"/>
            <a:ext cx="309564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 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15" descr=""/>
          <p:cNvPicPr/>
          <p:nvPr/>
        </p:nvPicPr>
        <p:blipFill>
          <a:blip r:embed="rId1"/>
          <a:stretch/>
        </p:blipFill>
        <p:spPr>
          <a:xfrm>
            <a:off x="6507000" y="4737240"/>
            <a:ext cx="2448000" cy="1465200"/>
          </a:xfrm>
          <a:prstGeom prst="rect">
            <a:avLst/>
          </a:prstGeom>
          <a:ln w="0">
            <a:noFill/>
          </a:ln>
        </p:spPr>
      </p:pic>
      <p:sp>
        <p:nvSpPr>
          <p:cNvPr id="203" name="Oval Callout 7"/>
          <p:cNvSpPr/>
          <p:nvPr/>
        </p:nvSpPr>
        <p:spPr>
          <a:xfrm>
            <a:off x="179280" y="2421000"/>
            <a:ext cx="309744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5796000" y="2708280"/>
            <a:ext cx="871560" cy="91692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Cross 3"/>
          <p:cNvSpPr/>
          <p:nvPr/>
        </p:nvSpPr>
        <p:spPr>
          <a:xfrm rot="2836200">
            <a:off x="6652080" y="4425120"/>
            <a:ext cx="2156040" cy="2087640"/>
          </a:xfrm>
          <a:prstGeom prst="plus">
            <a:avLst>
              <a:gd name="adj" fmla="val 45454"/>
            </a:avLst>
          </a:prstGeom>
          <a:solidFill>
            <a:srgbClr val="ff0066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Down Arrow Callout 11"/>
          <p:cNvSpPr/>
          <p:nvPr/>
        </p:nvSpPr>
        <p:spPr>
          <a:xfrm>
            <a:off x="179280" y="4532400"/>
            <a:ext cx="1935360" cy="1873080"/>
          </a:xfrm>
          <a:prstGeom prst="downArrowCallout">
            <a:avLst>
              <a:gd name="adj1" fmla="val 15701"/>
              <a:gd name="adj2" fmla="val 25003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per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Callout 12"/>
          <p:cNvSpPr/>
          <p:nvPr/>
        </p:nvSpPr>
        <p:spPr>
          <a:xfrm>
            <a:off x="2700360" y="4532400"/>
            <a:ext cx="309564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 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13" descr=""/>
          <p:cNvPicPr/>
          <p:nvPr/>
        </p:nvPicPr>
        <p:blipFill>
          <a:blip r:embed="rId2"/>
          <a:stretch/>
        </p:blipFill>
        <p:spPr>
          <a:xfrm>
            <a:off x="3348000" y="2309760"/>
            <a:ext cx="2448000" cy="1606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"/>
          <p:cNvPicPr/>
          <p:nvPr/>
        </p:nvPicPr>
        <p:blipFill>
          <a:blip r:embed="rId3"/>
          <a:stretch/>
        </p:blipFill>
        <p:spPr>
          <a:xfrm>
            <a:off x="6667560" y="2309760"/>
            <a:ext cx="24289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3355920" y="5195880"/>
            <a:ext cx="2440080" cy="1465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3348000" y="2309760"/>
            <a:ext cx="2448000" cy="160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6391440" y="5195880"/>
            <a:ext cx="2428560" cy="1617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4"/>
          <a:stretch/>
        </p:blipFill>
        <p:spPr>
          <a:xfrm>
            <a:off x="6372360" y="2297160"/>
            <a:ext cx="2447640" cy="163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5"/>
          <a:stretch/>
        </p:blipFill>
        <p:spPr>
          <a:xfrm>
            <a:off x="324000" y="5200560"/>
            <a:ext cx="2447640" cy="1468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6"/>
          <a:stretch/>
        </p:blipFill>
        <p:spPr>
          <a:xfrm>
            <a:off x="324000" y="2309760"/>
            <a:ext cx="244764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971640" y="148428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ar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Straight Connector 3"/>
          <p:cNvSpPr/>
          <p:nvPr/>
        </p:nvSpPr>
        <p:spPr>
          <a:xfrm>
            <a:off x="5219640" y="2781360"/>
            <a:ext cx="936720" cy="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971640" y="31100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to speak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Straight Connector 6"/>
          <p:cNvSpPr/>
          <p:nvPr/>
        </p:nvSpPr>
        <p:spPr>
          <a:xfrm>
            <a:off x="2484360" y="4365720"/>
            <a:ext cx="9352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0520" y="5013360"/>
            <a:ext cx="455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o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4592520" y="5013360"/>
            <a:ext cx="455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I speak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Straight Connector 9"/>
          <p:cNvSpPr/>
          <p:nvPr/>
        </p:nvSpPr>
        <p:spPr>
          <a:xfrm>
            <a:off x="3132000" y="6308640"/>
            <a:ext cx="576360" cy="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Straight Connector 10"/>
          <p:cNvSpPr/>
          <p:nvPr/>
        </p:nvSpPr>
        <p:spPr>
          <a:xfrm>
            <a:off x="4751280" y="6310440"/>
            <a:ext cx="9352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Callout 8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4859280" y="2625840"/>
            <a:ext cx="24494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Callout 8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5435640" y="2624040"/>
            <a:ext cx="244152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Callout 8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5292720" y="2612880"/>
            <a:ext cx="244800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Oval Callout 8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bl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5580000" y="2697120"/>
            <a:ext cx="24480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Callout 8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5508720" y="2548080"/>
            <a:ext cx="24289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Callout 8"/>
          <p:cNvSpPr/>
          <p:nvPr/>
        </p:nvSpPr>
        <p:spPr>
          <a:xfrm>
            <a:off x="611280" y="2565360"/>
            <a:ext cx="3097080" cy="1584360"/>
          </a:xfrm>
          <a:prstGeom prst="wedgeEllipseCallout">
            <a:avLst>
              <a:gd name="adj1" fmla="val -42842"/>
              <a:gd name="adj2" fmla="val 7207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651640" y="2693880"/>
            <a:ext cx="244944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45:35Z</dcterms:modified>
  <cp:revision>345</cp:revision>
  <dc:subject/>
  <dc:title>TITLE</dc:title>
</cp:coreProperties>
</file>