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E5D-1375-487A-87B5-7B010380DAB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70D-15C1-44BB-901E-2CBA8916ED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F73-6894-4E33-B958-C4CF9C2A3B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722-CC5F-42CE-9290-5673B49827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664A-291E-40CF-ACF5-68CF678D1C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57F0-F30A-4A6D-AE0D-8E6818C8D1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923E-B1CF-4B73-AE7E-44A1ACB7D4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8B3-91B7-43D2-B529-681DDE70CF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2DD-B79A-4719-AEE5-9FEEE9C4CC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4F4-D10B-4307-9F70-70A89FF9E7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D87E-9809-4E9B-94DF-A086D6A522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607-AD74-4513-A624-A9E57FE0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372-386F-4149-85EB-B06A061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AAF-8B94-4493-A625-656D39F9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DF9-8456-4605-ABF6-A0BE1AAA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042-20D2-4129-8299-3133531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9AD-88B7-40F8-9CF4-21760ED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DC7-6BC7-494F-8F87-388C63E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611-EC42-4C00-B20E-130E07F8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35E-BD7B-4E5F-AC75-C88C4DD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BF9-C350-491F-A111-A9E581F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128-B3BF-49BD-9B5E-82DA694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F61-F384-4170-BD2E-9A17306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3D7-C956-44DE-8491-94D71ED207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latico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laticon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tienes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o hambre.  Quiero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go tien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tienes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uria tiene hambr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e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416720" y="15746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54000"/>
            <a:ext cx="1722600" cy="1722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3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ria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hambre.  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uria tien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ambre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omer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0" y="6597720"/>
            <a:ext cx="4537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</a:t>
            </a:r>
            <a:r>
              <a:rPr b="0" lang="en-GB" sz="10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flaticon.com</a:t>
            </a: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o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o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0" y="659772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Rounded MT Bold"/>
              </a:rPr>
              <a:t>icons from http://www.flaticon.com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2050920" y="115920"/>
            <a:ext cx="5761080" cy="649080"/>
          </a:xfrm>
          <a:prstGeom prst="wedgeRoundRectCallout">
            <a:avLst>
              <a:gd name="adj1" fmla="val -58425"/>
              <a:gd name="adj2" fmla="val 92462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iego, ¿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ounded Rectangular Callout 10"/>
          <p:cNvSpPr/>
          <p:nvPr/>
        </p:nvSpPr>
        <p:spPr>
          <a:xfrm>
            <a:off x="1655640" y="1139760"/>
            <a:ext cx="5761080" cy="1136880"/>
          </a:xfrm>
          <a:prstGeom prst="wedgeRoundRectCallout">
            <a:avLst>
              <a:gd name="adj1" fmla="val 54467"/>
              <a:gd name="adj2" fmla="val 88143"/>
              <a:gd name="adj3" fmla="val 16667"/>
            </a:avLst>
          </a:prstGeom>
          <a:solidFill>
            <a:srgbClr val="ffff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¡Sí!  Teng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ed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Quier</a:t>
            </a:r>
            <a:r>
              <a:rPr b="0" lang="en-GB" sz="3600" spc="-1" strike="noStrike">
                <a:solidFill>
                  <a:srgbClr val="00cc00"/>
                </a:solidFill>
                <a:latin typeface="Comic Sans MS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beber limonad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79280" y="4581360"/>
            <a:ext cx="8713800" cy="1434600"/>
          </a:xfrm>
          <a:prstGeom prst="rect">
            <a:avLst/>
          </a:prstGeom>
          <a:solidFill>
            <a:srgbClr val="ff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go tiene sed.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e beber limonad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0" y="8424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7527960" y="1808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7:08Z</dcterms:modified>
  <cp:revision>174</cp:revision>
  <dc:subject/>
  <dc:title>TITLE</dc:title>
</cp:coreProperties>
</file>