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8F87-446C-4377-9ED8-2C39505DF0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BFB8-36E6-4AE3-A982-3F0EE60249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6132-EDD1-4791-A5EF-CA7152DD853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43A7-518C-45BB-A9B0-278B526894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AD95-CD90-44D4-8DA0-B513897465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D2C3-819B-4F93-99EB-779D7FE60E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77E5-612B-409C-95A3-2716BE1F8B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18AA-99FC-4FAE-8492-F881F6B1BA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0A29-7163-493C-8F5F-DC8E6A1DF2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D474-F695-4F1E-95A8-6020358CA4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85F8-2AB7-44B8-A375-DADB585443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018-50F5-4877-BBA6-B3B87267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CEB-EBA3-4D3E-9605-1C1F7DFD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A08-E60D-45D5-945F-5ECD137B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382-5EDE-41A8-94C7-29046C5A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F45-B72F-4CED-ABA2-F1DB0EAD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150-DF53-4E3D-9513-6E1F733F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043-480D-47F4-A154-951E0641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CFE-4E21-4E5A-9106-15A96E91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836-D23E-41DB-9D7B-EE35B4B4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917-76A5-4BD6-97E8-3F2B3833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72D-3EAB-498F-A4F6-D390CB14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AB4-F82D-4CBA-9D16-87FADBE3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6FD3-115A-417D-84BB-308F433975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flatico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flatico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flatico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flatico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flatico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laticon.com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7416720" y="15746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0" y="54000"/>
            <a:ext cx="1722600" cy="1722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0" y="6597720"/>
            <a:ext cx="45370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</a:t>
            </a:r>
            <a:r>
              <a:rPr b="0" lang="en-GB" sz="1000" spc="-1" strike="noStrike" u="sng">
                <a:solidFill>
                  <a:srgbClr val="ff5050"/>
                </a:solidFill>
                <a:uFillTx/>
                <a:latin typeface="Arial Rounded MT Bold"/>
                <a:hlinkClick r:id="rId3"/>
              </a:rPr>
              <a:t>http://www.flaticon.com</a:t>
            </a: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uria, ¿tienes hambr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o hambre.  Quiero comer pizz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0" y="6597720"/>
            <a:ext cx="45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http://www.flaticon.com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iego, ¿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tie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Quier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beber limonad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179280" y="4581360"/>
            <a:ext cx="8713800" cy="1434600"/>
          </a:xfrm>
          <a:prstGeom prst="rect">
            <a:avLst/>
          </a:prstGeom>
          <a:solidFill>
            <a:srgbClr val="ffff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iego tien</a:t>
            </a:r>
            <a:r>
              <a:rPr b="0" lang="en-GB" sz="4400" spc="-1" strike="noStrike">
                <a:solidFill>
                  <a:srgbClr val="00cc00"/>
                </a:solidFill>
                <a:latin typeface="Comic Sans MS"/>
              </a:rPr>
              <a:t>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sed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</a:t>
            </a:r>
            <a:r>
              <a:rPr b="0" lang="en-GB" sz="4400" spc="-1" strike="noStrike">
                <a:solidFill>
                  <a:srgbClr val="00cc00"/>
                </a:solidFill>
                <a:latin typeface="Comic Sans MS"/>
              </a:rPr>
              <a:t>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beber limonad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0" y="842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2"/>
          <a:stretch/>
        </p:blipFill>
        <p:spPr>
          <a:xfrm>
            <a:off x="7527960" y="180828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416720" y="15746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54000"/>
            <a:ext cx="1722600" cy="1722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0" y="6597720"/>
            <a:ext cx="45370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</a:t>
            </a:r>
            <a:r>
              <a:rPr b="0" lang="en-GB" sz="1000" spc="-1" strike="noStrike" u="sng">
                <a:solidFill>
                  <a:srgbClr val="ff5050"/>
                </a:solidFill>
                <a:uFillTx/>
                <a:latin typeface="Arial Rounded MT Bold"/>
                <a:hlinkClick r:id="rId3"/>
              </a:rPr>
              <a:t>http://www.flaticon.com</a:t>
            </a: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uria, ¿tienes hambr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hambre.  Quier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comer pizz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416720" y="15746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0" y="54000"/>
            <a:ext cx="1722600" cy="1722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0" y="6597720"/>
            <a:ext cx="45370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</a:t>
            </a:r>
            <a:r>
              <a:rPr b="0" lang="en-GB" sz="1000" spc="-1" strike="noStrike" u="sng">
                <a:solidFill>
                  <a:srgbClr val="ff5050"/>
                </a:solidFill>
                <a:uFillTx/>
                <a:latin typeface="Arial Rounded MT Bold"/>
                <a:hlinkClick r:id="rId3"/>
              </a:rPr>
              <a:t>http://www.flaticon.com</a:t>
            </a: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uria, ¿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tie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hambr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hambre.  Quier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comer pizz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416720" y="15746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0" y="54000"/>
            <a:ext cx="1722600" cy="1722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0" y="6597720"/>
            <a:ext cx="45370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</a:t>
            </a:r>
            <a:r>
              <a:rPr b="0" lang="en-GB" sz="1000" spc="-1" strike="noStrike" u="sng">
                <a:solidFill>
                  <a:srgbClr val="ff5050"/>
                </a:solidFill>
                <a:uFillTx/>
                <a:latin typeface="Arial Rounded MT Bold"/>
                <a:hlinkClick r:id="rId3"/>
              </a:rPr>
              <a:t>http://www.flaticon.com</a:t>
            </a: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uria, ¿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tie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hambr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hambre.  Quier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comer pizz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79280" y="4581360"/>
            <a:ext cx="8713800" cy="1434600"/>
          </a:xfrm>
          <a:prstGeom prst="rect">
            <a:avLst/>
          </a:prstGeom>
          <a:solidFill>
            <a:srgbClr val="ffff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uria tiene hambre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e comer pizz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7416720" y="15746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0" y="54000"/>
            <a:ext cx="1722600" cy="172224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0" y="6597720"/>
            <a:ext cx="45370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</a:t>
            </a:r>
            <a:r>
              <a:rPr b="0" lang="en-GB" sz="1000" spc="-1" strike="noStrike" u="sng">
                <a:solidFill>
                  <a:srgbClr val="ff5050"/>
                </a:solidFill>
                <a:uFillTx/>
                <a:latin typeface="Arial Rounded MT Bold"/>
                <a:hlinkClick r:id="rId3"/>
              </a:rPr>
              <a:t>http://www.flaticon.com</a:t>
            </a: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uria, ¿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tie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hambr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hambre.  Quier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comer pizz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179280" y="4581360"/>
            <a:ext cx="8713800" cy="1434600"/>
          </a:xfrm>
          <a:prstGeom prst="rect">
            <a:avLst/>
          </a:prstGeom>
          <a:solidFill>
            <a:srgbClr val="ffff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uria tien</a:t>
            </a:r>
            <a:r>
              <a:rPr b="0" lang="en-GB" sz="4400" spc="-1" strike="noStrike">
                <a:solidFill>
                  <a:srgbClr val="00cc00"/>
                </a:solidFill>
                <a:latin typeface="Comic Sans MS"/>
              </a:rPr>
              <a:t>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hambre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</a:t>
            </a:r>
            <a:r>
              <a:rPr b="0" lang="en-GB" sz="4400" spc="-1" strike="noStrike">
                <a:solidFill>
                  <a:srgbClr val="00cc00"/>
                </a:solidFill>
                <a:latin typeface="Comic Sans MS"/>
              </a:rPr>
              <a:t>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comer pizz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0" y="6597720"/>
            <a:ext cx="45370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</a:t>
            </a:r>
            <a:r>
              <a:rPr b="0" lang="en-GB" sz="10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flaticon.com</a:t>
            </a: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iego, ¿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o sed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Quiero beber limonad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2"/>
          <a:stretch/>
        </p:blipFill>
        <p:spPr>
          <a:xfrm>
            <a:off x="0" y="842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7527960" y="180828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0" y="6597720"/>
            <a:ext cx="45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http://www.flaticon.com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iego, ¿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Quier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beber limonad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0" y="842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2"/>
          <a:stretch/>
        </p:blipFill>
        <p:spPr>
          <a:xfrm>
            <a:off x="7527960" y="180828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0" y="6597720"/>
            <a:ext cx="45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http://www.flaticon.com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iego, ¿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tie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Quier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beber limonad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0" y="842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2"/>
          <a:stretch/>
        </p:blipFill>
        <p:spPr>
          <a:xfrm>
            <a:off x="7527960" y="180828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0" y="6597720"/>
            <a:ext cx="45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http://www.flaticon.com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iego, ¿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tie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Quier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beber limonad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79280" y="4581360"/>
            <a:ext cx="8713800" cy="1434600"/>
          </a:xfrm>
          <a:prstGeom prst="rect">
            <a:avLst/>
          </a:prstGeom>
          <a:solidFill>
            <a:srgbClr val="ffff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iego tiene sed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e beber limonad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1"/>
          <a:stretch/>
        </p:blipFill>
        <p:spPr>
          <a:xfrm>
            <a:off x="0" y="842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2"/>
          <a:stretch/>
        </p:blipFill>
        <p:spPr>
          <a:xfrm>
            <a:off x="7527960" y="180828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37:08Z</dcterms:modified>
  <cp:revision>174</cp:revision>
  <dc:subject/>
  <dc:title>TITLE</dc:title>
</cp:coreProperties>
</file>