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CB7-9F7E-4C52-97DA-B6D9E0CC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1E6-DFB8-4934-8C38-369132E8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795-1F46-45D5-9AD2-6FCFD702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011-8E18-42C0-8DA0-010964A3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E0B-A46E-44C4-B97A-7955950B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A6B-AD83-4B37-B369-98A544A7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2C3-9A52-4702-8068-D9F93174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78A-B873-4E3E-88E1-A7A10C08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957-62DA-4898-A957-97FB285E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4AC-A3C1-4D0B-8767-4399E42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27A-619E-42BF-9B28-ACCD2C7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EC8-5F0B-4D6E-BDEA-8AAA659A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B067-48CA-4239-B672-42DEB7F2AB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800440" cy="279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779920" cy="2787840"/>
          </a:xfrm>
          <a:prstGeom prst="rect">
            <a:avLst/>
          </a:prstGeom>
          <a:ln w="0">
            <a:noFill/>
          </a:ln>
        </p:spPr>
      </p:pic>
      <p:sp>
        <p:nvSpPr>
          <p:cNvPr id="44" name="Rounded Rectangular Callout 4"/>
          <p:cNvSpPr/>
          <p:nvPr/>
        </p:nvSpPr>
        <p:spPr>
          <a:xfrm>
            <a:off x="3203640" y="189000"/>
            <a:ext cx="2736720" cy="1584360"/>
          </a:xfrm>
          <a:prstGeom prst="wedgeRoundRectCallout">
            <a:avLst>
              <a:gd name="adj1" fmla="val -85222"/>
              <a:gd name="adj2" fmla="val 95648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ambr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ounded Rectangular Callout 6"/>
          <p:cNvSpPr/>
          <p:nvPr/>
        </p:nvSpPr>
        <p:spPr>
          <a:xfrm>
            <a:off x="3192480" y="3860640"/>
            <a:ext cx="2736720" cy="1584360"/>
          </a:xfrm>
          <a:prstGeom prst="wedgeRoundRectCallout">
            <a:avLst>
              <a:gd name="adj1" fmla="val 75912"/>
              <a:gd name="adj2" fmla="val 95074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í, tengo hambr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800440" cy="27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779920" cy="2787840"/>
          </a:xfrm>
          <a:prstGeom prst="rect">
            <a:avLst/>
          </a:prstGeom>
          <a:ln w="0">
            <a:noFill/>
          </a:ln>
        </p:spPr>
      </p:pic>
      <p:sp>
        <p:nvSpPr>
          <p:cNvPr id="49" name="Rounded Rectangular Callout 4"/>
          <p:cNvSpPr/>
          <p:nvPr/>
        </p:nvSpPr>
        <p:spPr>
          <a:xfrm>
            <a:off x="3059280" y="189000"/>
            <a:ext cx="3889080" cy="1584360"/>
          </a:xfrm>
          <a:prstGeom prst="wedgeRoundRectCallout">
            <a:avLst>
              <a:gd name="adj1" fmla="val -71250"/>
              <a:gd name="adj2" fmla="val 97935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Quier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comer ques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ounded Rectangular Callout 6"/>
          <p:cNvSpPr/>
          <p:nvPr/>
        </p:nvSpPr>
        <p:spPr>
          <a:xfrm>
            <a:off x="2195640" y="3860640"/>
            <a:ext cx="3733560" cy="1584360"/>
          </a:xfrm>
          <a:prstGeom prst="wedgeRoundRectCallout">
            <a:avLst>
              <a:gd name="adj1" fmla="val 69023"/>
              <a:gd name="adj2" fmla="val 97361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í, quiero comer ques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800440" cy="27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779920" cy="278784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ular Callout 4"/>
          <p:cNvSpPr/>
          <p:nvPr/>
        </p:nvSpPr>
        <p:spPr>
          <a:xfrm>
            <a:off x="3203640" y="189000"/>
            <a:ext cx="2736720" cy="1584360"/>
          </a:xfrm>
          <a:prstGeom prst="wedgeRoundRectCallout">
            <a:avLst>
              <a:gd name="adj1" fmla="val -85222"/>
              <a:gd name="adj2" fmla="val 95648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Tien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ounded Rectangular Callout 6"/>
          <p:cNvSpPr/>
          <p:nvPr/>
        </p:nvSpPr>
        <p:spPr>
          <a:xfrm>
            <a:off x="3192480" y="3860640"/>
            <a:ext cx="2736720" cy="1584360"/>
          </a:xfrm>
          <a:prstGeom prst="wedgeRoundRectCallout">
            <a:avLst>
              <a:gd name="adj1" fmla="val 75912"/>
              <a:gd name="adj2" fmla="val 99648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í, tengo se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800440" cy="279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779920" cy="2787840"/>
          </a:xfrm>
          <a:prstGeom prst="rect">
            <a:avLst/>
          </a:prstGeom>
          <a:ln w="0">
            <a:noFill/>
          </a:ln>
        </p:spPr>
      </p:pic>
      <p:sp>
        <p:nvSpPr>
          <p:cNvPr id="59" name="Rounded Rectangular Callout 4"/>
          <p:cNvSpPr/>
          <p:nvPr/>
        </p:nvSpPr>
        <p:spPr>
          <a:xfrm>
            <a:off x="2965320" y="189000"/>
            <a:ext cx="4270680" cy="1584360"/>
          </a:xfrm>
          <a:prstGeom prst="wedgeRoundRectCallout">
            <a:avLst>
              <a:gd name="adj1" fmla="val -66138"/>
              <a:gd name="adj2" fmla="val 91074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GB" sz="4400" spc="-1" strike="noStrike">
                <a:solidFill>
                  <a:srgbClr val="00cc00"/>
                </a:solidFill>
                <a:latin typeface="Comic Sans MS"/>
              </a:rPr>
              <a:t>Quiere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beber zum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ounded Rectangular Callout 6"/>
          <p:cNvSpPr/>
          <p:nvPr/>
        </p:nvSpPr>
        <p:spPr>
          <a:xfrm>
            <a:off x="2340000" y="3860640"/>
            <a:ext cx="3589200" cy="1584360"/>
          </a:xfrm>
          <a:prstGeom prst="wedgeRoundRectCallout">
            <a:avLst>
              <a:gd name="adj1" fmla="val 68319"/>
              <a:gd name="adj2" fmla="val 93361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í, quiero beber zum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0" t="0" r="0" b="3383"/>
          <a:stretch/>
        </p:blipFill>
        <p:spPr>
          <a:xfrm>
            <a:off x="-17640" y="0"/>
            <a:ext cx="7209000" cy="4843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667640" y="2708280"/>
            <a:ext cx="10080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250920" y="4941720"/>
          <a:ext cx="6940440" cy="1916280"/>
        </p:xfrm>
        <a:graphic>
          <a:graphicData uri="http://schemas.openxmlformats.org/drawingml/2006/table">
            <a:tbl>
              <a:tblPr/>
              <a:tblGrid>
                <a:gridCol w="576000"/>
                <a:gridCol w="2232360"/>
                <a:gridCol w="576000"/>
                <a:gridCol w="3556080"/>
              </a:tblGrid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a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.6.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.7.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b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.8.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.8.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c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.5.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f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.6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6732720" y="5229360"/>
            <a:ext cx="2411280" cy="1628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8000" y="1509840"/>
          <a:ext cx="8928000" cy="5303880"/>
        </p:xfrm>
        <a:graphic>
          <a:graphicData uri="http://schemas.openxmlformats.org/drawingml/2006/table">
            <a:tbl>
              <a:tblPr/>
              <a:tblGrid>
                <a:gridCol w="503280"/>
                <a:gridCol w="842472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ienes hambre?  ¿Quieres comer jamón?</a:t>
                      </a:r>
                      <a:br>
                        <a:rPr sz="3200"/>
                      </a:b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re you hungry?          Do you want to eat ham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ienes sed?  ¿Quieres beber limonad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re you thirsty?  Do you want to drink lemonad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ngo hambre.  Quiero comer pescado.</a:t>
                      </a:r>
                      <a:br>
                        <a:rPr sz="2800"/>
                      </a:b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 am hungry.          I want to eat fis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ngo sed.  Quiero beber coca-co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I am thirsty.  I want to drink coca-co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ienes sed?  ¿Quieres beber lech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re you thirsty?  Do you want to drink milk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88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ienes hambre? ¿Quieres comer pizz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70c0"/>
                          </a:solidFill>
                          <a:latin typeface="Comic Sans MS"/>
                        </a:rPr>
                        <a:t>Are you hungry?         Do you want to eat pizz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4:42Z</dcterms:modified>
  <cp:revision>163</cp:revision>
  <dc:subject/>
  <dc:title>TITLE</dc:title>
</cp:coreProperties>
</file>