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127-FE09-4DD7-B3A5-909DEAC95B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BED-F4C5-4A71-88CB-EB90378603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537-5F37-4E38-AE5C-E0A4F3B31B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ABE-9EFC-456B-BC35-7377DBD415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C35A-1C2E-40E9-B9C8-08BCC6B2BB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274-58EA-42AB-9D48-8A517864AC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8358-684E-453A-A8DF-C7B865E413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A6EB-4AA6-4D5C-A3B3-3C09715C58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F475-864B-4346-8595-ACF1A348E1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245-235E-4D1F-B907-820DEE3F04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865E-1672-4A0D-BACF-939B182224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52D-9A5D-48D8-B21D-9108BEF13A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87F9-0CBC-44B5-8E1B-3B5DEB1D9D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DC7-8435-4BE8-A12C-BDB71A53A3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659-4CB8-48E2-9807-A2FD762DD7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BB66-448E-4DEE-8DA1-D720075900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3E2E-6F09-498C-B0DC-C3059383AA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795-1940-4509-BDF2-C84E8263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27E-BD5D-403B-853E-6B2155C6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770-C7E6-4FB9-833C-8EB7A1D8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B49-9068-4CDE-9800-0DD51E2F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436-4D45-4725-90F7-4BFE818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54A-5740-4CAB-A2C9-B684EE4C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5C2-320F-45AF-9203-1F648362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52B-7A0F-408E-AB2F-A015366A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DF9-6CF5-4339-8554-0C4824C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0EA-CBCF-4AAF-A6A9-D134A32A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469-E4A7-4D65-AB56-32C0146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C38-233C-401F-96BD-0298A8F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937B-F7FF-4853-9DE2-58631E686F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619280" y="2565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684360" y="692280"/>
            <a:ext cx="5688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3 0.03862 L -0.07482 0.67507 E">
                                      <p:cBhvr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84360" y="692280"/>
            <a:ext cx="6642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chocola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84 0.01758 L -0.11128 0.65402 E">
                                      <p:cBhvr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84360" y="692280"/>
            <a:ext cx="5472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84360" y="692280"/>
            <a:ext cx="5256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3 0.02798 L -0.07482 0.66443 E">
                                      <p:cBhvr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84360" y="692280"/>
            <a:ext cx="6480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coca-c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84360" y="692280"/>
            <a:ext cx="5472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3862 L -0.07483 0.71392 E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-1440" y="411120"/>
            <a:ext cx="914544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619280" y="2565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403280" y="3830760"/>
            <a:ext cx="7489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engo diez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engo un perr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engo un lápiz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89120" y="2565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689120" y="404352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bfb00"/>
                </a:solidFill>
                <a:latin typeface="Comic Sans MS"/>
              </a:rPr>
              <a:t>I hav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79280" y="48769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95840" y="487692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539640" y="692280"/>
            <a:ext cx="5688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que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0.01758 L -0.07466 0.65402 E">
                                      <p:cBhvr>
                                        <p:cTn id="6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684360" y="692280"/>
            <a:ext cx="5472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zu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684360" y="692280"/>
            <a:ext cx="6480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684360" y="692280"/>
            <a:ext cx="59036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helad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3862 L -0.07483 0.71392 E">
                                      <p:cBhvr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7:28Z</dcterms:modified>
  <cp:revision>148</cp:revision>
  <dc:subject/>
  <dc:title>TITLE</dc:title>
</cp:coreProperties>
</file>