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E9F8-B42A-478A-B0AD-89D3A06F080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6159-1D57-4A98-8B0B-81C4A2CAC7E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C83E-683D-4321-965D-27B56E8E2CA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6D1D-EE67-47DC-9CB7-7CB85105898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A802-F7C5-4DFD-828C-5786AC5A400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8B69-8832-4D9E-8B3A-9ECAD376D57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C4D5-6CF4-491F-BA54-CB5201BA402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4474-CD2C-4FDE-81C1-C9EEB756D69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6BFC-71A4-4AF2-A973-C7F525BF578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3E38-3717-4A68-B0A9-F1A0C60872B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B9F6-A2D2-42D0-9E1C-5974ACBF1F1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622D-C744-4265-A718-7B8E894B331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585C-EAFD-4BCB-A1DB-E6EC3631104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6F5B-E8ED-4DFB-BBAD-1F49E3D3680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FBF1-5670-46E0-9EDF-7BC37724ABE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189E-A786-4D54-8104-7B0CEEBFC41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6EA8-5965-4198-B109-F5AB3645FE1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DE02-85BE-4FD9-9C53-934FFFE9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3E81-3D43-4F73-BBF0-6BC69648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AC3A-0A9C-47F3-92DD-61316E3B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DEBB-A810-4B34-815E-41401814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1403-CAE7-4696-A90A-D11A97DB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B13-EF5F-4D44-B2AD-6D369CBC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1E5F-4436-4139-8DA3-3D836F33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6A09-A77F-4E14-8AA8-F29DA77C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1FAE-B96D-4FEB-94FD-283E5EB7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F433-9D69-480A-8B0F-47479E2D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2635-94A1-4520-8AA4-005F25C0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4F3E-E09B-4EFB-A7E0-5BC8AB31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87CE-6F04-4708-81D6-18161D5E02D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619280" y="2565360"/>
            <a:ext cx="56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tengo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rcRect l="0" t="0" r="14548" b="0"/>
          <a:stretch/>
        </p:blipFill>
        <p:spPr>
          <a:xfrm>
            <a:off x="216000" y="4032360"/>
            <a:ext cx="4068720" cy="2997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6875640" y="4249800"/>
            <a:ext cx="1935000" cy="2563920"/>
          </a:xfrm>
          <a:prstGeom prst="rect">
            <a:avLst/>
          </a:prstGeom>
          <a:ln w="0">
            <a:noFill/>
          </a:ln>
        </p:spPr>
      </p:pic>
      <p:sp>
        <p:nvSpPr>
          <p:cNvPr id="93" name="TextBox 6"/>
          <p:cNvSpPr/>
          <p:nvPr/>
        </p:nvSpPr>
        <p:spPr>
          <a:xfrm>
            <a:off x="684360" y="5084640"/>
            <a:ext cx="27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hamb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6407280" y="4941720"/>
            <a:ext cx="27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684360" y="692280"/>
            <a:ext cx="568800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 comer jamó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3 0.03862 L -0.07482 0.67507 E">
                                      <p:cBhvr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rcRect l="0" t="0" r="14548" b="0"/>
          <a:stretch/>
        </p:blipFill>
        <p:spPr>
          <a:xfrm>
            <a:off x="216000" y="4032360"/>
            <a:ext cx="4068720" cy="2997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6875640" y="4249800"/>
            <a:ext cx="1935000" cy="2563920"/>
          </a:xfrm>
          <a:prstGeom prst="rect">
            <a:avLst/>
          </a:prstGeom>
          <a:ln w="0">
            <a:noFill/>
          </a:ln>
        </p:spPr>
      </p:pic>
      <p:sp>
        <p:nvSpPr>
          <p:cNvPr id="99" name="TextBox 6"/>
          <p:cNvSpPr/>
          <p:nvPr/>
        </p:nvSpPr>
        <p:spPr>
          <a:xfrm>
            <a:off x="684360" y="5084640"/>
            <a:ext cx="27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hamb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6407280" y="4941720"/>
            <a:ext cx="27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684360" y="692280"/>
            <a:ext cx="664200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 comer chocolat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184 0.01758 L -0.11128 0.65402 E">
                                      <p:cBhvr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rcRect l="0" t="0" r="14548" b="0"/>
          <a:stretch/>
        </p:blipFill>
        <p:spPr>
          <a:xfrm>
            <a:off x="216000" y="4032360"/>
            <a:ext cx="4068720" cy="2997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6875640" y="4249800"/>
            <a:ext cx="1935000" cy="25639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"/>
          <p:cNvSpPr/>
          <p:nvPr/>
        </p:nvSpPr>
        <p:spPr>
          <a:xfrm>
            <a:off x="684360" y="5084640"/>
            <a:ext cx="27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hamb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6407280" y="4941720"/>
            <a:ext cx="27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684360" y="692280"/>
            <a:ext cx="547200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 beber le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06 0.02798 L 0.33871 0.68894 E">
                                      <p:cBhvr>
                                        <p:cTn id="42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rcRect l="0" t="0" r="14548" b="0"/>
          <a:stretch/>
        </p:blipFill>
        <p:spPr>
          <a:xfrm>
            <a:off x="216000" y="4032360"/>
            <a:ext cx="4068720" cy="2997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6875640" y="4249800"/>
            <a:ext cx="1935000" cy="25639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684360" y="5084640"/>
            <a:ext cx="27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hamb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6407280" y="4941720"/>
            <a:ext cx="27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684360" y="692280"/>
            <a:ext cx="525600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 comer sop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3 0.02798 L -0.07482 0.66443 E">
                                      <p:cBhvr>
                                        <p:cTn id="48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0" t="0" r="14548" b="0"/>
          <a:stretch/>
        </p:blipFill>
        <p:spPr>
          <a:xfrm>
            <a:off x="216000" y="4032360"/>
            <a:ext cx="4068720" cy="2997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6875640" y="4249800"/>
            <a:ext cx="1935000" cy="25639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684360" y="5084640"/>
            <a:ext cx="27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hamb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6407280" y="4941720"/>
            <a:ext cx="27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684360" y="692280"/>
            <a:ext cx="648000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 beber coca-col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06 0.02798 L 0.33871 0.68894 E">
                                      <p:cBhvr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14548" b="0"/>
          <a:stretch/>
        </p:blipFill>
        <p:spPr>
          <a:xfrm>
            <a:off x="216000" y="4032360"/>
            <a:ext cx="4068720" cy="2997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6875640" y="4249800"/>
            <a:ext cx="1935000" cy="25639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684360" y="5084640"/>
            <a:ext cx="27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hamb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6407280" y="4941720"/>
            <a:ext cx="27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684360" y="692280"/>
            <a:ext cx="547200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 comer pizz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628 0.03862 L -0.07483 0.71392 E">
                                      <p:cBhvr>
                                        <p:cTn id="60" dur="5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-1440" y="411120"/>
            <a:ext cx="9145440" cy="64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1619280" y="2565360"/>
            <a:ext cx="56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tengo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1403280" y="3830760"/>
            <a:ext cx="7489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Tengo diez año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Tengo un perr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Tengo un lápiz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1689120" y="2565360"/>
            <a:ext cx="56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a"/>
                </a:solidFill>
                <a:latin typeface="Comic Sans MS"/>
              </a:rPr>
              <a:t>tengo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1689120" y="4043520"/>
            <a:ext cx="56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bfb00"/>
                </a:solidFill>
                <a:latin typeface="Comic Sans MS"/>
              </a:rPr>
              <a:t>I have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5638680" y="2673360"/>
            <a:ext cx="2395800" cy="220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941400" y="2770200"/>
            <a:ext cx="2940120" cy="185112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179280" y="487692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ngo hambr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4695840" y="4876920"/>
            <a:ext cx="44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ngo sed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rcRect l="0" t="0" r="14548" b="0"/>
          <a:stretch/>
        </p:blipFill>
        <p:spPr>
          <a:xfrm>
            <a:off x="216000" y="4032360"/>
            <a:ext cx="4068720" cy="2997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6875640" y="4249800"/>
            <a:ext cx="1935000" cy="256392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684360" y="5084640"/>
            <a:ext cx="27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hamb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6407280" y="4941720"/>
            <a:ext cx="27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rcRect l="0" t="0" r="14548" b="0"/>
          <a:stretch/>
        </p:blipFill>
        <p:spPr>
          <a:xfrm>
            <a:off x="216000" y="4032360"/>
            <a:ext cx="4068720" cy="2997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6875640" y="4249800"/>
            <a:ext cx="1935000" cy="256392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684360" y="5084640"/>
            <a:ext cx="27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hamb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6407280" y="4941720"/>
            <a:ext cx="27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539640" y="692280"/>
            <a:ext cx="568800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 comer ques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47 0.01758 L -0.07466 0.65402 E">
                                      <p:cBhvr>
                                        <p:cTn id="6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rcRect l="0" t="0" r="14548" b="0"/>
          <a:stretch/>
        </p:blipFill>
        <p:spPr>
          <a:xfrm>
            <a:off x="216000" y="4032360"/>
            <a:ext cx="4068720" cy="2997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6875640" y="4249800"/>
            <a:ext cx="1935000" cy="256392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684360" y="5084640"/>
            <a:ext cx="27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hamb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6407280" y="4941720"/>
            <a:ext cx="27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684360" y="692280"/>
            <a:ext cx="547200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 beber zum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06 0.02798 L 0.33871 0.68894 E">
                                      <p:cBhvr>
                                        <p:cTn id="12" dur="5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rcRect l="0" t="0" r="14548" b="0"/>
          <a:stretch/>
        </p:blipFill>
        <p:spPr>
          <a:xfrm>
            <a:off x="216000" y="4032360"/>
            <a:ext cx="406872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6875640" y="4249800"/>
            <a:ext cx="1935000" cy="2563920"/>
          </a:xfrm>
          <a:prstGeom prst="rect">
            <a:avLst/>
          </a:prstGeom>
          <a:ln w="0">
            <a:noFill/>
          </a:ln>
        </p:spPr>
      </p:pic>
      <p:sp>
        <p:nvSpPr>
          <p:cNvPr id="81" name="TextBox 6"/>
          <p:cNvSpPr/>
          <p:nvPr/>
        </p:nvSpPr>
        <p:spPr>
          <a:xfrm>
            <a:off x="684360" y="5084640"/>
            <a:ext cx="27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hamb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6407280" y="4941720"/>
            <a:ext cx="27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684360" y="692280"/>
            <a:ext cx="648000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 beber limonad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06 0.02798 L 0.33871 0.68894 E">
                                      <p:cBhvr>
                                        <p:cTn id="18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rcRect l="0" t="0" r="14548" b="0"/>
          <a:stretch/>
        </p:blipFill>
        <p:spPr>
          <a:xfrm>
            <a:off x="216000" y="4032360"/>
            <a:ext cx="4068720" cy="2997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6875640" y="4249800"/>
            <a:ext cx="1935000" cy="256392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684360" y="5084640"/>
            <a:ext cx="27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hamb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6407280" y="4941720"/>
            <a:ext cx="27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684360" y="692280"/>
            <a:ext cx="590364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 comer helad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628 0.03862 L -0.07483 0.71392 E">
                                      <p:cBhvr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6T10:27:28Z</dcterms:modified>
  <cp:revision>148</cp:revision>
  <dc:subject/>
  <dc:title>TITLE</dc:title>
</cp:coreProperties>
</file>