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4CB-EBB5-4F9C-8B21-11F96546DA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3A3C-7ABD-4CBA-A607-8BC4670BFF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41EA-F2EE-4F7F-A74D-D6BF68F113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9F0-8BF0-4207-99D3-B1FEFCD65B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CDC-B164-49AD-AA89-4930954D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786-4F51-4447-BCEA-4ABBE1F8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2A5-9BF1-4790-B356-13C9851B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45C-273F-4B52-8158-AE48D04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80B-CA6B-400D-AD97-266A11E4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3BC4-C7BE-42C4-97A7-DA159C1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3EA2-F70F-40F8-B000-F4670D16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7901-CDAA-4A1A-A439-DB037CE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9C88-FB14-4F7F-BFF3-AA1842C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967E-C941-4BC3-9FD5-21A4BA7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B5B7-1AC0-4998-8715-58323A0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D13-B5FB-4A96-ADF8-51CE4D22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6BA6-9025-4B94-BDC5-48D0174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30C-C0EA-4DB0-A556-5B21447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F61-E581-44C5-8130-0B6B78A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768-F0B3-4836-B8AD-399AD961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C9B0-0F06-42EE-A653-7A63B43C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0AC5-5237-43EA-A868-B45A10F5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6D1C-92F2-445D-93F5-07B7586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60BE-1428-4658-92F5-8CC81ED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97C6-D943-4EF3-97F2-96CDA867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64A6-931B-49CB-86DC-B7C2EAF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BC7-16E1-42A8-BF09-12C398D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D431-80D2-4177-8F68-E1504280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4706-6C92-45A2-9C7E-1FD35C3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6B30-6362-4DBF-B1B2-66F4DB9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36E4-BE91-4A2A-ABAE-321D16F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1B12-70AF-43A5-8F39-1621945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AC30-EF3E-4168-A9AF-CBC661B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50C0-8FD0-4A47-B0FC-666497E9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479-2C6D-47A3-8F47-54A23493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A85-75AC-4A42-B672-5D8D41BB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E86-7124-47D4-8355-5CB817E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3AF-7A6B-440F-AADD-7629259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35C-7D34-4F0E-951A-733ECD2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BC9-32F0-4CDE-870B-4C1C6CD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801-29D9-46E7-A01F-6758320D22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0A0-659B-4FDE-9086-7B499B6D963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44F1-B762-405E-AE10-8FCA1072EA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hospital" descr=""/>
          <p:cNvPicPr/>
          <p:nvPr/>
        </p:nvPicPr>
        <p:blipFill>
          <a:blip r:embed="rId2"/>
          <a:stretch/>
        </p:blipFill>
        <p:spPr>
          <a:xfrm>
            <a:off x="6948360" y="1414440"/>
            <a:ext cx="13114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museo" descr=""/>
          <p:cNvPicPr/>
          <p:nvPr/>
        </p:nvPicPr>
        <p:blipFill>
          <a:blip r:embed="rId3"/>
          <a:stretch/>
        </p:blipFill>
        <p:spPr>
          <a:xfrm>
            <a:off x="2268360" y="1414440"/>
            <a:ext cx="1656000" cy="1446120"/>
          </a:xfrm>
          <a:prstGeom prst="rect">
            <a:avLst/>
          </a:prstGeom>
          <a:ln w="0">
            <a:noFill/>
          </a:ln>
        </p:spPr>
      </p:pic>
      <p:pic>
        <p:nvPicPr>
          <p:cNvPr id="133" name="supermercado" descr=""/>
          <p:cNvPicPr/>
          <p:nvPr/>
        </p:nvPicPr>
        <p:blipFill>
          <a:blip r:embed="rId4"/>
          <a:stretch/>
        </p:blipFill>
        <p:spPr>
          <a:xfrm>
            <a:off x="684360" y="1414440"/>
            <a:ext cx="135720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286080"/>
            <a:ext cx="4465800" cy="1374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super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222800"/>
            <a:ext cx="259236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us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222800"/>
            <a:ext cx="14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42228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29360"/>
            <a:ext cx="3132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hospi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286080"/>
            <a:ext cx="2521080" cy="734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ban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222800"/>
            <a:ext cx="403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4221000"/>
            <a:ext cx="144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42210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29360"/>
            <a:ext cx="392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cafeter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655640" cy="148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987640" y="1341360"/>
            <a:ext cx="1513080" cy="1473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020000" y="1052640"/>
            <a:ext cx="1646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3286080"/>
            <a:ext cx="2808360" cy="734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par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222800"/>
            <a:ext cx="403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es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221000"/>
            <a:ext cx="144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42210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29360"/>
            <a:ext cx="2987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an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2209680" cy="2021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700360" y="1052640"/>
            <a:ext cx="2394000" cy="1798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948360" y="1076400"/>
            <a:ext cx="2016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4T14:39:44Z</dcterms:modified>
  <cp:revision>233</cp:revision>
  <dc:subject/>
  <dc:title>TITLE</dc:title>
</cp:coreProperties>
</file>