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8A45-7002-4202-8FE0-1469470DB91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2AF2-90D1-4976-B034-99FE09DB24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41B0-51E9-4CA5-B7F4-B870710B27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4688-6467-45AC-B867-CB6F2B574C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724-6385-4D37-A501-1DA6EA87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A86-F107-4D48-AA58-1E82A9A0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F71-52CB-44D9-A761-1892D0CB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6AA-2C93-4731-8D10-9245CBE3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B011-9C30-4864-92FF-EF978278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665B-12B8-4E5B-9079-044669D1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20FC-AE04-48A4-B063-DBAF70F5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37AF-7979-49EE-8F40-D13267F1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EE79-564B-4921-91F0-DE0FDCAD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1A4D-771E-4D13-AC89-61DE4FB2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5B27-986F-41D1-9550-42EED785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B3A-A9D5-4308-9A17-80EB9557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B592-7289-43DE-A63D-BBBDEBDD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04F3-563E-426E-B250-4520F5E0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EF33-DE87-4676-B2F4-C7AE22B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BD71-4B33-4384-9A85-F6CE3CF3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29D3-4F9F-4650-BB47-7086711F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BDC9-524C-4DCC-87B4-9697D7F7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2CD9-5568-4EAC-85CC-24C823AA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017D-D0B4-48FF-8751-1312E1E5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D1C5-9B67-4CB8-9F49-38A2C581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84AC-D53D-41BD-8AF2-EDF9CBAB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1BD-42C8-49A5-8619-BB28FC4B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C959-CADF-4F1F-89CC-855A3265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7B02-6150-4DFC-A09D-88C9F421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01CF-3301-4541-A021-A0F4E7E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659F4-A115-49E0-8EDB-2E04BF4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0382C-D8D2-4826-BEB2-5FAB2F26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97AE-C1C7-4B0B-AB1D-EE8BBC3C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C1C1-7854-4433-8A94-C0F86CE0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F5B-5A8F-41A1-B110-BF25C058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900-E93B-4A37-9B3D-FFC7D135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3EF-D4D1-49B9-921A-F4EE44ED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313-A1A8-4FFB-8CB7-DBBA304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069-ECDD-48A2-8CE5-B31140C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B74-1F19-4BD9-9F64-973A583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D2B1-FCE1-456E-8006-5C78C94C71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E079-FB5B-424D-8EA2-1A1E70802C1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F1D-B144-4373-9F99-49C185AEA30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508720" y="1414440"/>
            <a:ext cx="1224000" cy="1440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hospital" descr=""/>
          <p:cNvPicPr/>
          <p:nvPr/>
        </p:nvPicPr>
        <p:blipFill>
          <a:blip r:embed="rId2"/>
          <a:stretch/>
        </p:blipFill>
        <p:spPr>
          <a:xfrm>
            <a:off x="6948360" y="1414440"/>
            <a:ext cx="13114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museo" descr=""/>
          <p:cNvPicPr/>
          <p:nvPr/>
        </p:nvPicPr>
        <p:blipFill>
          <a:blip r:embed="rId3"/>
          <a:stretch/>
        </p:blipFill>
        <p:spPr>
          <a:xfrm>
            <a:off x="2268360" y="1414440"/>
            <a:ext cx="1656000" cy="1446120"/>
          </a:xfrm>
          <a:prstGeom prst="rect">
            <a:avLst/>
          </a:prstGeom>
          <a:ln w="0">
            <a:noFill/>
          </a:ln>
        </p:spPr>
      </p:pic>
      <p:pic>
        <p:nvPicPr>
          <p:cNvPr id="133" name="supermercado" descr=""/>
          <p:cNvPicPr/>
          <p:nvPr/>
        </p:nvPicPr>
        <p:blipFill>
          <a:blip r:embed="rId4"/>
          <a:stretch/>
        </p:blipFill>
        <p:spPr>
          <a:xfrm>
            <a:off x="684360" y="1414440"/>
            <a:ext cx="1357200" cy="144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580000" y="1557360"/>
            <a:ext cx="1079640" cy="1077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286080"/>
            <a:ext cx="3456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 mi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286080"/>
            <a:ext cx="1225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286080"/>
            <a:ext cx="4465800" cy="1374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un supermercad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222800"/>
            <a:ext cx="539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222800"/>
            <a:ext cx="259236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mus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222800"/>
            <a:ext cx="1439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4222800"/>
            <a:ext cx="2089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 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229360"/>
            <a:ext cx="3132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hospit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508720" y="1414440"/>
            <a:ext cx="1224000" cy="1440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1079640" cy="1077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3286080"/>
            <a:ext cx="3456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 mi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3286080"/>
            <a:ext cx="1225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286080"/>
            <a:ext cx="2521080" cy="7340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un ban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222800"/>
            <a:ext cx="539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222800"/>
            <a:ext cx="4032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4221000"/>
            <a:ext cx="1440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8000" y="4221000"/>
            <a:ext cx="2089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 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229360"/>
            <a:ext cx="3924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cafeterí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1655640" cy="1481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987640" y="1341360"/>
            <a:ext cx="1513080" cy="1473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7020000" y="1052640"/>
            <a:ext cx="1646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508720" y="1414440"/>
            <a:ext cx="1224000" cy="1440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1079640" cy="107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3286080"/>
            <a:ext cx="345600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 mi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286080"/>
            <a:ext cx="1225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3286080"/>
            <a:ext cx="2808360" cy="7340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omic Sans MS"/>
              </a:rPr>
              <a:t>un par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222800"/>
            <a:ext cx="539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4222800"/>
            <a:ext cx="4032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es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4221000"/>
            <a:ext cx="1440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4221000"/>
            <a:ext cx="2089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 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29360"/>
            <a:ext cx="29876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ban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2209680" cy="2021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700360" y="1052640"/>
            <a:ext cx="2394000" cy="1798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948360" y="1076400"/>
            <a:ext cx="20163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9-24T14:39:44Z</dcterms:modified>
  <cp:revision>233</cp:revision>
  <dc:subject/>
  <dc:title>TITLE</dc:title>
</cp:coreProperties>
</file>