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19F-9AA6-4741-A2BA-624DBE55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A30-C131-4942-95E1-9920D524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3D7-6193-4026-BB95-DD06A779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94A-E8B4-4078-AA22-C793696B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11F-2AF5-4BFE-A48C-2ADE6D88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4A0-FC95-48B4-A2D3-BE210496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748-F0E5-4626-B4EE-2D95FAE8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AA0-5DBF-4FF6-B9B7-12779CF6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B3E-BFD6-4520-8A9A-56D0B4FB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325-52E1-47A1-827D-492640C6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865-F1A6-47B8-B3C8-38845C7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501-663B-4B66-A3F0-1EE19BD9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EF18-594F-4066-8C6A-5D986AB75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95280" y="620640"/>
            <a:ext cx="136836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5400720" cy="390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619280" y="620640"/>
            <a:ext cx="136836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562720" cy="396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771640" y="620640"/>
            <a:ext cx="136872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400720" cy="405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924360" y="620640"/>
            <a:ext cx="136836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482436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076720" y="620640"/>
            <a:ext cx="136836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753080" cy="40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227640" y="620640"/>
            <a:ext cx="136872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619680" cy="345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451640" y="620640"/>
            <a:ext cx="136836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1979640" cy="425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4:55:21Z</dcterms:created>
  <dc:creator>Clare</dc:creator>
  <dc:description/>
  <dc:language>en-US</dc:language>
  <cp:lastModifiedBy>Clare</cp:lastModifiedBy>
  <dcterms:modified xsi:type="dcterms:W3CDTF">2010-08-20T18:54:14Z</dcterms:modified>
  <cp:revision>4</cp:revision>
  <dc:subject/>
  <dc:title>Slide 1</dc:title>
</cp:coreProperties>
</file>