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65DC-DA1A-4B62-8EA8-E1BFF322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3C05-9ABA-406F-AF84-254F0E25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866F-1B09-4D7A-AD78-CA9F41F6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D5C5-8299-4097-86F8-11377D00D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66F2-D0A8-4C4A-80C6-B12FFC2C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5812-93AD-41E5-A037-82CC74D3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8972-14AB-4E6A-9092-674B6141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039D-35FD-4843-B318-FB9BB048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9B97-F0AB-487A-A7F5-D44ED89F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FE46-D97D-49AA-8E12-684C0E59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E7F7-409B-42C8-A17D-6C2895D2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7F42-4F81-423C-8E22-F5ECDD0E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E3F3-1E76-4C05-8173-09C9DB8D3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9640" y="620640"/>
          <a:ext cx="8136000" cy="1440000"/>
        </p:xfrm>
        <a:graphic>
          <a:graphicData uri="http://schemas.openxmlformats.org/drawingml/2006/table">
            <a:tbl>
              <a:tblPr/>
              <a:tblGrid>
                <a:gridCol w="1163880"/>
                <a:gridCol w="1160280"/>
                <a:gridCol w="1163520"/>
                <a:gridCol w="1160640"/>
                <a:gridCol w="1163520"/>
                <a:gridCol w="1160640"/>
                <a:gridCol w="1163520"/>
              </a:tblGrid>
              <a:tr h="144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L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X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J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395280" y="620640"/>
            <a:ext cx="1368360" cy="1440000"/>
          </a:xfrm>
          <a:prstGeom prst="ellipse">
            <a:avLst/>
          </a:prstGeom>
          <a:noFill/>
          <a:ln w="57240">
            <a:solidFill>
              <a:srgbClr val="fc16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79640" y="2565360"/>
            <a:ext cx="5400720" cy="3902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539640" y="620640"/>
          <a:ext cx="8136000" cy="1440000"/>
        </p:xfrm>
        <a:graphic>
          <a:graphicData uri="http://schemas.openxmlformats.org/drawingml/2006/table">
            <a:tbl>
              <a:tblPr/>
              <a:tblGrid>
                <a:gridCol w="1163880"/>
                <a:gridCol w="1160280"/>
                <a:gridCol w="1163520"/>
                <a:gridCol w="1160640"/>
                <a:gridCol w="1163520"/>
                <a:gridCol w="1160640"/>
                <a:gridCol w="1163520"/>
              </a:tblGrid>
              <a:tr h="144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L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X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J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1619280" y="620640"/>
            <a:ext cx="1368360" cy="1440000"/>
          </a:xfrm>
          <a:prstGeom prst="ellipse">
            <a:avLst/>
          </a:prstGeom>
          <a:noFill/>
          <a:ln w="57240">
            <a:solidFill>
              <a:srgbClr val="fc16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08000" y="2565360"/>
            <a:ext cx="5562720" cy="3962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39640" y="620640"/>
          <a:ext cx="8136000" cy="1440000"/>
        </p:xfrm>
        <a:graphic>
          <a:graphicData uri="http://schemas.openxmlformats.org/drawingml/2006/table">
            <a:tbl>
              <a:tblPr/>
              <a:tblGrid>
                <a:gridCol w="1163880"/>
                <a:gridCol w="1160280"/>
                <a:gridCol w="1163520"/>
                <a:gridCol w="1160640"/>
                <a:gridCol w="1163520"/>
                <a:gridCol w="1160640"/>
                <a:gridCol w="1163520"/>
              </a:tblGrid>
              <a:tr h="144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L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X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J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2771640" y="620640"/>
            <a:ext cx="1368720" cy="1440000"/>
          </a:xfrm>
          <a:prstGeom prst="ellipse">
            <a:avLst/>
          </a:prstGeom>
          <a:noFill/>
          <a:ln w="57240">
            <a:solidFill>
              <a:srgbClr val="fc16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35280" y="2492280"/>
            <a:ext cx="5400720" cy="4051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39640" y="620640"/>
          <a:ext cx="8136000" cy="1440000"/>
        </p:xfrm>
        <a:graphic>
          <a:graphicData uri="http://schemas.openxmlformats.org/drawingml/2006/table">
            <a:tbl>
              <a:tblPr/>
              <a:tblGrid>
                <a:gridCol w="1163880"/>
                <a:gridCol w="1160280"/>
                <a:gridCol w="1163520"/>
                <a:gridCol w="1160640"/>
                <a:gridCol w="1163520"/>
                <a:gridCol w="1160640"/>
                <a:gridCol w="1163520"/>
              </a:tblGrid>
              <a:tr h="144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L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X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J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3924360" y="620640"/>
            <a:ext cx="1368360" cy="1440000"/>
          </a:xfrm>
          <a:prstGeom prst="ellipse">
            <a:avLst/>
          </a:prstGeom>
          <a:noFill/>
          <a:ln w="57240">
            <a:solidFill>
              <a:srgbClr val="fc16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24000" y="2276640"/>
            <a:ext cx="4824360" cy="43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39640" y="620640"/>
          <a:ext cx="8136000" cy="1440000"/>
        </p:xfrm>
        <a:graphic>
          <a:graphicData uri="http://schemas.openxmlformats.org/drawingml/2006/table">
            <a:tbl>
              <a:tblPr/>
              <a:tblGrid>
                <a:gridCol w="1163880"/>
                <a:gridCol w="1160280"/>
                <a:gridCol w="1163520"/>
                <a:gridCol w="1160640"/>
                <a:gridCol w="1163520"/>
                <a:gridCol w="1160640"/>
                <a:gridCol w="1163520"/>
              </a:tblGrid>
              <a:tr h="144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L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X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J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5076720" y="620640"/>
            <a:ext cx="1368360" cy="1440000"/>
          </a:xfrm>
          <a:prstGeom prst="ellipse">
            <a:avLst/>
          </a:prstGeom>
          <a:noFill/>
          <a:ln w="57240">
            <a:solidFill>
              <a:srgbClr val="fc16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4753080" cy="403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539640" y="620640"/>
          <a:ext cx="8136000" cy="1440000"/>
        </p:xfrm>
        <a:graphic>
          <a:graphicData uri="http://schemas.openxmlformats.org/drawingml/2006/table">
            <a:tbl>
              <a:tblPr/>
              <a:tblGrid>
                <a:gridCol w="1163880"/>
                <a:gridCol w="1160280"/>
                <a:gridCol w="1163520"/>
                <a:gridCol w="1160640"/>
                <a:gridCol w="1163520"/>
                <a:gridCol w="1160640"/>
                <a:gridCol w="1163520"/>
              </a:tblGrid>
              <a:tr h="144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L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X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J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6227640" y="620640"/>
            <a:ext cx="1368720" cy="1440000"/>
          </a:xfrm>
          <a:prstGeom prst="ellipse">
            <a:avLst/>
          </a:prstGeom>
          <a:noFill/>
          <a:ln w="57240">
            <a:solidFill>
              <a:srgbClr val="fc16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6619680" cy="3452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39640" y="620640"/>
          <a:ext cx="8136000" cy="1440000"/>
        </p:xfrm>
        <a:graphic>
          <a:graphicData uri="http://schemas.openxmlformats.org/drawingml/2006/table">
            <a:tbl>
              <a:tblPr/>
              <a:tblGrid>
                <a:gridCol w="1163880"/>
                <a:gridCol w="1160280"/>
                <a:gridCol w="1163520"/>
                <a:gridCol w="1160640"/>
                <a:gridCol w="1163520"/>
                <a:gridCol w="1160640"/>
                <a:gridCol w="1163520"/>
              </a:tblGrid>
              <a:tr h="144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L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X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J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7451640" y="620640"/>
            <a:ext cx="1368360" cy="1440000"/>
          </a:xfrm>
          <a:prstGeom prst="ellipse">
            <a:avLst/>
          </a:prstGeom>
          <a:noFill/>
          <a:ln w="57240">
            <a:solidFill>
              <a:srgbClr val="fc16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635280" y="2349360"/>
            <a:ext cx="1979640" cy="4259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14:55:21Z</dcterms:created>
  <dc:creator>Clare</dc:creator>
  <dc:description/>
  <dc:language>en-US</dc:language>
  <cp:lastModifiedBy>Clare</cp:lastModifiedBy>
  <dcterms:modified xsi:type="dcterms:W3CDTF">2010-08-20T18:54:14Z</dcterms:modified>
  <cp:revision>4</cp:revision>
  <dc:subject/>
  <dc:title>Slide 1</dc:title>
</cp:coreProperties>
</file>