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D8F-1B95-40C1-B8D8-D3AB63BE24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6CE-0C06-4ED9-8F25-92538465EA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923-E02D-4E65-B360-E59E2A7C24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5F0D-385E-4EEE-90DA-5A70517846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9ABA-ED76-471B-870C-7DD590273B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CFBD-55D5-4C43-97A4-0772DC091E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F1CE-F82C-4999-B97A-B0DB4E0526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FF7-78CE-438A-8CE3-8F94A6621E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7F0C-2CA4-463B-B25E-64AC46344B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37B-7815-4BAF-AB1C-6FE8C379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8FB-B465-48D6-8B68-E33EAF3C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8AE-D667-4259-8CC9-7234348E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DE7-6729-4893-BBAD-6BB674E0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518F-DFE6-4DA9-9B14-9CAF3034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2609-AC1C-4B67-9365-EEEF97DA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D937-CFD2-4F60-A412-E2368F4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5AEE-CBCE-49F5-B05E-A3CBD9DC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649C-955B-4ECA-99D0-D7121FF0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D28E-A499-4DAD-BADD-E9707C50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5FA4-CEC1-4C16-AA3C-0C9ED9D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F8F-DC25-4C29-B1B0-8850D79D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ECAB-3114-42A8-B16A-7EB21A99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4461-A5D0-4844-B464-408CFC0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36CC-A13B-4AA8-9CF3-F7211D33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DB3D-1F10-4274-BF0C-C3F50AD1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A034-5EB5-49E2-A8BB-A56F6013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CC4F-E45A-4572-9E79-4BA6A2B8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D863-EE5F-4D8D-9B34-6D245DF0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E1D8-2E1B-4274-BC26-0E382D6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EBAF-DCBF-4086-A069-071F1C94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FBDA-5BE4-4DD5-BC62-13A4FA88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362-77C8-4281-A854-29901E00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2BC3-F542-4F8F-B078-D588CA9A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F3CF-F690-40E9-B59B-28B4B80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7BC7-864A-481E-9A4E-65D0AD63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EADF-DDF1-4476-A7DC-F324A07A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8F74-A37C-40C4-BB0E-4E4E9CAB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A56A-36B5-42AB-9E8E-BE5CFDD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1FCD-0DD9-4DBA-A382-46A405D7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67C-C5D4-4633-8396-0448AC6B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7A6-39CA-4DEA-BF87-2A064B18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243-1733-408E-AD57-E521006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C5E-57A9-4EFD-8872-9CE5369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D1C-BCBF-4CBF-AD87-B254817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133-FC43-4349-AFBA-3F4AA19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AA68-4C8E-4F30-9961-F0AF9958FC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751-015A-4605-B67F-FAED7CBCB0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CD8E-0922-4AB9-979C-71AE28741B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20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87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dormi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60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int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903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rr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jug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93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rabaj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951280" cy="2701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19640" y="2924280"/>
            <a:ext cx="5329080" cy="3509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Cuadrad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bail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2924280"/>
            <a:ext cx="5329080" cy="2838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Coneji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soñ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30243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924280"/>
            <a:ext cx="5472000" cy="2838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Cere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com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e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2475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2924280"/>
            <a:ext cx="5761080" cy="2016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Migue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cant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23288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2924280"/>
            <a:ext cx="5761080" cy="2016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Pe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aull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592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924280"/>
            <a:ext cx="5761080" cy="2016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Marí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vol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25192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5314" t="11817" r="4922" b="9196"/>
          <a:stretch/>
        </p:blipFill>
        <p:spPr>
          <a:xfrm>
            <a:off x="0" y="1890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10-15T09:47:10Z</dcterms:modified>
  <cp:revision>245</cp:revision>
  <dc:subject/>
  <dc:title>TITLE</dc:title>
</cp:coreProperties>
</file>