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6A0A-D617-495B-8B82-C18662147A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070D-C90E-4372-949B-A0F85D6902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BB72-DFE9-4471-91C2-05FE66AC68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5917-B19E-42ED-AA18-55AEECC1DC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F8C2-9874-43CB-A1E8-C93F9DC483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7B48-F048-496C-B5F7-666DF57EF9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5602-7897-4417-AB78-C298FAE18B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5BF2-FE9A-4413-A676-96F4BC2A3C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FE11-A3CD-4962-BDA7-C739AE5E87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081-1C41-4B07-ACB9-B442C8A4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A66-ED16-4EF9-A0E3-C75890B1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7C8-C54E-4A81-A9D0-DB542689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293-8B7C-437A-B984-706BA5D7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5013-ABC1-44E7-BD29-69E213DF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C967-7196-481B-942A-9335CCDD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4741-21D7-4D04-8122-085C63AC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643C-7414-4D20-BE39-5CC79557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D541-5EAD-4887-BBAE-F9334FD3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2BC6-23FA-44F5-965B-C62B0526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BD10-6BC1-4FAB-814A-87855815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330-6F8A-4876-BCD7-87EAB90C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2A0E-9C0C-44C6-A457-DD9807B8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8A62-1A5A-405F-A587-877F1AE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F37A-3337-4F0C-A745-B242452B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A3E0-81E1-46BF-A0A4-6E63C345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14FC-FC96-4258-8A70-6E63D65A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D791B-31E1-4B22-B642-6DC8126D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C995-3DDB-4F2E-B7CF-00480EA3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5956-7F7F-49D8-A7DF-7292471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811D-32A8-4702-882A-8F8CA852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36DA-844B-4BD2-913D-3812922B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DF4-A54F-4AFF-B3F2-9FF8DFC3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3ADA-0227-4C20-984D-90B16636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2B08-8A85-4C19-B9B0-B651FE8F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78B0-75CA-468B-8EEB-854A0A4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A016-A685-4270-89A0-FFCF617F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09A5-7598-4C56-A771-D950390A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488F-E127-473A-8A4F-65FE865E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6E60-A119-48FB-AE8A-879E7027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480-FAAA-4FFA-BCD2-94487A1D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E8C-8122-4862-88F4-E35E27F7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773-3AB2-467E-BE82-83898C00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08D-CCEC-457B-8EBF-F824A009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544-4B7C-4C54-B172-585D73AC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EC2-7D1C-402D-A372-5E5C9F7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CCF3-108F-4C73-BF4A-BD0D710A86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CEEA-0033-4F4E-AAF3-3229AFEF4B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F740-8967-4AE7-89E1-7C7CC0B4E9C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20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87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dormi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960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int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903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orr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9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jug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93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trabaj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2951280" cy="2701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19640" y="2924280"/>
            <a:ext cx="5329080" cy="3509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Cuadrad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bail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2924280"/>
            <a:ext cx="5329080" cy="2838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Coneji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soñ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30243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924280"/>
            <a:ext cx="5472000" cy="2838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Cere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com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e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2475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2924280"/>
            <a:ext cx="5761080" cy="2016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Migue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cant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23288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2924280"/>
            <a:ext cx="5761080" cy="2016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Pe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aull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592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2637000"/>
            <a:ext cx="8353440" cy="3024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924280"/>
            <a:ext cx="5761080" cy="2016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 llamo Marí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e gusta </a:t>
            </a:r>
            <a:r>
              <a:rPr b="0" lang="en-GB" sz="5400" spc="-1" strike="noStrike">
                <a:solidFill>
                  <a:srgbClr val="009900"/>
                </a:solidFill>
                <a:latin typeface="Comic Sans MS"/>
              </a:rPr>
              <a:t>vol</a:t>
            </a:r>
            <a:r>
              <a:rPr b="0" lang="en-GB" sz="5400" spc="-1" strike="noStrike">
                <a:solidFill>
                  <a:srgbClr val="800080"/>
                </a:solidFill>
                <a:latin typeface="Comic Sans MS"/>
              </a:rPr>
              <a:t>ar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25192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5314" t="11817" r="4922" b="9196"/>
          <a:stretch/>
        </p:blipFill>
        <p:spPr>
          <a:xfrm>
            <a:off x="0" y="18900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2-10-15T09:47:10Z</dcterms:modified>
  <cp:revision>245</cp:revision>
  <dc:subject/>
  <dc:title>TITLE</dc:title>
</cp:coreProperties>
</file>