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043B-A388-4967-91CF-416FE1149E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B892-E280-4BB0-A6B4-7074B590F6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100A-32C9-4B4D-A1F0-B38060E49B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B933-D04F-479E-95F1-A32DBC972D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4C37-EA22-4BA9-91D8-C9AF4E8E94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6F7A-9B6E-4020-8043-FADED9520E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B410-634B-44ED-8607-A61CD0D80C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111-4BC8-420C-A878-2BAFF198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981-69CD-456D-8E4E-F4E7CE32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6CD-CAFB-49E3-97A5-CADE2125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754-C0B3-4E2F-A61D-DAF027FD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BB1D-418C-490C-B8CB-B77EA940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C65B-1DCC-41E5-A1D8-B8A74E1F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6133-C5E0-4251-8C9B-B696F33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887B-93F3-4595-919C-610F7264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70D8-70C1-48FE-B5ED-6E829D2E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4713-6B17-4811-A11E-5E33D30D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BE15-ED24-4DC8-8132-7A69F72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72E-98A2-41B6-AB54-D64B3298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D9DC-398D-47CC-813B-AB519786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1509-70F5-47EB-915B-CD1F0F8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DA5B-8C53-47B2-BCB8-E6EBA2B1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2029-C1AA-41E4-99E5-60D9E702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BC2F-A357-4897-9B11-B8E5B588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83B0-666B-4A33-9575-D617C446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87A2-1D35-4877-98E4-9CF18B1C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BA13-F9C2-45E0-930F-B8A9FCC8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E8FD-9FE5-4C04-AFDC-0F689E42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62AD-4842-44AF-A6C3-2F3F0649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159-FFCA-4B9C-AFEA-93092D45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3A73-B9FB-426F-A215-AF7DEF2E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C5ED-F2D1-46E7-BAD3-46BB6A07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1C98-C8A8-4C54-B0CA-2E514DFF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F982-A50E-4AAA-A3B4-543AEF6B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B0C0-F90C-4B9E-B037-24467A26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232D5-BCF0-4AE0-9DD4-9D4E0CDD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1B45-4858-4892-9E69-E6231500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9BA-E774-4E83-9BA1-778209DD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4B4-BF3E-4840-B44F-25135D4C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A79-2464-478B-A44D-8344EA3A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7CB-D498-4AAB-8D79-CC2A65BC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CA9-817D-442E-8E3C-DE7DEFE9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2F1-7BF9-4354-A4EF-4D151977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B860-7539-4416-BE57-DA265A079F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CD14-EFFE-41BC-BCC5-26CF10D63E2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0B08-2D7F-4F09-B1D1-1841B8890C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65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  <a:ea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  <a:ea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  <a:ea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  <a:ea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  <a:ea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  <a:ea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Picture 4" descr="pears[1]"/>
          <p:cNvPicPr/>
          <p:nvPr/>
        </p:nvPicPr>
        <p:blipFill>
          <a:blip r:embed="rId1"/>
          <a:srcRect l="1483" t="1759" r="2573" b="2894"/>
          <a:stretch/>
        </p:blipFill>
        <p:spPr>
          <a:xfrm>
            <a:off x="441360" y="2143080"/>
            <a:ext cx="2287440" cy="1457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PH02803J"/>
          <p:cNvPicPr/>
          <p:nvPr/>
        </p:nvPicPr>
        <p:blipFill>
          <a:blip r:embed="rId2"/>
          <a:srcRect l="17503" t="14537" r="20000" b="20846"/>
          <a:stretch/>
        </p:blipFill>
        <p:spPr>
          <a:xfrm>
            <a:off x="3564000" y="2060640"/>
            <a:ext cx="2027160" cy="1622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NG-plums-3_sql[1]"/>
          <p:cNvPicPr/>
          <p:nvPr/>
        </p:nvPicPr>
        <p:blipFill>
          <a:blip r:embed="rId3"/>
          <a:srcRect l="8968" t="2043" r="0" b="10460"/>
          <a:stretch/>
        </p:blipFill>
        <p:spPr>
          <a:xfrm>
            <a:off x="539640" y="4653000"/>
            <a:ext cx="2090880" cy="2009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H02763J"/>
          <p:cNvPicPr/>
          <p:nvPr/>
        </p:nvPicPr>
        <p:blipFill>
          <a:blip r:embed="rId4"/>
          <a:srcRect l="6991" t="3649" r="7717" b="2086"/>
          <a:stretch/>
        </p:blipFill>
        <p:spPr>
          <a:xfrm>
            <a:off x="3708360" y="4556160"/>
            <a:ext cx="2087640" cy="178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j0430479"/>
          <p:cNvPicPr/>
          <p:nvPr/>
        </p:nvPicPr>
        <p:blipFill>
          <a:blip r:embed="rId5"/>
          <a:srcRect l="0" t="0" r="0" b="4731"/>
          <a:stretch/>
        </p:blipFill>
        <p:spPr>
          <a:xfrm>
            <a:off x="6696000" y="1989000"/>
            <a:ext cx="2027160" cy="1927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oranges[1]"/>
          <p:cNvPicPr/>
          <p:nvPr/>
        </p:nvPicPr>
        <p:blipFill>
          <a:blip r:embed="rId6"/>
          <a:srcRect l="3159" t="1268" r="4339" b="7583"/>
          <a:stretch/>
        </p:blipFill>
        <p:spPr>
          <a:xfrm>
            <a:off x="6659640" y="4508640"/>
            <a:ext cx="1963800" cy="1882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108000" y="11592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National First Font"/>
                <a:ea typeface="Arial"/>
              </a:rPr>
              <a:t>las fruta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179280" y="189000"/>
            <a:ext cx="7993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as per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0" y="2276640"/>
            <a:ext cx="9144000" cy="2304720"/>
            <a:chOff x="0" y="2276640"/>
            <a:chExt cx="9144000" cy="2304720"/>
          </a:xfrm>
        </p:grpSpPr>
        <p:pic>
          <p:nvPicPr>
            <p:cNvPr id="141" name="Picture 4" descr="pears[1]"/>
            <p:cNvPicPr/>
            <p:nvPr/>
          </p:nvPicPr>
          <p:blipFill>
            <a:blip r:embed="rId1"/>
            <a:srcRect l="1483" t="1759" r="2573" b="2894"/>
            <a:stretch/>
          </p:blipFill>
          <p:spPr>
            <a:xfrm>
              <a:off x="0" y="2276640"/>
              <a:ext cx="3057120" cy="23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4" descr="pears[1]"/>
            <p:cNvPicPr/>
            <p:nvPr/>
          </p:nvPicPr>
          <p:blipFill>
            <a:blip r:embed="rId2"/>
            <a:srcRect l="1483" t="1759" r="2573" b="2894"/>
            <a:stretch/>
          </p:blipFill>
          <p:spPr>
            <a:xfrm>
              <a:off x="6086880" y="2276640"/>
              <a:ext cx="3057120" cy="23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4" descr="pears[1]"/>
            <p:cNvPicPr/>
            <p:nvPr/>
          </p:nvPicPr>
          <p:blipFill>
            <a:blip r:embed="rId3"/>
            <a:srcRect l="1483" t="1759" r="2573" b="2894"/>
            <a:stretch/>
          </p:blipFill>
          <p:spPr>
            <a:xfrm>
              <a:off x="3029760" y="2276640"/>
              <a:ext cx="3057120" cy="230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as manzan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Picture 5" descr="PH02803J"/>
          <p:cNvPicPr/>
          <p:nvPr/>
        </p:nvPicPr>
        <p:blipFill>
          <a:blip r:embed="rId1"/>
          <a:srcRect l="17503" t="14537" r="20000" b="20846"/>
          <a:stretch/>
        </p:blipFill>
        <p:spPr>
          <a:xfrm>
            <a:off x="212760" y="1679400"/>
            <a:ext cx="3268800" cy="2613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H02803J"/>
          <p:cNvPicPr/>
          <p:nvPr/>
        </p:nvPicPr>
        <p:blipFill>
          <a:blip r:embed="rId2"/>
          <a:srcRect l="17503" t="14537" r="20000" b="20846"/>
          <a:stretch/>
        </p:blipFill>
        <p:spPr>
          <a:xfrm>
            <a:off x="3481560" y="1679400"/>
            <a:ext cx="3267000" cy="261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PH02803J"/>
          <p:cNvPicPr/>
          <p:nvPr/>
        </p:nvPicPr>
        <p:blipFill>
          <a:blip r:embed="rId3"/>
          <a:srcRect l="17503" t="14537" r="20000" b="20846"/>
          <a:stretch/>
        </p:blipFill>
        <p:spPr>
          <a:xfrm>
            <a:off x="1619280" y="4245120"/>
            <a:ext cx="32670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as fres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433440" y="1647720"/>
            <a:ext cx="2195640" cy="1917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413080" y="1647720"/>
            <a:ext cx="2195280" cy="1917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3"/>
          <a:stretch/>
        </p:blipFill>
        <p:spPr>
          <a:xfrm>
            <a:off x="4429080" y="1647720"/>
            <a:ext cx="2195640" cy="19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4"/>
          <a:stretch/>
        </p:blipFill>
        <p:spPr>
          <a:xfrm>
            <a:off x="6624720" y="1647720"/>
            <a:ext cx="2195280" cy="191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5"/>
          <a:stretch/>
        </p:blipFill>
        <p:spPr>
          <a:xfrm>
            <a:off x="433440" y="3527280"/>
            <a:ext cx="2195640" cy="1917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"/>
          <p:cNvPicPr/>
          <p:nvPr/>
        </p:nvPicPr>
        <p:blipFill>
          <a:blip r:embed="rId6"/>
          <a:stretch/>
        </p:blipFill>
        <p:spPr>
          <a:xfrm>
            <a:off x="2413080" y="3527280"/>
            <a:ext cx="2195280" cy="191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"/>
          <p:cNvPicPr/>
          <p:nvPr/>
        </p:nvPicPr>
        <p:blipFill>
          <a:blip r:embed="rId7"/>
          <a:stretch/>
        </p:blipFill>
        <p:spPr>
          <a:xfrm>
            <a:off x="4429080" y="3527280"/>
            <a:ext cx="2195640" cy="1917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"/>
          <p:cNvPicPr/>
          <p:nvPr/>
        </p:nvPicPr>
        <p:blipFill>
          <a:blip r:embed="rId8"/>
          <a:stretch/>
        </p:blipFill>
        <p:spPr>
          <a:xfrm>
            <a:off x="6624720" y="3527280"/>
            <a:ext cx="21952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os plátano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7" descr="PH02763J"/>
          <p:cNvPicPr/>
          <p:nvPr/>
        </p:nvPicPr>
        <p:blipFill>
          <a:blip r:embed="rId1"/>
          <a:srcRect l="6991" t="3649" r="7717" b="2086"/>
          <a:stretch/>
        </p:blipFill>
        <p:spPr>
          <a:xfrm>
            <a:off x="1692360" y="1989000"/>
            <a:ext cx="51832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as naranj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760840" cy="2496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"/>
          <p:cNvPicPr/>
          <p:nvPr/>
        </p:nvPicPr>
        <p:blipFill>
          <a:blip r:embed="rId2"/>
          <a:stretch/>
        </p:blipFill>
        <p:spPr>
          <a:xfrm>
            <a:off x="4140360" y="4221000"/>
            <a:ext cx="2759040" cy="2497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"/>
          <p:cNvPicPr/>
          <p:nvPr/>
        </p:nvPicPr>
        <p:blipFill>
          <a:blip r:embed="rId3"/>
          <a:stretch/>
        </p:blipFill>
        <p:spPr>
          <a:xfrm>
            <a:off x="861840" y="4221000"/>
            <a:ext cx="2759400" cy="249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"/>
          <p:cNvPicPr/>
          <p:nvPr/>
        </p:nvPicPr>
        <p:blipFill>
          <a:blip r:embed="rId4"/>
          <a:stretch/>
        </p:blipFill>
        <p:spPr>
          <a:xfrm>
            <a:off x="3995640" y="1341360"/>
            <a:ext cx="27608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as ciruel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116000" y="1438200"/>
            <a:ext cx="71312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18:29Z</dcterms:modified>
  <cp:revision>132</cp:revision>
  <dc:subject/>
  <dc:title>TITLE</dc:title>
</cp:coreProperties>
</file>