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4795-6313-4103-A637-79CD10A949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994F-7654-488A-AB4C-A5FD49E793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435C-768B-4C72-8F43-228FC070B0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2EB8-BB39-4621-8942-71BA414E18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F231-DB19-4578-AB2A-C16EE43A40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7542-0B8E-45B6-80E3-A9A426506D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9B06-1FD7-49C9-BBD8-1261317209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CC4-D997-47C0-9D79-1A04ECF0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B2B-92CB-430E-B608-DF3AC9AF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BDE-370E-4C75-8CFB-D0124312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6F9-745C-4BC4-8E01-34593515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D6B5-7AB2-4F93-A63B-A0DCA9CB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F539-A8E9-4A2B-BBB5-0A4E295C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209F-A1A5-4365-997B-324E2734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390F-37C1-441E-9C3C-0D553DEF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3FF9-ABFE-4584-B2F4-13C6BEC0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306A-7FF6-4B5D-B84F-A4110C45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8793-6C0F-41EE-9F37-0E4BC3A7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DF7-B509-46C9-9A8D-8D5BF733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6847-9533-4775-8892-FD483BB0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CAF-554D-42EC-B88C-6F6EECDE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4555-DE98-46E6-B608-0859186F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A166-5F47-42B3-B594-3AADEE55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F92C-2F79-4C85-A32E-C2D8BDA0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A03F-C78E-4B80-B581-851F4708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E63B-FCBD-4074-B1E3-81263C1E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AE73B-2481-4F43-8B35-C60C7DFD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B6B8-FF56-4B7B-BBBD-89B95C73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6E04-9F11-4D11-A348-1A6FDF84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7BE-CE5E-4E3E-8389-33E03184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FC8A-70A9-46AF-97E9-CCCD44D6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CD7D-9459-41FF-886F-48D65A7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2ECE-F7D1-4EAF-8DB8-79F206C1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AF90-71CB-493E-B3BC-F753CBA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72E3-0FF4-436C-B8CA-39B10901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B68C-EC31-4EA4-B289-5DB26BAB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5885-94D7-4F7A-9984-B644683D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94D-C73B-469E-9720-7F5CA45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287-A4D9-4A32-BB87-EF022DDB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CCC-35B0-4F9C-9E9F-573A7878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1AC-08DD-440F-B0C0-65E9613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13F-C54B-4974-B982-F3C83A6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DB0-196D-4F67-8BF8-B082B31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09AE-2B83-4093-8CFE-6C32FBB253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BB7F-3680-41FE-ADAE-CA5818EBEF6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9023-F93B-4D98-ADA1-C57FBC931A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6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4" descr="pears[1]"/>
          <p:cNvPicPr/>
          <p:nvPr/>
        </p:nvPicPr>
        <p:blipFill>
          <a:blip r:embed="rId1"/>
          <a:srcRect l="1483" t="1759" r="2573" b="2894"/>
          <a:stretch/>
        </p:blipFill>
        <p:spPr>
          <a:xfrm>
            <a:off x="441360" y="2143080"/>
            <a:ext cx="2287440" cy="1457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PH02803J"/>
          <p:cNvPicPr/>
          <p:nvPr/>
        </p:nvPicPr>
        <p:blipFill>
          <a:blip r:embed="rId2"/>
          <a:srcRect l="17503" t="14537" r="20000" b="20846"/>
          <a:stretch/>
        </p:blipFill>
        <p:spPr>
          <a:xfrm>
            <a:off x="3564000" y="2060640"/>
            <a:ext cx="2027160" cy="162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NG-plums-3_sql[1]"/>
          <p:cNvPicPr/>
          <p:nvPr/>
        </p:nvPicPr>
        <p:blipFill>
          <a:blip r:embed="rId3"/>
          <a:srcRect l="8968" t="2043" r="0" b="10460"/>
          <a:stretch/>
        </p:blipFill>
        <p:spPr>
          <a:xfrm>
            <a:off x="539640" y="4653000"/>
            <a:ext cx="2090880" cy="2009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H02763J"/>
          <p:cNvPicPr/>
          <p:nvPr/>
        </p:nvPicPr>
        <p:blipFill>
          <a:blip r:embed="rId4"/>
          <a:srcRect l="6991" t="3649" r="7717" b="2086"/>
          <a:stretch/>
        </p:blipFill>
        <p:spPr>
          <a:xfrm>
            <a:off x="3708360" y="4556160"/>
            <a:ext cx="2087640" cy="178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j0430479"/>
          <p:cNvPicPr/>
          <p:nvPr/>
        </p:nvPicPr>
        <p:blipFill>
          <a:blip r:embed="rId5"/>
          <a:srcRect l="0" t="0" r="0" b="4731"/>
          <a:stretch/>
        </p:blipFill>
        <p:spPr>
          <a:xfrm>
            <a:off x="6696000" y="1989000"/>
            <a:ext cx="202716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oranges[1]"/>
          <p:cNvPicPr/>
          <p:nvPr/>
        </p:nvPicPr>
        <p:blipFill>
          <a:blip r:embed="rId6"/>
          <a:srcRect l="3159" t="1268" r="4339" b="7583"/>
          <a:stretch/>
        </p:blipFill>
        <p:spPr>
          <a:xfrm>
            <a:off x="6659640" y="4508640"/>
            <a:ext cx="1963800" cy="1882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108000" y="11592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National First Font"/>
                <a:ea typeface="Arial"/>
              </a:rPr>
              <a:t>las frut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179280" y="189000"/>
            <a:ext cx="7993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per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0" y="2276640"/>
            <a:ext cx="9144000" cy="2304720"/>
            <a:chOff x="0" y="2276640"/>
            <a:chExt cx="9144000" cy="2304720"/>
          </a:xfrm>
        </p:grpSpPr>
        <p:pic>
          <p:nvPicPr>
            <p:cNvPr id="141" name="Picture 4" descr="pears[1]"/>
            <p:cNvPicPr/>
            <p:nvPr/>
          </p:nvPicPr>
          <p:blipFill>
            <a:blip r:embed="rId1"/>
            <a:srcRect l="1483" t="1759" r="2573" b="2894"/>
            <a:stretch/>
          </p:blipFill>
          <p:spPr>
            <a:xfrm>
              <a:off x="0" y="2276640"/>
              <a:ext cx="3057120" cy="23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" descr="pears[1]"/>
            <p:cNvPicPr/>
            <p:nvPr/>
          </p:nvPicPr>
          <p:blipFill>
            <a:blip r:embed="rId2"/>
            <a:srcRect l="1483" t="1759" r="2573" b="2894"/>
            <a:stretch/>
          </p:blipFill>
          <p:spPr>
            <a:xfrm>
              <a:off x="6086880" y="2276640"/>
              <a:ext cx="3057120" cy="23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4" descr="pears[1]"/>
            <p:cNvPicPr/>
            <p:nvPr/>
          </p:nvPicPr>
          <p:blipFill>
            <a:blip r:embed="rId3"/>
            <a:srcRect l="1483" t="1759" r="2573" b="2894"/>
            <a:stretch/>
          </p:blipFill>
          <p:spPr>
            <a:xfrm>
              <a:off x="3029760" y="2276640"/>
              <a:ext cx="3057120" cy="230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manzan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Picture 5" descr="PH02803J"/>
          <p:cNvPicPr/>
          <p:nvPr/>
        </p:nvPicPr>
        <p:blipFill>
          <a:blip r:embed="rId1"/>
          <a:srcRect l="17503" t="14537" r="20000" b="20846"/>
          <a:stretch/>
        </p:blipFill>
        <p:spPr>
          <a:xfrm>
            <a:off x="212760" y="1679400"/>
            <a:ext cx="3268800" cy="2613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H02803J"/>
          <p:cNvPicPr/>
          <p:nvPr/>
        </p:nvPicPr>
        <p:blipFill>
          <a:blip r:embed="rId2"/>
          <a:srcRect l="17503" t="14537" r="20000" b="20846"/>
          <a:stretch/>
        </p:blipFill>
        <p:spPr>
          <a:xfrm>
            <a:off x="3481560" y="1679400"/>
            <a:ext cx="3267000" cy="261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PH02803J"/>
          <p:cNvPicPr/>
          <p:nvPr/>
        </p:nvPicPr>
        <p:blipFill>
          <a:blip r:embed="rId3"/>
          <a:srcRect l="17503" t="14537" r="20000" b="20846"/>
          <a:stretch/>
        </p:blipFill>
        <p:spPr>
          <a:xfrm>
            <a:off x="1619280" y="4245120"/>
            <a:ext cx="3267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fres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433440" y="1647720"/>
            <a:ext cx="2195640" cy="191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413080" y="1647720"/>
            <a:ext cx="2195280" cy="1917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3"/>
          <a:stretch/>
        </p:blipFill>
        <p:spPr>
          <a:xfrm>
            <a:off x="4429080" y="1647720"/>
            <a:ext cx="2195640" cy="19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4"/>
          <a:stretch/>
        </p:blipFill>
        <p:spPr>
          <a:xfrm>
            <a:off x="6624720" y="1647720"/>
            <a:ext cx="2195280" cy="191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5"/>
          <a:stretch/>
        </p:blipFill>
        <p:spPr>
          <a:xfrm>
            <a:off x="433440" y="3527280"/>
            <a:ext cx="2195640" cy="191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6"/>
          <a:stretch/>
        </p:blipFill>
        <p:spPr>
          <a:xfrm>
            <a:off x="2413080" y="3527280"/>
            <a:ext cx="2195280" cy="191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7"/>
          <a:stretch/>
        </p:blipFill>
        <p:spPr>
          <a:xfrm>
            <a:off x="4429080" y="3527280"/>
            <a:ext cx="2195640" cy="1917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"/>
          <p:cNvPicPr/>
          <p:nvPr/>
        </p:nvPicPr>
        <p:blipFill>
          <a:blip r:embed="rId8"/>
          <a:stretch/>
        </p:blipFill>
        <p:spPr>
          <a:xfrm>
            <a:off x="6624720" y="3527280"/>
            <a:ext cx="2195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plátan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PH02763J"/>
          <p:cNvPicPr/>
          <p:nvPr/>
        </p:nvPicPr>
        <p:blipFill>
          <a:blip r:embed="rId1"/>
          <a:srcRect l="6991" t="3649" r="7717" b="2086"/>
          <a:stretch/>
        </p:blipFill>
        <p:spPr>
          <a:xfrm>
            <a:off x="1692360" y="1989000"/>
            <a:ext cx="5183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naranj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760840" cy="2496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"/>
          <p:cNvPicPr/>
          <p:nvPr/>
        </p:nvPicPr>
        <p:blipFill>
          <a:blip r:embed="rId2"/>
          <a:stretch/>
        </p:blipFill>
        <p:spPr>
          <a:xfrm>
            <a:off x="4140360" y="4221000"/>
            <a:ext cx="2759040" cy="249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"/>
          <p:cNvPicPr/>
          <p:nvPr/>
        </p:nvPicPr>
        <p:blipFill>
          <a:blip r:embed="rId3"/>
          <a:stretch/>
        </p:blipFill>
        <p:spPr>
          <a:xfrm>
            <a:off x="861840" y="4221000"/>
            <a:ext cx="2759400" cy="249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"/>
          <p:cNvPicPr/>
          <p:nvPr/>
        </p:nvPicPr>
        <p:blipFill>
          <a:blip r:embed="rId4"/>
          <a:stretch/>
        </p:blipFill>
        <p:spPr>
          <a:xfrm>
            <a:off x="3995640" y="1341360"/>
            <a:ext cx="2760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ciruel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116000" y="1438200"/>
            <a:ext cx="71312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18:29Z</dcterms:modified>
  <cp:revision>132</cp:revision>
  <dc:subject/>
  <dc:title>TITLE</dc:title>
</cp:coreProperties>
</file>