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7E1E-5899-4167-AD90-6B0CE044DD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Leonor d.o.b.  31.1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B83-AD84-48BA-AB07-E4E6A2CC6B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ofía d.o.b. 29.4.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BC21-6D03-40AB-AEF5-F7B673B395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ofía d.o.b. 29.4.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E1AA-0517-4130-AD7D-D33308953F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ofía d.o.b. 29.4.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0A01-3CB0-4405-8789-E906BBD8E4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CB7-1B3D-4591-92E3-69D3CE85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86F-BDF8-4A9C-8D13-0FE1265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5EF-AD88-4313-8E91-D6B4C93D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206-D073-4D5E-851B-817BA89A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BA8-C919-45D1-BC88-A485E04F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73E-2FBD-44EF-9E2B-3193347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454-B038-40C1-8B5C-6FF61BE6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854-DF26-4D8F-B629-F0921F1F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47C-0942-4D53-8AB0-99561B16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0D7-B604-4F2F-8843-522E0EC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C87-E8AB-4D56-843F-729687AD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D25-9365-4DB8-9F12-AB3AD2D3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25D6-DE0B-4468-BC07-16DD02C571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ounded Rectangular Callout 2"/>
          <p:cNvSpPr/>
          <p:nvPr/>
        </p:nvSpPr>
        <p:spPr>
          <a:xfrm>
            <a:off x="108000" y="115920"/>
            <a:ext cx="3816360" cy="2089080"/>
          </a:xfrm>
          <a:prstGeom prst="wedgeRoundRectCallout">
            <a:avLst>
              <a:gd name="adj1" fmla="val 71694"/>
              <a:gd name="adj2" fmla="val 1124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e llamo 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Leonor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omic Sans MS"/>
              </a:rPr>
              <a:t>Tengo catorce año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00"/>
                </a:solidFill>
                <a:latin typeface="Comic Sans MS"/>
              </a:rPr>
              <a:t>Vivo en Madrid con mi famili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943440" y="4149720"/>
            <a:ext cx="3671640" cy="161856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Insert here a recent picture of Princesa Leonor (https://en.wikipedia.org/wiki/Leonor%2C_Princess_of_Asturi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ounded Rectangular Callout 5"/>
          <p:cNvSpPr/>
          <p:nvPr/>
        </p:nvSpPr>
        <p:spPr>
          <a:xfrm>
            <a:off x="4603680" y="4510080"/>
            <a:ext cx="3816360" cy="2087640"/>
          </a:xfrm>
          <a:prstGeom prst="wedgeRoundRectCallout">
            <a:avLst>
              <a:gd name="adj1" fmla="val 11203"/>
              <a:gd name="adj2" fmla="val -105615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e llamo 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Sofía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omic Sans MS"/>
              </a:rPr>
              <a:t>Tengo doce año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00"/>
                </a:solidFill>
                <a:latin typeface="Comic Sans MS"/>
              </a:rPr>
              <a:t>Leonor es </a:t>
            </a:r>
            <a:r>
              <a:rPr b="1" lang="en-GB" sz="3000" spc="-1" strike="noStrike">
                <a:solidFill>
                  <a:srgbClr val="003300"/>
                </a:solidFill>
                <a:latin typeface="Comic Sans MS"/>
              </a:rPr>
              <a:t>mi herman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050920" y="1989000"/>
            <a:ext cx="3673440" cy="161856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Insert here a recent picture of Infanta Sofía (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ttps://en.wikipedia.org/wiki/Infanta_Sof%C3%ADa_of_Spain</a:t>
            </a: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ounded Rectangular Callout 4"/>
          <p:cNvSpPr/>
          <p:nvPr/>
        </p:nvSpPr>
        <p:spPr>
          <a:xfrm>
            <a:off x="2700360" y="4797360"/>
            <a:ext cx="5184720" cy="1209600"/>
          </a:xfrm>
          <a:prstGeom prst="wedgeRoundRectCallout">
            <a:avLst>
              <a:gd name="adj1" fmla="val -42833"/>
              <a:gd name="adj2" fmla="val -143189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i hermana se llama Sofí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omic Sans MS"/>
              </a:rPr>
              <a:t>Tiene doce año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050920" y="1989000"/>
            <a:ext cx="3673440" cy="161856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Insert here a recent picture of Leonor and Sofía together (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ttps://en.wikipedia.org/wiki/Infanta_Sof%C3%ADa_of_Spain</a:t>
            </a: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250920" y="189000"/>
            <a:ext cx="871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e9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Due to copyright restrictions, this PowerPoint cannot be shared with photographs copied from the int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1 revises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me llamo 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tengo…años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, and introduce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vivo en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(I live in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2 introduces the family wor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mi herma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3 introduces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se llama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tiene…años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for talking about the name and age of a 3</a:t>
            </a:r>
            <a:r>
              <a:rPr b="0" lang="en-GB" sz="2000" spc="-1" strike="noStrike" baseline="30000">
                <a:solidFill>
                  <a:srgbClr val="ffffe9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pers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30:06Z</dcterms:modified>
  <cp:revision>153</cp:revision>
  <dc:subject/>
  <dc:title>TITLE</dc:title>
</cp:coreProperties>
</file>