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8EE8-76DA-4C14-8D55-AA9440E93FC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Leonor d.o.b.  31.10.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98BE-CB94-4B6D-A28D-F56AB37D9EA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Sofía d.o.b. 29.4.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1F94-BC28-46F1-90B6-E7FA813640B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Sofía d.o.b. 29.4.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9B85-6EEE-49D9-8DFC-97FEB28D314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Sofía d.o.b. 29.4.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79EC-F319-4860-B5F7-2A509DBFC03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C1F-EE71-41AF-B1A5-A8FFE761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387-98D6-4EFD-A3A3-EC7EC1F4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89C-BC09-4810-B053-0BDC14B7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FB0-E745-4CC5-A174-5C8F55D4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B3F-AD13-409D-BD32-040B98CD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6431-6FC5-4B49-B8EE-2D7B6EE6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5C6-4194-4C8B-B262-6085757D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50CF-D304-4D13-AF84-3601D77E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0A7-58E8-4610-99D0-CB202401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ED90-D700-45A7-BB88-B5C3D510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B956-03B6-475F-8A64-E38A3273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5DD-B458-4888-8149-0E06C290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1249-EA00-41F0-8E53-5FA5555F9EF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ounded Rectangular Callout 2"/>
          <p:cNvSpPr/>
          <p:nvPr/>
        </p:nvSpPr>
        <p:spPr>
          <a:xfrm>
            <a:off x="108000" y="115920"/>
            <a:ext cx="3816360" cy="2089080"/>
          </a:xfrm>
          <a:prstGeom prst="wedgeRoundRectCallout">
            <a:avLst>
              <a:gd name="adj1" fmla="val 71694"/>
              <a:gd name="adj2" fmla="val 112462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Me llamo </a:t>
            </a:r>
            <a:r>
              <a:rPr b="1" lang="en-GB" sz="3000" spc="-1" strike="noStrike">
                <a:solidFill>
                  <a:srgbClr val="000000"/>
                </a:solidFill>
                <a:latin typeface="Comic Sans MS"/>
              </a:rPr>
              <a:t>Leonor</a:t>
            </a: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omic Sans MS"/>
              </a:rPr>
              <a:t>Tengo catorce año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00"/>
                </a:solidFill>
                <a:latin typeface="Comic Sans MS"/>
              </a:rPr>
              <a:t>Vivo en Madrid con mi familia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3943440" y="4149720"/>
            <a:ext cx="3671640" cy="1618560"/>
          </a:xfrm>
          <a:prstGeom prst="rect">
            <a:avLst/>
          </a:prstGeom>
          <a:noFill/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Comic Sans MS"/>
              </a:rPr>
              <a:t>Insert here a recent picture of Princesa Leonor (https://en.wikipedia.org/wiki/Leonor%2C_Princess_of_Asturia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ounded Rectangular Callout 5"/>
          <p:cNvSpPr/>
          <p:nvPr/>
        </p:nvSpPr>
        <p:spPr>
          <a:xfrm>
            <a:off x="4603680" y="4510080"/>
            <a:ext cx="3816360" cy="2087640"/>
          </a:xfrm>
          <a:prstGeom prst="wedgeRoundRectCallout">
            <a:avLst>
              <a:gd name="adj1" fmla="val 11203"/>
              <a:gd name="adj2" fmla="val -105615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Me llamo </a:t>
            </a:r>
            <a:r>
              <a:rPr b="1" lang="en-GB" sz="3000" spc="-1" strike="noStrike">
                <a:solidFill>
                  <a:srgbClr val="000000"/>
                </a:solidFill>
                <a:latin typeface="Comic Sans MS"/>
              </a:rPr>
              <a:t>Sofía</a:t>
            </a: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omic Sans MS"/>
              </a:rPr>
              <a:t>Tengo doce año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00"/>
                </a:solidFill>
                <a:latin typeface="Comic Sans MS"/>
              </a:rPr>
              <a:t>Leonor es </a:t>
            </a:r>
            <a:r>
              <a:rPr b="1" lang="en-GB" sz="3000" spc="-1" strike="noStrike">
                <a:solidFill>
                  <a:srgbClr val="003300"/>
                </a:solidFill>
                <a:latin typeface="Comic Sans MS"/>
              </a:rPr>
              <a:t>mi hermana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050920" y="1989000"/>
            <a:ext cx="3673440" cy="1618560"/>
          </a:xfrm>
          <a:prstGeom prst="rect">
            <a:avLst/>
          </a:prstGeom>
          <a:noFill/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Comic Sans MS"/>
              </a:rPr>
              <a:t>Insert here a recent picture of Infanta Sofía (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ttps://en.wikipedia.org/wiki/Infanta_Sof%C3%ADa_of_Spain</a:t>
            </a:r>
            <a:r>
              <a:rPr b="0" lang="en-GB" sz="2000" spc="-1" strike="noStrike">
                <a:solidFill>
                  <a:srgbClr val="ffffe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ounded Rectangular Callout 4"/>
          <p:cNvSpPr/>
          <p:nvPr/>
        </p:nvSpPr>
        <p:spPr>
          <a:xfrm>
            <a:off x="2700360" y="4797360"/>
            <a:ext cx="5184720" cy="1209600"/>
          </a:xfrm>
          <a:prstGeom prst="wedgeRoundRectCallout">
            <a:avLst>
              <a:gd name="adj1" fmla="val -42833"/>
              <a:gd name="adj2" fmla="val -143189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Mi hermana se llama Sofía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Comic Sans MS"/>
              </a:rPr>
              <a:t>Tiene doce año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050920" y="1989000"/>
            <a:ext cx="3673440" cy="1618560"/>
          </a:xfrm>
          <a:prstGeom prst="rect">
            <a:avLst/>
          </a:prstGeom>
          <a:noFill/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Comic Sans MS"/>
              </a:rPr>
              <a:t>Insert here a recent picture of Leonor and Sofía together (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ttps://en.wikipedia.org/wiki/Infanta_Sof%C3%ADa_of_Spain</a:t>
            </a:r>
            <a:r>
              <a:rPr b="0" lang="en-GB" sz="2000" spc="-1" strike="noStrike">
                <a:solidFill>
                  <a:srgbClr val="ffffe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250920" y="189000"/>
            <a:ext cx="871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e9"/>
                </a:solidFill>
                <a:latin typeface="Arial"/>
              </a:rPr>
              <a:t>Notes for the teach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Due to copyright restrictions, this PowerPoint cannot be shared with photographs copied from the interne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Slide 1 revises </a:t>
            </a:r>
            <a:r>
              <a:rPr b="0" i="1" lang="en-GB" sz="2000" spc="-1" strike="noStrike">
                <a:solidFill>
                  <a:srgbClr val="ffffe9"/>
                </a:solidFill>
                <a:latin typeface="Arial"/>
              </a:rPr>
              <a:t>me llamo </a:t>
            </a: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and </a:t>
            </a:r>
            <a:r>
              <a:rPr b="0" i="1" lang="en-GB" sz="2000" spc="-1" strike="noStrike">
                <a:solidFill>
                  <a:srgbClr val="ffffe9"/>
                </a:solidFill>
                <a:latin typeface="Arial"/>
              </a:rPr>
              <a:t>tengo…años</a:t>
            </a: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, and introduce </a:t>
            </a:r>
            <a:r>
              <a:rPr b="0" i="1" lang="en-GB" sz="2000" spc="-1" strike="noStrike">
                <a:solidFill>
                  <a:srgbClr val="ffffe9"/>
                </a:solidFill>
                <a:latin typeface="Arial"/>
              </a:rPr>
              <a:t>vivo en</a:t>
            </a: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 (I live in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Slide 2 introduces the family word </a:t>
            </a:r>
            <a:r>
              <a:rPr b="0" i="1" lang="en-GB" sz="2000" spc="-1" strike="noStrike">
                <a:solidFill>
                  <a:srgbClr val="ffffe9"/>
                </a:solidFill>
                <a:latin typeface="Arial"/>
              </a:rPr>
              <a:t>mi herman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Slide 3 introduces </a:t>
            </a:r>
            <a:r>
              <a:rPr b="0" i="1" lang="en-GB" sz="2000" spc="-1" strike="noStrike">
                <a:solidFill>
                  <a:srgbClr val="ffffe9"/>
                </a:solidFill>
                <a:latin typeface="Arial"/>
              </a:rPr>
              <a:t>se llama</a:t>
            </a: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e9"/>
                </a:solidFill>
                <a:latin typeface="Arial"/>
              </a:rPr>
              <a:t>tiene…años</a:t>
            </a: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 for talking about the name and age of a 3</a:t>
            </a:r>
            <a:r>
              <a:rPr b="0" lang="en-GB" sz="2000" spc="-1" strike="noStrike" baseline="30000">
                <a:solidFill>
                  <a:srgbClr val="ffffe9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e9"/>
                </a:solidFill>
                <a:latin typeface="Arial"/>
              </a:rPr>
              <a:t> pers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3-26T10:30:06Z</dcterms:modified>
  <cp:revision>153</cp:revision>
  <dc:subject/>
  <dc:title>TITLE</dc:title>
</cp:coreProperties>
</file>