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AA94-C603-420B-B2B5-B6264A7697B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11A1-5298-40B3-98A4-1FF9D584B21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7015-9F95-4A1E-A53A-7F8FCDCB130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B6F9-48E6-40C3-BA91-67BF424E0F4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1E13-6E5C-4B18-BCEC-CAE18BC2637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CD84-552A-4AC4-BF53-9228ECF16FF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5578-9CD4-41B9-8B4A-DC02E109BCD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7EFF-BA4A-4FDD-B765-61EF8A9854F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3932-F619-4498-8F0C-55DB0342A46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D019-2A5A-4FCB-ABED-F0CF4224C9D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0E8B-0D5F-4C54-8E5E-4FC0F4752EB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9843-11DF-423A-934C-D152DF1B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D46C-BA93-4602-BC2B-D0754A96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C06E5-A228-47C7-A2DF-B865E020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9F44D-4F40-4629-82BB-4FBDEA74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FB734-9441-4B9B-902C-3433AF32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9EED0-D669-4915-9D5A-0E058925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0DAE7B-0EAD-4B45-8E03-D9B68883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D353B-CE11-458B-B0F3-5B897EE4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D31C6-36FC-4D22-B78C-1A2A0821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04FBB-54DA-44A8-A65E-AD05B0218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2ED33-4AE9-4AB2-9A59-FE3BDED30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F74B8-A509-4669-AC14-B3D46FED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12C1-4F1B-4200-83B2-198505A6D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0A0703-C2CE-49AD-8D80-689112AB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FC4F1E-6BDD-4B56-BCF9-449D3344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BDDF5F-65CF-415D-9158-EA685664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A535FE-6D9C-4E6E-8F7C-F08E030F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E663D8-554F-491E-9467-1AA0A522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1E70F-7B86-42B3-AB3F-1D99E133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7CFB33-152C-44D3-B552-44DBE6C7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FC9588-54FC-48B5-B075-CCC64938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FC02F6-A73E-4284-A381-7A3F79DD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1878BF-99EF-4934-B331-B5553B09D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A09E-86F6-46A9-B42F-FC69ED437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DF63D-2550-4CDB-981C-BAD342C7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1F58-490F-4986-8239-CCE541B93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E091-4C52-400A-A614-740450C0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4566-CC60-4140-A2E1-BA3EF7EE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404B-F61B-46FC-9BEB-6254B4E2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A81F-9D16-4628-B141-0E361E9F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55C7-A076-4645-B329-F1249502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284A-3AAC-4134-AC0E-D4C87432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6FEA-8017-49C0-A93F-7E6A7214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32C9-C3D6-4F7F-9121-BC6910A5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D84F-2876-4032-8230-5FAF396A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3985-AF61-482B-99DA-8FB062A5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54FA-6343-4BF0-A8A2-B9EC54CCF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C8E9-6AC6-4382-8E8B-C6FECD9E5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570F7-607C-4E90-AAC6-817DA14E0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38BF3-83FF-4972-ACD9-7FA08CB5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DC83C-9767-4818-9ED1-9FDA03F6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3B271-721A-4638-AEFB-6A229531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BDB27-D10A-4E20-9819-2AE4F438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4C53-C629-4987-9DB6-207A2AB0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11B6D-9DA2-47E2-A105-FB5C20D5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38C61-E94D-4DA6-94B1-AD0AF52E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885B7-7628-4CE8-977B-C89FE54E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BBFC2-2CE0-4027-99DA-635145D9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5E1EA-E4F9-4F58-8A34-C92B0FD4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9D9D5-8F35-4A92-AFC7-171B69340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4AA2E-4641-489F-B33A-F289CF2B0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199EB-B356-48B6-A4E6-DC70D4530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7E6EC-A999-4A65-9A1C-A3DE5253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7C8B1-E7DB-494E-9428-3581CD3D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3C62-656C-495A-AE9F-C740354F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F3BA1-06F3-4939-AA27-4616D96D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5A4A8-8EFE-4A42-83F9-49D8443E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AE0AF-C18E-45E2-AA6C-820531C4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89C1F-4565-40AB-8135-536B486B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62FAC-6E66-444F-8F90-71C2534C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25935-ECC3-4386-A0DA-FD99CDEE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A0A22-BFF6-4A0B-83C0-25F5B280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B2C02-4CDE-4BCA-985C-F3463E283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88A4F-228E-4A54-B2E3-118222BB4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01731-A3FD-4432-9AA8-1FB2BA9AD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4638-E72E-4E1E-B62C-D754524B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110BF-51E7-4A76-AE60-46CDF714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37AA2-0D7E-4AFD-A3CB-9BD5F065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B67D4-6D01-4FE4-B1A2-86B9C479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83E00-56A1-4178-93D8-64F68947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5B9E5-5A71-49AF-9793-3B752B98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57AD2-3CD0-4627-B07A-9D301016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A246A-D736-482C-8AF7-613E48CE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928AF-1A99-4CFE-9734-EAB886EE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854CB-08E7-46B4-BF95-8857D837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A2691-31BD-4C96-BFC6-4D755BD6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6FDB-A631-4753-9089-5D9FB92F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D5279-1DF2-40B6-B6D9-BC9B1B6FC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AA870-49C3-4179-B5A6-BCF5D026C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CC346-9483-45E2-AD84-A6A4F46A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C5F58-A2F8-4406-9488-C3794286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7C4EF-EED8-4F46-A818-FC380D51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95F62-DC7A-43B7-B35A-7CD2A6E6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858C3-D514-4999-9C7D-9ADF6190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22A54-A5C2-4E8E-BCD4-B5510286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112F5-CAE7-4D36-8E12-D7B6E336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14BB6-9394-49E0-B537-7E1D8495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ADB1-DC7B-470D-8309-BA29F33C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620F6-12BF-4866-8C26-FB13B3B5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99D51-50BB-4F79-8EC2-673C04F8A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608DA-A74D-48D1-8336-8BECBFC5B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AF78F-D0C9-4C8E-AA1B-06F6989CD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397C7-504F-4550-AEE9-DD9C4AD2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B4802-C4CC-4C97-A2D6-23B19171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78244-F592-405A-BFAA-D9892AE7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0FB9B-6175-4F42-AC83-EC7A48F9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3EBB0-5F9E-4FB3-A849-576F249B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5F753-447F-47CD-957E-79569037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53EF-EF0E-4D14-8844-5422BEAF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DC1DB-B85C-4297-975B-18CC849D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3A836-9F33-4185-8CF3-808CB58A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3254A-A70F-42D0-A2C6-299A2D30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2F0D7-5119-4E6E-836D-72E8F1566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A56F3-ACF1-44DA-9E46-19309D13C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6A41B-325C-4669-85FD-42FF448EC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E29BF-7929-4F6B-AC14-67636FB0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8035A-908E-4D13-8991-F9E295A0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944C3-6EEB-4269-9150-2913CAF1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03277-0EDE-4434-BB4C-E4070A65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A6E5-81B8-4F8F-A083-D58A27FD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AA0DA-8A51-40E1-8980-0FA19F1E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FF90F-EBE6-4940-A0AE-9CFD1ACF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EC1B1-411D-420B-B0C9-510AA64B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5B84D-B07F-48FF-A5E7-B9161E01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0D2AD-3154-4C87-A4CA-C6CA4866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E9983-F4BA-48DB-B8EF-40211C291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D6784-324B-4295-BB25-01E5F3481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68C88A-2E3F-4D2C-96FB-BBE624C61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B9092-6160-4133-A129-9BB587A8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4162D-BC9E-4F8F-AAB8-550C4BA1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C213-B433-4E17-992B-EF043A04131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7251-FF9D-4E57-BE3B-85983860857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EA1B-F44F-47DE-9842-3F95DD486C6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5E2D-A31D-4CA6-B5F7-42C6AE2BD90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7B2D-33B2-4BB8-8324-22192EB85B2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07A9-591A-4247-8DC2-6B8CAF199BB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568D-0299-4BB2-B723-8FCC09ABE58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8B19-925B-4DBC-B5E2-F3562331335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768C-4F82-4887-9112-EA55C758492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E215-3D52-43BF-A805-DDD2719B1A3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8" name="Picture 1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919840"/>
          </a:xfrm>
          <a:prstGeom prst="rect">
            <a:avLst/>
          </a:prstGeom>
          <a:ln w="0">
            <a:noFill/>
          </a:ln>
        </p:spPr>
      </p:pic>
      <p:sp>
        <p:nvSpPr>
          <p:cNvPr id="419" name="Down Arrow Callout 2"/>
          <p:cNvSpPr/>
          <p:nvPr/>
        </p:nvSpPr>
        <p:spPr>
          <a:xfrm>
            <a:off x="250920" y="950760"/>
            <a:ext cx="2017440" cy="1081080"/>
          </a:xfrm>
          <a:prstGeom prst="downArrowCallout">
            <a:avLst>
              <a:gd name="adj1" fmla="val 25005"/>
              <a:gd name="adj2" fmla="val 24994"/>
              <a:gd name="adj3" fmla="val 25000"/>
              <a:gd name="adj4" fmla="val 6497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i mad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Down Arrow Callout 4"/>
          <p:cNvSpPr/>
          <p:nvPr/>
        </p:nvSpPr>
        <p:spPr>
          <a:xfrm>
            <a:off x="6084720" y="879480"/>
            <a:ext cx="2016360" cy="1079640"/>
          </a:xfrm>
          <a:prstGeom prst="downArrowCallout">
            <a:avLst>
              <a:gd name="adj1" fmla="val 25008"/>
              <a:gd name="adj2" fmla="val 24997"/>
              <a:gd name="adj3" fmla="val 25000"/>
              <a:gd name="adj4" fmla="val 6497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i pad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Down Arrow Callout 5"/>
          <p:cNvSpPr/>
          <p:nvPr/>
        </p:nvSpPr>
        <p:spPr>
          <a:xfrm>
            <a:off x="2627280" y="735120"/>
            <a:ext cx="2016000" cy="1081080"/>
          </a:xfrm>
          <a:prstGeom prst="downArrowCallout">
            <a:avLst>
              <a:gd name="adj1" fmla="val 25004"/>
              <a:gd name="adj2" fmla="val 25002"/>
              <a:gd name="adj3" fmla="val 25000"/>
              <a:gd name="adj4" fmla="val 6497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i abuel</a:t>
            </a:r>
            <a:r>
              <a:rPr b="0" lang="en-GB" sz="3200" spc="-1" strike="noStrike">
                <a:solidFill>
                  <a:srgbClr val="0070c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Down Arrow Callout 6"/>
          <p:cNvSpPr/>
          <p:nvPr/>
        </p:nvSpPr>
        <p:spPr>
          <a:xfrm>
            <a:off x="4643280" y="1671480"/>
            <a:ext cx="2016360" cy="1079640"/>
          </a:xfrm>
          <a:prstGeom prst="downArrowCallout">
            <a:avLst>
              <a:gd name="adj1" fmla="val 25008"/>
              <a:gd name="adj2" fmla="val 24997"/>
              <a:gd name="adj3" fmla="val 25000"/>
              <a:gd name="adj4" fmla="val 6497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i abuel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Up Arrow Callout 3"/>
          <p:cNvSpPr/>
          <p:nvPr/>
        </p:nvSpPr>
        <p:spPr>
          <a:xfrm>
            <a:off x="1258920" y="5245200"/>
            <a:ext cx="2376360" cy="1079280"/>
          </a:xfrm>
          <a:prstGeom prst="upArrowCallout">
            <a:avLst>
              <a:gd name="adj1" fmla="val 24997"/>
              <a:gd name="adj2" fmla="val 25005"/>
              <a:gd name="adj3" fmla="val 25000"/>
              <a:gd name="adj4" fmla="val 70041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i </a:t>
            </a:r>
            <a:r>
              <a:rPr b="0" lang="en-GB" sz="3200" spc="-1" strike="noStrike">
                <a:solidFill>
                  <a:srgbClr val="595959"/>
                </a:solidFill>
                <a:latin typeface="Comic Sans MS"/>
              </a:rPr>
              <a:t>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rman</a:t>
            </a:r>
            <a:r>
              <a:rPr b="0" lang="en-GB" sz="3200" spc="-1" strike="noStrike">
                <a:solidFill>
                  <a:srgbClr val="0070c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Up Arrow Callout 8"/>
          <p:cNvSpPr/>
          <p:nvPr/>
        </p:nvSpPr>
        <p:spPr>
          <a:xfrm>
            <a:off x="3741840" y="5245200"/>
            <a:ext cx="2376360" cy="1079280"/>
          </a:xfrm>
          <a:prstGeom prst="upArrowCallout">
            <a:avLst>
              <a:gd name="adj1" fmla="val 24997"/>
              <a:gd name="adj2" fmla="val 25005"/>
              <a:gd name="adj3" fmla="val 25000"/>
              <a:gd name="adj4" fmla="val 70041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i </a:t>
            </a:r>
            <a:r>
              <a:rPr b="0" lang="en-GB" sz="3200" spc="-1" strike="noStrike">
                <a:solidFill>
                  <a:srgbClr val="595959"/>
                </a:solidFill>
                <a:latin typeface="Comic Sans MS"/>
              </a:rPr>
              <a:t>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rman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08000" y="1700280"/>
          <a:ext cx="8785080" cy="4984560"/>
        </p:xfrm>
        <a:graphic>
          <a:graphicData uri="http://schemas.openxmlformats.org/drawingml/2006/table">
            <a:tbl>
              <a:tblPr/>
              <a:tblGrid>
                <a:gridCol w="1944720"/>
                <a:gridCol w="2016000"/>
                <a:gridCol w="48243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m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f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Englis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d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d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father / moth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uel</a:t>
                      </a:r>
                      <a:r>
                        <a:rPr b="0" lang="en-GB" sz="36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uel</a:t>
                      </a: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grandfather / grandm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ig</a:t>
                      </a:r>
                      <a:r>
                        <a:rPr b="0" lang="en-GB" sz="36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ig</a:t>
                      </a: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frie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rman</a:t>
                      </a:r>
                      <a:r>
                        <a:rPr b="0" lang="en-GB" sz="34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o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rman</a:t>
                      </a: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brother / sist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í</a:t>
                      </a:r>
                      <a:r>
                        <a:rPr b="0" lang="en-GB" sz="36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í</a:t>
                      </a: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uncle / au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im</a:t>
                      </a:r>
                      <a:r>
                        <a:rPr b="0" lang="en-GB" sz="36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im</a:t>
                      </a: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cousi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108000" y="1700280"/>
          <a:ext cx="8785080" cy="4984560"/>
        </p:xfrm>
        <a:graphic>
          <a:graphicData uri="http://schemas.openxmlformats.org/drawingml/2006/table">
            <a:tbl>
              <a:tblPr/>
              <a:tblGrid>
                <a:gridCol w="1944720"/>
                <a:gridCol w="2016000"/>
                <a:gridCol w="48243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m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f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Englis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d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d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father / moth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uel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grandfath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ig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frie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rma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sist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08000" y="1700280"/>
          <a:ext cx="8785080" cy="4984560"/>
        </p:xfrm>
        <a:graphic>
          <a:graphicData uri="http://schemas.openxmlformats.org/drawingml/2006/table">
            <a:tbl>
              <a:tblPr/>
              <a:tblGrid>
                <a:gridCol w="1944720"/>
                <a:gridCol w="2016000"/>
                <a:gridCol w="48243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m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f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Englis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d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d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father / moth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uel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buel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grandfather / grandm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ig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frie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rma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sist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108000" y="1700280"/>
          <a:ext cx="8785080" cy="4984560"/>
        </p:xfrm>
        <a:graphic>
          <a:graphicData uri="http://schemas.openxmlformats.org/drawingml/2006/table">
            <a:tbl>
              <a:tblPr/>
              <a:tblGrid>
                <a:gridCol w="1944720"/>
                <a:gridCol w="2016000"/>
                <a:gridCol w="48243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m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f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Englis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d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d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father / moth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uel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buel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grandfather / grandm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ig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mig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frie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rma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sist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108000" y="1700280"/>
          <a:ext cx="8785080" cy="4984560"/>
        </p:xfrm>
        <a:graphic>
          <a:graphicData uri="http://schemas.openxmlformats.org/drawingml/2006/table">
            <a:tbl>
              <a:tblPr/>
              <a:tblGrid>
                <a:gridCol w="1944720"/>
                <a:gridCol w="2016000"/>
                <a:gridCol w="48243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m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f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Englis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d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d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father / moth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uel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buel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grandfather / grandm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ig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mig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frie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4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hermano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rma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brother / sist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108000" y="1700280"/>
          <a:ext cx="8785080" cy="4984560"/>
        </p:xfrm>
        <a:graphic>
          <a:graphicData uri="http://schemas.openxmlformats.org/drawingml/2006/table">
            <a:tbl>
              <a:tblPr/>
              <a:tblGrid>
                <a:gridCol w="1944720"/>
                <a:gridCol w="2016000"/>
                <a:gridCol w="48243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m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f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Englis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d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d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father / moth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uel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buel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grandfather / grandm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ig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mig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frie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4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hermano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rma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brother / sist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í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uncl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108000" y="1700280"/>
          <a:ext cx="8785080" cy="4984560"/>
        </p:xfrm>
        <a:graphic>
          <a:graphicData uri="http://schemas.openxmlformats.org/drawingml/2006/table">
            <a:tbl>
              <a:tblPr/>
              <a:tblGrid>
                <a:gridCol w="1944720"/>
                <a:gridCol w="2016000"/>
                <a:gridCol w="48243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m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f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Englis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d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d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father / moth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uel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buel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grandfather / grandm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ig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mig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frie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4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hermano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rma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brother / sist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í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í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uncle / au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108000" y="1700280"/>
          <a:ext cx="8785080" cy="4984560"/>
        </p:xfrm>
        <a:graphic>
          <a:graphicData uri="http://schemas.openxmlformats.org/drawingml/2006/table">
            <a:tbl>
              <a:tblPr/>
              <a:tblGrid>
                <a:gridCol w="1944720"/>
                <a:gridCol w="2016000"/>
                <a:gridCol w="48243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m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f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Englis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d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d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father / moth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uel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buel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grandfather / grandm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ig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mig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frie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4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hermano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rma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brother / sist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í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í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uncle / au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im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cousi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108000" y="1700280"/>
          <a:ext cx="8785080" cy="4984560"/>
        </p:xfrm>
        <a:graphic>
          <a:graphicData uri="http://schemas.openxmlformats.org/drawingml/2006/table">
            <a:tbl>
              <a:tblPr/>
              <a:tblGrid>
                <a:gridCol w="1944720"/>
                <a:gridCol w="2016000"/>
                <a:gridCol w="48243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m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f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Englis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d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d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father / moth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uel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buel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grandfather / grandm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ig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mig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frie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4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hermano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rma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brother / sist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í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í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uncle / au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prim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im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cousi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6-07T12:35:58Z</dcterms:modified>
  <cp:revision>175</cp:revision>
  <dc:subject/>
  <dc:title>TITLE</dc:title>
</cp:coreProperties>
</file>