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0C8E-46BB-49DB-8B90-BF6BA561DE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A0D5-1378-4064-9526-591AB460A1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0B87-4B23-460C-83D7-54C636EFEB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F06-1E7B-4B06-ACE0-2C1A90401E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E2E5-2D8B-442C-8799-01DCA7FA3D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6C91-34D0-419C-B651-9A3AECCBFC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B04C-ED6C-4B68-9D40-F35B9628DC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A029-0304-4603-880D-26D0B0EF7B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5261-CB31-403B-BB19-2EEB9046C1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F2D-779D-47D9-84ED-770696B46C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6D25-6E9A-407B-A86F-E26E513136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18B-3649-44B7-83BC-64282B1A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E75-4C3D-4BFF-84F3-4C09109B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5B1C5-4468-4550-94F7-B1C7233A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FFD18-F372-4D4A-805D-118F81D4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D518A-2B13-4831-9FE4-AD07112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30AB6-3B06-4CF0-BD7A-6C5A87F9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69F1-C92E-411F-93AC-9D3CFF43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AF289-39AF-41EF-8463-2DD910B1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2AB2E-B6A9-4E90-A97E-3155A1BD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AB8F2-F7FE-4818-B969-8247F9E0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1F780-8F2C-4909-8F6B-9BA509FB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0DA00-9064-4F85-8FA6-DC59EDA0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BCD-8634-49DE-B69D-5A1F24F9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1283F-16E0-4C09-AC6A-1DAD49F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9EF32-ACD4-493B-818A-736C952B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26751-4A11-470F-B1DB-CF722E89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79DBC-F521-4837-AC76-7FD0254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6B9F9-CF58-46FF-8963-A4C8718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620FD-5798-465A-AABB-466C6901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216D5-F0D3-4DE2-861F-8B2B9A2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1802-4706-4BBD-96A3-5D96B50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83646-BA32-41B2-A413-D5F2A33B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EF48B-B2A3-483A-B977-DE82187E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DFB-CCCC-4B49-9EE3-A06A2304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C440D-D74D-4298-BB31-9EA349DB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8C9-CB4D-4DB5-8B68-45D97B3C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1ED-2047-4D51-916C-9242EF75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EDFB-F0FA-41AC-B76A-73C92CE6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D3E0-4839-4D02-AEFC-C10B467A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1E09-E099-4782-979E-322BFA6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F858-0054-42D0-ACE3-843AEF0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731-9345-45A0-8EC7-E7F0CE1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3DA-5B14-4732-BF35-67B04832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941A-4205-4380-BF74-1BD098D6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C07-62CC-4B98-A3B0-BCA59A3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D308-8FB0-45B4-AFE5-E9EBBABA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A3C8-6FF3-4293-9089-A0F24D26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3AF6-2C6A-42BD-A2A7-39F97881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FA63-6A1C-4565-8AF6-81CACAAB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30D2-A826-4B17-9A85-EF78C7F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8343-0362-49E6-97B5-4136C2A1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291B-1DBE-4055-A059-8C8914F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F372-D543-48F2-8681-EEF51CFE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3E6-E3CB-4667-8C76-0792B7F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0389-3B47-4AD6-86E0-3408F8F3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A801-5312-46DA-ADD6-EBF4C3B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43EE-4B35-4D4D-B78A-3E81BF1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A0E9-5FD2-41FC-876D-73F4701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003B-3D77-4499-BECA-06132ECD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1AD7-0EDD-4D9D-ABB8-57951A7E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09A2-4577-46F7-8023-46251EE0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2780-8F07-4390-B5AE-1F1B395C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1BF11-FF81-4BD4-AE8A-4BE1AF8B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88CF7-0583-48A5-96E0-4A20087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F39-7E20-4ECF-BEA6-C858D8B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3C53-5C11-4C57-AF4A-C94B782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785E-C3C4-4BEE-8D7E-53FE873C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05EF-5E4E-4FAB-B320-791B86F6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6478-0B30-450A-9837-4CFFF5B7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9C13-3A0A-41C8-A0D4-814ED2E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A5CD-6446-4AE1-A827-7DFF963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BCAB-9948-4EC3-B6F8-1943BCE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6B2E-2378-4610-84DF-79C7C74A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0831-872C-49DF-BEBA-72FA52F3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7BA70-AA9A-4E59-9DF6-1821C047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193-3209-47CE-AD93-FD68CA4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C6614-E919-44C8-B612-AAE1C3F6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AB04-6025-4121-9049-8301437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C924-5396-4C6A-A3F2-F9D39880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C9D1-1105-4AD3-9781-84E5D2F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7953-A86C-455F-B15F-2F84D624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1757-4E10-4CA3-A837-BC0C1D9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E8CC0-6717-4A40-A911-48D1817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FBEA6-D95D-4DA0-B0D0-5D4D4E4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67060-C2B5-4D6E-84B1-251FCFFD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D5E9A-1CDA-4D05-B99B-A9B25274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3E2-929C-4601-96F7-BE8A8095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53F61-4C7E-4EA0-9988-CE680761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12A05-F9F8-46DB-8005-D9DB207E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2B587-7C02-41AE-8F57-630DBD4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8B8B5-EEA2-46BC-867F-7A6284FF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77B4-A1CA-4384-8D1C-B2EDEE9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8DA76-76F7-4C66-81E1-05180500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F7DB2-C1E9-4E47-A078-3681FE5A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3904C-DEB1-46FA-BCF0-174F2DC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0A04-2763-4DD0-B715-93E9F729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6AAF-14CF-4837-865D-9238D8E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0EB-128C-4A28-BC01-7E79CAA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4969-0DDF-4B47-A984-FA35334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6F25-9BFB-4F87-89A2-D0F0A49C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A3050-5300-4AB9-A8B9-DD56AEEC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3BD3-27C8-4AD9-A565-D2C640FF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C773-025A-4D0A-A764-21FD250C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15C32-E3F4-414C-A78A-7F512070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B06E9-3C4C-4ACA-B0E8-E98052D4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BD65-EC38-41CD-BBDC-3D95F405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B5E57-D87F-435E-B871-F57735A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6B5F-05B4-4A05-A859-53A4CFD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9B4-95F3-487A-AF81-7CD4AF1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3EC55-C00F-475D-8F48-F6DA9AE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1A499-F805-4ED1-8D49-8DBF02A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DAE2F-CFC1-4A8B-8384-9C2A3EEB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12E06-14DE-47F1-B763-843AE0DE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5071A-3D37-47C1-9E0C-0CB6B2D8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52C9-06B6-4A83-B62E-68A6E22E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3C7B-D188-4890-AC9A-BA08AE4C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736E-D292-408B-B25B-B498BFB0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640D5-B1FA-4D33-8E68-5D5B17AB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E31E-6EE7-47A6-8989-33033929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E53-FB6D-463A-B947-047F4F7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9AAD-4DC0-412A-A836-B9499EE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ABBE-1300-45CD-80CB-C6C1667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E4051-0E8F-4CB8-85BC-D030315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3B8BE-D4D5-4BEB-A0F7-F2A5E59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CCB8F-B1CD-460D-BDAA-3DE9FF56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810D9-EDC5-4FDE-8052-80B56FC9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48D6D-0D2C-474B-8B36-28AFB340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C602D-47BB-4090-9DF3-EF541DA3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8D719-296A-42A3-91A9-0C0EB925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BD2CF-BCF7-4232-A641-8FA3F176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8883-4B06-43B8-A62D-AC764E9A2C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AFC-2744-4876-8A90-2EA5E05557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861-A5AE-4474-A677-E3D8BCBB2F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63B1-E7F3-4F26-98A8-BFBC5C289A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CAAF-A5A8-4138-AA63-DC32B88A1F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B33-B643-47F3-9D3D-29E83E53A3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8FA3-BCD9-4322-BF8A-A6AF54AF47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99E0-8BEE-4880-9227-9C7D7E2C09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137-AF7E-4A3E-BDFD-02245A6FCD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DED9-9B7C-4DBD-808B-EA3BF73A2B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419" name="Down Arrow Callout 2"/>
          <p:cNvSpPr/>
          <p:nvPr/>
        </p:nvSpPr>
        <p:spPr>
          <a:xfrm>
            <a:off x="250920" y="950760"/>
            <a:ext cx="2017440" cy="1081080"/>
          </a:xfrm>
          <a:prstGeom prst="downArrowCallout">
            <a:avLst>
              <a:gd name="adj1" fmla="val 25005"/>
              <a:gd name="adj2" fmla="val 24994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Down Arrow Callout 4"/>
          <p:cNvSpPr/>
          <p:nvPr/>
        </p:nvSpPr>
        <p:spPr>
          <a:xfrm>
            <a:off x="6084720" y="879480"/>
            <a:ext cx="2016360" cy="1079640"/>
          </a:xfrm>
          <a:prstGeom prst="downArrowCallout">
            <a:avLst>
              <a:gd name="adj1" fmla="val 25008"/>
              <a:gd name="adj2" fmla="val 24997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Down Arrow Callout 5"/>
          <p:cNvSpPr/>
          <p:nvPr/>
        </p:nvSpPr>
        <p:spPr>
          <a:xfrm>
            <a:off x="2627280" y="735120"/>
            <a:ext cx="2016000" cy="10810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Down Arrow Callout 6"/>
          <p:cNvSpPr/>
          <p:nvPr/>
        </p:nvSpPr>
        <p:spPr>
          <a:xfrm>
            <a:off x="4643280" y="1671480"/>
            <a:ext cx="2016360" cy="1079640"/>
          </a:xfrm>
          <a:prstGeom prst="downArrowCallout">
            <a:avLst>
              <a:gd name="adj1" fmla="val 25008"/>
              <a:gd name="adj2" fmla="val 24997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Up Arrow Callout 3"/>
          <p:cNvSpPr/>
          <p:nvPr/>
        </p:nvSpPr>
        <p:spPr>
          <a:xfrm>
            <a:off x="1258920" y="5245200"/>
            <a:ext cx="2376360" cy="1079280"/>
          </a:xfrm>
          <a:prstGeom prst="upArrowCallout">
            <a:avLst>
              <a:gd name="adj1" fmla="val 24997"/>
              <a:gd name="adj2" fmla="val 25005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Up Arrow Callout 8"/>
          <p:cNvSpPr/>
          <p:nvPr/>
        </p:nvSpPr>
        <p:spPr>
          <a:xfrm>
            <a:off x="3741840" y="5245200"/>
            <a:ext cx="2376360" cy="1079280"/>
          </a:xfrm>
          <a:prstGeom prst="upArrowCallout">
            <a:avLst>
              <a:gd name="adj1" fmla="val 24997"/>
              <a:gd name="adj2" fmla="val 25005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</a:t>
                      </a: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</a:t>
                      </a: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ous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í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í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ous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08000" y="1700280"/>
          <a:ext cx="8785080" cy="4984560"/>
        </p:xfrm>
        <a:graphic>
          <a:graphicData uri="http://schemas.openxmlformats.org/drawingml/2006/table">
            <a:tbl>
              <a:tblPr/>
              <a:tblGrid>
                <a:gridCol w="1944720"/>
                <a:gridCol w="2016000"/>
                <a:gridCol w="4824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Engl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ather / moth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buel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grandfather / 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i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i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frie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herman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brother / sis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í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í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uncle / au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prim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ous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35:58Z</dcterms:modified>
  <cp:revision>175</cp:revision>
  <dc:subject/>
  <dc:title>TITLE</dc:title>
</cp:coreProperties>
</file>