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8106-2EFB-48B3-BAA3-B061EB0EB3E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8AB3-727C-4F03-BF38-56A45D6D8DC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0DF7-C12A-4332-B7D9-83347CEC7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7ADC-C7BA-4917-977C-9CFAA774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40EC-2A51-416A-BD94-5AF0FBDD3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10A3-BA67-493B-BEE0-8C7D3F78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D7C2-234E-4CE5-895B-82200F07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CA76-E0C3-46A8-90D6-FEE7A8F1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37E5-E00B-438C-B871-4C3744EE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EE18-5147-4020-9956-A7A9D9DD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4707-F569-48FD-97C7-319E9F3F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F351-8A21-4649-A29E-0D118C0E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DCFF-20F0-4B11-9F1B-EEBCB596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5939-EBF0-411A-BB3D-19F3293E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9EDB-CECC-4335-A6ED-9CA98EC8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6650-3D74-4339-8D7F-BC1A35C4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B11C-2147-4E95-8EC7-5DF53B8B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8B52-0990-4207-830C-913526D37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1FDD-BF74-4E83-AD53-2C6A7C67A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318ED-F2CE-4B12-92B9-B7E3E3036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BA512-D3E1-40FE-87AC-0FF1CFD7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BE170-462F-4ED4-9F6F-1F7B6202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A5F7F-D3BB-42DE-BCA0-400FDCB5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B700B-41FF-4450-9E34-3B076AC9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4ABC-9EF4-4C93-ADE9-8D2BBF93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3FFAD-ABBE-4AD4-8AF0-CEFF2609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70EA3-0B71-487C-BDA1-915248E8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82DF3-2EE1-4A4B-BE2C-120F6226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CFA92-AFAA-49B9-9392-8C1CA143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F4991-9C2E-4AA1-A7AD-B5F2D529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D7E85-DF7A-4E45-8BBF-57252460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7D822-0153-4E03-AAE1-CD0924820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7A88-F4B7-4EA6-8FC7-8848EC8F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BCB1-9226-48C4-B585-D7C04132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6CD8-D9C2-4631-AF2E-333913AF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C7D2-70C2-4FCA-8282-D36875DB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8628-B3D7-4757-9658-F884BFAE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BB7E-EE6A-4216-A11C-E08498A2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A055-E528-4FCC-A00B-1FA631CC314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C196-F619-40D0-BB4E-81261B398E4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6C7D-61D4-43EF-8640-3E4899A4598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637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916360" y="1628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16360" y="2276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16360" y="2852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16360" y="350028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va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16360" y="414972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¿ va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16360" y="4797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¿ vai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3-02-15T09:17:48Z</dcterms:modified>
  <cp:revision>287</cp:revision>
  <dc:subject/>
  <dc:title>TITLE</dc:title>
</cp:coreProperties>
</file>