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9D89-3A0D-4354-A4A9-5C7FC279355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2277-1654-45C9-AEFD-1FDF6AF0C6D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A5F3-5EF9-4BEB-A15C-D5FF9A6F9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33F4-C9A4-45AF-AA25-A425A7BA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216D-0114-4DBD-AC6E-ABFCDAC61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B5E6-24DC-41ED-BA1A-8A0495E2A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B454-F5E6-49B7-B16C-332489770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20DB-F456-4C2E-9951-A92E1AD1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E943-CB73-4B56-B7A2-E4960EA5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7C1F-2A65-4D99-9F0D-4A11E66A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B68B-4C22-4E6D-B014-19E187BF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2C5B-18F7-43A0-94B6-563896FB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B792-703B-4D62-B052-7FC4CC81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3206-C3D9-485B-819C-F0206209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494D-299E-46C1-87AE-AF08AA4F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FB68-0769-4DBD-A7B2-6F8E7A07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04F4-8A62-41DC-8D77-2173647B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6C9F-034B-4951-A27B-C6B1C8C8C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CA7A-11EF-4CD2-AFD0-68A44E47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28A8F-6D19-4496-9AD5-FADDAB034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C3B12-679D-4F33-873F-B23075FB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C5C23-4DC7-4EA4-9814-11496AAF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97CB1-87C2-4FE7-BDF9-00B56A25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D08AA-BC4F-43A1-AB5C-DA8FA01A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5F78-B2F6-4C4B-8E7C-6FF08B6D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4BC81-0A75-4960-B541-FC563B9D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BC084-DEB6-4287-A853-F52A4926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56088-D5A3-4CE8-8D14-361B9C6D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632CE-921B-4208-9197-2AAA7EA5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8AEBC-9A31-4A1F-AE5B-278C318C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1F063-3B5D-4E3C-AA68-910296961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220A6-4025-451B-9F13-0725436F6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E6A7-54CF-4D68-AF29-7D310845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F9F6-9B01-4F55-818D-7941EEC9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83F7-83A9-40A7-81AA-6A82874E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6C0B-58A0-4862-A54F-B9E80BBA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9295-5576-4AD9-9BF1-AF13066F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5C51-6801-4D6E-9BB5-0B7D5305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36CA-F379-4C50-B4CA-C74886E4A89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540B-D36B-45FE-9F7D-01ABFD2FE84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4137-A4F1-4D7B-8728-A27EC0407F4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637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916360" y="1628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16360" y="2276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16360" y="2852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16360" y="350028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va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16360" y="414972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¿ va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16360" y="4797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¿ vai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3-02-15T09:17:48Z</dcterms:modified>
  <cp:revision>287</cp:revision>
  <dc:subject/>
  <dc:title>TITLE</dc:title>
</cp:coreProperties>
</file>