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7AA-0212-43C5-9909-801981371D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B028-1893-4F23-A544-7CC3E10B0A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E123-0291-4FE7-9396-865D8A9141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3B69-5BB8-4C40-B181-8D65BE6C04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0851-BB5E-4CBA-869F-8D00177760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90BF-6594-47BF-B459-49F744E2FC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55BC-9A72-4888-A999-257BB1020C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06AE-C755-476E-8C27-F5109AF6B9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16B4-BB83-4FC7-BA59-256E705F1B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6C7C-7139-4CDC-9E51-4462C4F657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2910-E034-4D63-B4B6-34480A536D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E766-8FC5-4C2A-96FC-229E4522E3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C7CB-F357-44EE-B009-34E3541A4F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9EF4-C9B6-4E04-9227-7D6C02F62E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BC4A-7068-40A4-A262-5BA3FAEA58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D3FE-873F-44AA-A26D-536DCBC1BE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7C71-24F3-4B45-A099-7CF728FF31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4A6E-AB8C-492F-8147-26FD7CBD15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66BD-2DC4-4BB8-AE8D-F6DD99C1F1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E364-8348-4CE8-A6DB-BD63485F6E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477-935E-4939-8484-21BCCF65F8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AD38-17EA-4DD1-8D46-781BD3D6A6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385-00F6-4B38-8453-EE41D56B68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C42A-EBA8-4DDD-AA14-AC047593AC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F91F-A248-465A-A7EF-099E21C505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0BA-49CE-4DEB-A57D-D8A5A2D2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5CC-2590-4663-ABE0-51CF3732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CEB-4430-4F24-BBB6-ACA7EAC0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2B5-97F2-4241-B344-C525B1C6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E639-C89C-4042-AD85-8AC99D77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E0A7-1D11-4A17-AB6C-73E204D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B6CF-705E-41ED-AB29-8BE66C3D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98F-775D-400F-86A7-99AC69C7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8C11-2024-4277-A620-52CC7BA7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E803-C2CE-4443-8595-AF7734DD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E901-1134-4F8B-8E28-FA456D5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70E-0E4A-4D12-8E08-D475AE68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C00B-B2C0-4F8E-BA55-E273B28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818B-EFBE-494E-9C0E-D22C5AC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3A6-DDC7-40A1-9A8D-8D0592B0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403-ECAF-4B3F-8FA0-1AF66F95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DB1B-A945-44D1-BC07-9FE66D02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05A0-BFE4-4BBF-9151-8BF79DAA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CC67-2341-41C5-BF1E-390C0574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E6C4-FA9E-41C5-84A6-F0522F7E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71AF-CA68-45A7-8984-E4448471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EAA58-A900-47DF-BFD4-09747E55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444-1D8A-4C4A-8677-BD18DCA4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01CD-3B85-462B-8900-AFA546C7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0D16-EF16-4D7D-8FDC-3DEC6AE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134A-7C29-4226-B67F-D2EFAE5E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4E48-601B-4B41-B8F5-35BFBD3E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0C45-DD98-4802-AA43-3E65BA23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3152-8B6E-458B-98B2-5A60DD04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AA0C-A8B8-4272-8642-45405490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444-D02C-41A4-BD03-DE0840CD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D20-FD2E-430D-847C-D36F444D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5CF-1213-4BDD-9B38-6C5C7E0F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1C5-95AC-46D1-8E0C-6512047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27A-271F-4EB5-86FD-859C3F18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DC7-D9E5-4197-9D45-3882876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E6BE-D87F-4A65-A2E1-10D56ED1FA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525-0BD1-4854-8759-7881C2E35F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1296-D687-48BA-9D53-275C774D8DE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547640" y="3360600"/>
            <a:ext cx="6120000" cy="10994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Adónde v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547640" y="3360600"/>
            <a:ext cx="6120000" cy="10994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Adónde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s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835280" y="3500280"/>
            <a:ext cx="5540400" cy="294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Voy al supermercado en autobú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3" descr="bus"/>
          <p:cNvPicPr/>
          <p:nvPr/>
        </p:nvPicPr>
        <p:blipFill>
          <a:blip r:embed="rId1"/>
          <a:srcRect l="0" t="18386" r="0" b="18386"/>
          <a:stretch/>
        </p:blipFill>
        <p:spPr>
          <a:xfrm>
            <a:off x="2987640" y="1197000"/>
            <a:ext cx="2952720" cy="18669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835280" y="3500280"/>
            <a:ext cx="5540400" cy="294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oy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l supermercado en autobú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3" descr="bus"/>
          <p:cNvPicPr/>
          <p:nvPr/>
        </p:nvPicPr>
        <p:blipFill>
          <a:blip r:embed="rId1"/>
          <a:srcRect l="0" t="18386" r="0" b="18386"/>
          <a:stretch/>
        </p:blipFill>
        <p:spPr>
          <a:xfrm>
            <a:off x="2987640" y="1197000"/>
            <a:ext cx="2952720" cy="18669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835280" y="3500280"/>
            <a:ext cx="5540400" cy="22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Vas a la piscina a pie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2" descr="walk"/>
          <p:cNvPicPr/>
          <p:nvPr/>
        </p:nvPicPr>
        <p:blipFill>
          <a:blip r:embed="rId1"/>
          <a:srcRect l="0" t="8501" r="0" b="8501"/>
          <a:stretch/>
        </p:blipFill>
        <p:spPr>
          <a:xfrm>
            <a:off x="3173400" y="765000"/>
            <a:ext cx="28638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1835280" y="3500280"/>
            <a:ext cx="5540400" cy="22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s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 la piscina a pie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2" descr="walk"/>
          <p:cNvPicPr/>
          <p:nvPr/>
        </p:nvPicPr>
        <p:blipFill>
          <a:blip r:embed="rId1"/>
          <a:srcRect l="0" t="8501" r="0" b="8501"/>
          <a:stretch/>
        </p:blipFill>
        <p:spPr>
          <a:xfrm>
            <a:off x="3173400" y="765000"/>
            <a:ext cx="28638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547640" y="3500280"/>
            <a:ext cx="6193080" cy="309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¡Mi amigo Alberto va al estadio en barco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2" descr="boat"/>
          <p:cNvPicPr/>
          <p:nvPr/>
        </p:nvPicPr>
        <p:blipFill>
          <a:blip r:embed="rId1"/>
          <a:stretch/>
        </p:blipFill>
        <p:spPr>
          <a:xfrm>
            <a:off x="3289320" y="620640"/>
            <a:ext cx="25588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547640" y="3500280"/>
            <a:ext cx="6193080" cy="309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¡Mi amigo Alberto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l estadio en barco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2" descr="boat"/>
          <p:cNvPicPr/>
          <p:nvPr/>
        </p:nvPicPr>
        <p:blipFill>
          <a:blip r:embed="rId1"/>
          <a:stretch/>
        </p:blipFill>
        <p:spPr>
          <a:xfrm>
            <a:off x="3289320" y="620640"/>
            <a:ext cx="25588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835280" y="3500280"/>
            <a:ext cx="5540400" cy="208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Isabel va a la tienda en moto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2" descr="motorcycle"/>
          <p:cNvPicPr/>
          <p:nvPr/>
        </p:nvPicPr>
        <p:blipFill>
          <a:blip r:embed="rId1"/>
          <a:srcRect l="0" t="17676" r="0" b="18754"/>
          <a:stretch/>
        </p:blipFill>
        <p:spPr>
          <a:xfrm>
            <a:off x="2986200" y="1174680"/>
            <a:ext cx="3240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835280" y="3500280"/>
            <a:ext cx="5540400" cy="208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Isabel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 la tienda en moto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2" descr="motorcycle"/>
          <p:cNvPicPr/>
          <p:nvPr/>
        </p:nvPicPr>
        <p:blipFill>
          <a:blip r:embed="rId1"/>
          <a:srcRect l="0" t="17676" r="0" b="18754"/>
          <a:stretch/>
        </p:blipFill>
        <p:spPr>
          <a:xfrm>
            <a:off x="2986200" y="1174680"/>
            <a:ext cx="3240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Mi madre y yo vamos a la playa en tren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2" descr="train"/>
          <p:cNvPicPr/>
          <p:nvPr/>
        </p:nvPicPr>
        <p:blipFill>
          <a:blip r:embed="rId1"/>
          <a:srcRect l="0" t="7760" r="0" b="8838"/>
          <a:stretch/>
        </p:blipFill>
        <p:spPr>
          <a:xfrm>
            <a:off x="3059280" y="873000"/>
            <a:ext cx="2808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835280" y="3500280"/>
            <a:ext cx="5540400" cy="294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Voy al supermercado en autobú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3" descr="bus"/>
          <p:cNvPicPr/>
          <p:nvPr/>
        </p:nvPicPr>
        <p:blipFill>
          <a:blip r:embed="rId1"/>
          <a:srcRect l="0" t="18386" r="0" b="18386"/>
          <a:stretch/>
        </p:blipFill>
        <p:spPr>
          <a:xfrm>
            <a:off x="2987640" y="1197000"/>
            <a:ext cx="2952720" cy="1866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Mi madre y yo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mos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 la playa en tren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train"/>
          <p:cNvPicPr/>
          <p:nvPr/>
        </p:nvPicPr>
        <p:blipFill>
          <a:blip r:embed="rId1"/>
          <a:srcRect l="0" t="7760" r="0" b="8838"/>
          <a:stretch/>
        </p:blipFill>
        <p:spPr>
          <a:xfrm>
            <a:off x="3059280" y="873000"/>
            <a:ext cx="2808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Vais al museo en bici, Iker y Ana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2" descr="bike"/>
          <p:cNvPicPr/>
          <p:nvPr/>
        </p:nvPicPr>
        <p:blipFill>
          <a:blip r:embed="rId1"/>
          <a:srcRect l="0" t="16812" r="0" b="17676"/>
          <a:stretch/>
        </p:blipFill>
        <p:spPr>
          <a:xfrm>
            <a:off x="3255840" y="1460520"/>
            <a:ext cx="2698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is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l museo en bici, Iker y Ana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2" descr="bike"/>
          <p:cNvPicPr/>
          <p:nvPr/>
        </p:nvPicPr>
        <p:blipFill>
          <a:blip r:embed="rId1"/>
          <a:srcRect l="0" t="16812" r="0" b="17676"/>
          <a:stretch/>
        </p:blipFill>
        <p:spPr>
          <a:xfrm>
            <a:off x="3255840" y="1460520"/>
            <a:ext cx="2698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835280" y="3500280"/>
            <a:ext cx="52578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Las chicas van a la cafetería en coch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" descr="car"/>
          <p:cNvPicPr/>
          <p:nvPr/>
        </p:nvPicPr>
        <p:blipFill>
          <a:blip r:embed="rId1"/>
          <a:srcRect l="0" t="20046" r="0" b="21338"/>
          <a:stretch/>
        </p:blipFill>
        <p:spPr>
          <a:xfrm>
            <a:off x="2916360" y="1340640"/>
            <a:ext cx="30016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835280" y="3500280"/>
            <a:ext cx="52578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Las chicas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n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 la cafetería en coch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2" descr="car"/>
          <p:cNvPicPr/>
          <p:nvPr/>
        </p:nvPicPr>
        <p:blipFill>
          <a:blip r:embed="rId1"/>
          <a:srcRect l="0" t="20046" r="0" b="21338"/>
          <a:stretch/>
        </p:blipFill>
        <p:spPr>
          <a:xfrm>
            <a:off x="2916360" y="1340640"/>
            <a:ext cx="30016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835280" y="3500280"/>
            <a:ext cx="5540400" cy="22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Vas a la piscina a pie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2" descr="walk"/>
          <p:cNvPicPr/>
          <p:nvPr/>
        </p:nvPicPr>
        <p:blipFill>
          <a:blip r:embed="rId1"/>
          <a:srcRect l="0" t="8501" r="0" b="8501"/>
          <a:stretch/>
        </p:blipFill>
        <p:spPr>
          <a:xfrm>
            <a:off x="3173400" y="765000"/>
            <a:ext cx="28638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547640" y="3500280"/>
            <a:ext cx="6193080" cy="309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¡Mi amigo Alberto va al estadio en barco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2" descr="boat"/>
          <p:cNvPicPr/>
          <p:nvPr/>
        </p:nvPicPr>
        <p:blipFill>
          <a:blip r:embed="rId1"/>
          <a:stretch/>
        </p:blipFill>
        <p:spPr>
          <a:xfrm>
            <a:off x="3289320" y="620640"/>
            <a:ext cx="25588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835280" y="3500280"/>
            <a:ext cx="5540400" cy="208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Isabel va a la tienda en moto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2" descr="motorcycle"/>
          <p:cNvPicPr/>
          <p:nvPr/>
        </p:nvPicPr>
        <p:blipFill>
          <a:blip r:embed="rId1"/>
          <a:srcRect l="0" t="17676" r="0" b="18754"/>
          <a:stretch/>
        </p:blipFill>
        <p:spPr>
          <a:xfrm>
            <a:off x="2986200" y="1174680"/>
            <a:ext cx="3240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Mi madre y yo vamos a la playa en tren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" descr="train"/>
          <p:cNvPicPr/>
          <p:nvPr/>
        </p:nvPicPr>
        <p:blipFill>
          <a:blip r:embed="rId1"/>
          <a:srcRect l="0" t="7760" r="0" b="8838"/>
          <a:stretch/>
        </p:blipFill>
        <p:spPr>
          <a:xfrm>
            <a:off x="3059280" y="873000"/>
            <a:ext cx="2808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Vais al museo en bici, Iker y Ana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2" descr="bike"/>
          <p:cNvPicPr/>
          <p:nvPr/>
        </p:nvPicPr>
        <p:blipFill>
          <a:blip r:embed="rId1"/>
          <a:srcRect l="0" t="16812" r="0" b="17676"/>
          <a:stretch/>
        </p:blipFill>
        <p:spPr>
          <a:xfrm>
            <a:off x="3255840" y="1460520"/>
            <a:ext cx="2698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835280" y="3500280"/>
            <a:ext cx="52578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Las chicas van a la cafetería en coch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car"/>
          <p:cNvPicPr/>
          <p:nvPr/>
        </p:nvPicPr>
        <p:blipFill>
          <a:blip r:embed="rId1"/>
          <a:srcRect l="0" t="20046" r="0" b="21338"/>
          <a:stretch/>
        </p:blipFill>
        <p:spPr>
          <a:xfrm>
            <a:off x="2916360" y="1340640"/>
            <a:ext cx="30016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1547640" y="3360600"/>
            <a:ext cx="6120000" cy="10994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Adónde v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49:04Z</dcterms:modified>
  <cp:revision>315</cp:revision>
  <dc:subject/>
  <dc:title>TITLE</dc:title>
</cp:coreProperties>
</file>