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9B4B-BCBA-4AD1-B2B6-2D001534F3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40D1-DA1A-4055-9AC6-B74C305B3F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0AAD-38BA-478D-8509-A8D10A5030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7E10-B518-4746-A43F-62F83D8FF5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2BBB-1A73-4AE6-BE96-0DB50A5F07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B3C3-2F0C-4CFF-8B00-10348D5A1A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C1D9-6C85-4AB0-A0E8-575D7E8F67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E5DA-15B7-4341-AE9A-8F08680007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307A-20CF-4F60-8E30-904649540E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000E-91B5-44A7-9AD3-E4C63A52F5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34B-B7B3-4BC4-B6B3-78FD2C6E1B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B728-59A5-4092-9A0F-98A3E3CF9E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87C1-F6FD-42A5-B2C1-5A67AD391C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6A25-F16E-449F-83B2-5EB289A17C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A135-A3E3-4983-9803-39136447BB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E161-1FD3-4A28-B971-14130BA80B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B43A-873B-4BDC-A932-37F39D44C0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A18E-DAF9-4BEF-9B5D-C0565C3066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9878-077D-4F97-BFFE-9081597F9E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E6F5-A068-47F5-8C1A-0D5F607677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131B-3644-48FB-8238-F00035FC70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531B-21C8-4C1F-BB8F-E62A060AF1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7D9-AB1F-456A-9B03-0AA02F020C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33A9-10F0-4F68-BE07-166405619A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9E7E-872A-485D-BF23-47B6F89620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4BC-BB43-4609-B1C1-12546E17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0EF-E55E-46B5-8B21-95B5BB4D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FC3-149A-43C9-9241-6899593F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5C3-852B-46D0-8888-599BBDE3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3465-4471-4DF0-A1B0-C064FAB5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3F2B-767F-4AB8-B07D-BB6463B6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6CB9-C520-4DB9-A86A-791187F5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88D5-CD70-491F-B8F6-1E9F13AD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3BDD-1C32-41C4-9D09-1CB39AE9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1155-DEDC-4A16-9A6B-17DF8758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9A5F-7914-49C1-AF1C-FDA9272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E46-4481-4A7D-B6B6-846D0EF5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375F-1C7B-4EF0-90FE-374E3DB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1A51-3D7A-4673-835B-0D80AEC7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A09D-EB74-4A28-B077-98B16B80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8C59-9FAA-45DD-AEE5-BDA7FB22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5231-5D03-4E15-9207-A498B6FA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1AC2-2615-4D66-BF7A-E53C4AC1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FFCD-8293-45C6-A1C8-C80C5D68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99252-2525-4601-A994-1B3A0771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AE52-6810-418A-8935-4114F463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314F-CFA5-4564-91D6-4EC6280C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BEB-877C-440C-9878-55F06F8F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4534-4514-4CD7-8B27-6916C6B7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A99A-A193-4611-85B3-678BC3C7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1EAF-43F0-4E6A-98A0-7BD9976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29816-27E1-47E3-A79F-F4C0BDEF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38F63-699E-4DF8-8407-6E6E1E78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EFDB-3AE7-43F6-9A72-8840214B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9D77-187A-4EBA-A816-5A288D0F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F80-64F9-49D5-89E5-0964204D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96B-771E-4133-9F37-2A6E41AF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45A-90FE-43DD-8DC1-3AA4B3E1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6C6-8A3D-40EB-B6C2-5AB9D8EF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668-3966-4D37-A190-405A395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DE1-BE41-475F-8619-18DAA73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C380-96F2-4C96-B5EA-98D8AFB093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ED9-81D7-4BEC-B231-058CFF6EBD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0A3E-A916-464E-AB25-3F929066D20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547640" y="3360600"/>
            <a:ext cx="6120000" cy="10994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Adónde v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547640" y="3360600"/>
            <a:ext cx="6120000" cy="10994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Adónde 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s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835280" y="3500280"/>
            <a:ext cx="5540400" cy="294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Voy al supermercado en autobús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3" descr="bus"/>
          <p:cNvPicPr/>
          <p:nvPr/>
        </p:nvPicPr>
        <p:blipFill>
          <a:blip r:embed="rId1"/>
          <a:srcRect l="0" t="18386" r="0" b="18386"/>
          <a:stretch/>
        </p:blipFill>
        <p:spPr>
          <a:xfrm>
            <a:off x="2987640" y="1197000"/>
            <a:ext cx="2952720" cy="18669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835280" y="3500280"/>
            <a:ext cx="5540400" cy="294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oy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l supermercado en autobús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3" descr="bus"/>
          <p:cNvPicPr/>
          <p:nvPr/>
        </p:nvPicPr>
        <p:blipFill>
          <a:blip r:embed="rId1"/>
          <a:srcRect l="0" t="18386" r="0" b="18386"/>
          <a:stretch/>
        </p:blipFill>
        <p:spPr>
          <a:xfrm>
            <a:off x="2987640" y="1197000"/>
            <a:ext cx="2952720" cy="18669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835280" y="3500280"/>
            <a:ext cx="5540400" cy="22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Vas a la piscina a pie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2" descr="walk"/>
          <p:cNvPicPr/>
          <p:nvPr/>
        </p:nvPicPr>
        <p:blipFill>
          <a:blip r:embed="rId1"/>
          <a:srcRect l="0" t="8501" r="0" b="8501"/>
          <a:stretch/>
        </p:blipFill>
        <p:spPr>
          <a:xfrm>
            <a:off x="3173400" y="765000"/>
            <a:ext cx="28638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1835280" y="3500280"/>
            <a:ext cx="5540400" cy="22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s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 la piscina a pie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2" descr="walk"/>
          <p:cNvPicPr/>
          <p:nvPr/>
        </p:nvPicPr>
        <p:blipFill>
          <a:blip r:embed="rId1"/>
          <a:srcRect l="0" t="8501" r="0" b="8501"/>
          <a:stretch/>
        </p:blipFill>
        <p:spPr>
          <a:xfrm>
            <a:off x="3173400" y="765000"/>
            <a:ext cx="28638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547640" y="3500280"/>
            <a:ext cx="6193080" cy="309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¡Mi amigo Alberto va al estadio en barco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2" descr="boat"/>
          <p:cNvPicPr/>
          <p:nvPr/>
        </p:nvPicPr>
        <p:blipFill>
          <a:blip r:embed="rId1"/>
          <a:stretch/>
        </p:blipFill>
        <p:spPr>
          <a:xfrm>
            <a:off x="3289320" y="620640"/>
            <a:ext cx="25588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547640" y="3500280"/>
            <a:ext cx="6193080" cy="309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¡Mi amigo Alberto 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l estadio en barco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2" descr="boat"/>
          <p:cNvPicPr/>
          <p:nvPr/>
        </p:nvPicPr>
        <p:blipFill>
          <a:blip r:embed="rId1"/>
          <a:stretch/>
        </p:blipFill>
        <p:spPr>
          <a:xfrm>
            <a:off x="3289320" y="620640"/>
            <a:ext cx="25588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835280" y="3500280"/>
            <a:ext cx="5540400" cy="208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Isabel va a la tienda en moto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2" descr="motorcycle"/>
          <p:cNvPicPr/>
          <p:nvPr/>
        </p:nvPicPr>
        <p:blipFill>
          <a:blip r:embed="rId1"/>
          <a:srcRect l="0" t="17676" r="0" b="18754"/>
          <a:stretch/>
        </p:blipFill>
        <p:spPr>
          <a:xfrm>
            <a:off x="2986200" y="1174680"/>
            <a:ext cx="3240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835280" y="3500280"/>
            <a:ext cx="5540400" cy="208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Isabel 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 la tienda en moto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2" descr="motorcycle"/>
          <p:cNvPicPr/>
          <p:nvPr/>
        </p:nvPicPr>
        <p:blipFill>
          <a:blip r:embed="rId1"/>
          <a:srcRect l="0" t="17676" r="0" b="18754"/>
          <a:stretch/>
        </p:blipFill>
        <p:spPr>
          <a:xfrm>
            <a:off x="2986200" y="1174680"/>
            <a:ext cx="3240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Mi madre y yo vamos a la playa en tren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2" descr="train"/>
          <p:cNvPicPr/>
          <p:nvPr/>
        </p:nvPicPr>
        <p:blipFill>
          <a:blip r:embed="rId1"/>
          <a:srcRect l="0" t="7760" r="0" b="8838"/>
          <a:stretch/>
        </p:blipFill>
        <p:spPr>
          <a:xfrm>
            <a:off x="3059280" y="873000"/>
            <a:ext cx="2808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835280" y="3500280"/>
            <a:ext cx="5540400" cy="294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Voy al supermercado en autobús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3" descr="bus"/>
          <p:cNvPicPr/>
          <p:nvPr/>
        </p:nvPicPr>
        <p:blipFill>
          <a:blip r:embed="rId1"/>
          <a:srcRect l="0" t="18386" r="0" b="18386"/>
          <a:stretch/>
        </p:blipFill>
        <p:spPr>
          <a:xfrm>
            <a:off x="2987640" y="1197000"/>
            <a:ext cx="2952720" cy="1866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Mi madre y yo 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mos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 la playa en tren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" descr="train"/>
          <p:cNvPicPr/>
          <p:nvPr/>
        </p:nvPicPr>
        <p:blipFill>
          <a:blip r:embed="rId1"/>
          <a:srcRect l="0" t="7760" r="0" b="8838"/>
          <a:stretch/>
        </p:blipFill>
        <p:spPr>
          <a:xfrm>
            <a:off x="3059280" y="873000"/>
            <a:ext cx="2808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Vais al museo en bici, Iker y Ana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2" descr="bike"/>
          <p:cNvPicPr/>
          <p:nvPr/>
        </p:nvPicPr>
        <p:blipFill>
          <a:blip r:embed="rId1"/>
          <a:srcRect l="0" t="16812" r="0" b="17676"/>
          <a:stretch/>
        </p:blipFill>
        <p:spPr>
          <a:xfrm>
            <a:off x="3255840" y="1460520"/>
            <a:ext cx="2698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is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l museo en bici, Iker y Ana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2" descr="bike"/>
          <p:cNvPicPr/>
          <p:nvPr/>
        </p:nvPicPr>
        <p:blipFill>
          <a:blip r:embed="rId1"/>
          <a:srcRect l="0" t="16812" r="0" b="17676"/>
          <a:stretch/>
        </p:blipFill>
        <p:spPr>
          <a:xfrm>
            <a:off x="3255840" y="1460520"/>
            <a:ext cx="2698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835280" y="3500280"/>
            <a:ext cx="52578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Las chicas van a la cafetería en coche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2" descr="car"/>
          <p:cNvPicPr/>
          <p:nvPr/>
        </p:nvPicPr>
        <p:blipFill>
          <a:blip r:embed="rId1"/>
          <a:srcRect l="0" t="20046" r="0" b="21338"/>
          <a:stretch/>
        </p:blipFill>
        <p:spPr>
          <a:xfrm>
            <a:off x="2916360" y="1340640"/>
            <a:ext cx="30016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835280" y="3500280"/>
            <a:ext cx="52578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Las chicas </a:t>
            </a:r>
            <a:r>
              <a:rPr b="0" lang="en-GB" sz="6600" spc="-1" strike="noStrike">
                <a:solidFill>
                  <a:srgbClr val="00cc00"/>
                </a:solidFill>
                <a:latin typeface="SassoonCRInfant"/>
              </a:rPr>
              <a:t>van</a:t>
            </a: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 a la cafetería en coche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2" descr="car"/>
          <p:cNvPicPr/>
          <p:nvPr/>
        </p:nvPicPr>
        <p:blipFill>
          <a:blip r:embed="rId1"/>
          <a:srcRect l="0" t="20046" r="0" b="21338"/>
          <a:stretch/>
        </p:blipFill>
        <p:spPr>
          <a:xfrm>
            <a:off x="2916360" y="1340640"/>
            <a:ext cx="30016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835280" y="3500280"/>
            <a:ext cx="5540400" cy="22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Vas a la piscina a pie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2" descr="walk"/>
          <p:cNvPicPr/>
          <p:nvPr/>
        </p:nvPicPr>
        <p:blipFill>
          <a:blip r:embed="rId1"/>
          <a:srcRect l="0" t="8501" r="0" b="8501"/>
          <a:stretch/>
        </p:blipFill>
        <p:spPr>
          <a:xfrm>
            <a:off x="3173400" y="765000"/>
            <a:ext cx="28638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547640" y="3500280"/>
            <a:ext cx="6193080" cy="309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¡Mi amigo Alberto va al estadio en barco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2" descr="boat"/>
          <p:cNvPicPr/>
          <p:nvPr/>
        </p:nvPicPr>
        <p:blipFill>
          <a:blip r:embed="rId1"/>
          <a:stretch/>
        </p:blipFill>
        <p:spPr>
          <a:xfrm>
            <a:off x="3289320" y="620640"/>
            <a:ext cx="25588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835280" y="3500280"/>
            <a:ext cx="5540400" cy="208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Isabel va a la tienda en moto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2" descr="motorcycle"/>
          <p:cNvPicPr/>
          <p:nvPr/>
        </p:nvPicPr>
        <p:blipFill>
          <a:blip r:embed="rId1"/>
          <a:srcRect l="0" t="17676" r="0" b="18754"/>
          <a:stretch/>
        </p:blipFill>
        <p:spPr>
          <a:xfrm>
            <a:off x="2986200" y="1174680"/>
            <a:ext cx="3240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Mi madre y yo vamos a la playa en tren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" descr="train"/>
          <p:cNvPicPr/>
          <p:nvPr/>
        </p:nvPicPr>
        <p:blipFill>
          <a:blip r:embed="rId1"/>
          <a:srcRect l="0" t="7760" r="0" b="8838"/>
          <a:stretch/>
        </p:blipFill>
        <p:spPr>
          <a:xfrm>
            <a:off x="3059280" y="873000"/>
            <a:ext cx="2808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835280" y="3500280"/>
            <a:ext cx="55404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Vais al museo en bici, Iker y Ana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2" descr="bike"/>
          <p:cNvPicPr/>
          <p:nvPr/>
        </p:nvPicPr>
        <p:blipFill>
          <a:blip r:embed="rId1"/>
          <a:srcRect l="0" t="16812" r="0" b="17676"/>
          <a:stretch/>
        </p:blipFill>
        <p:spPr>
          <a:xfrm>
            <a:off x="3255840" y="1460520"/>
            <a:ext cx="2698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835280" y="3500280"/>
            <a:ext cx="5257800" cy="322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Las chicas van a la cafetería en coche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car"/>
          <p:cNvPicPr/>
          <p:nvPr/>
        </p:nvPicPr>
        <p:blipFill>
          <a:blip r:embed="rId1"/>
          <a:srcRect l="0" t="20046" r="0" b="21338"/>
          <a:stretch/>
        </p:blipFill>
        <p:spPr>
          <a:xfrm>
            <a:off x="2916360" y="1340640"/>
            <a:ext cx="30016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1547640" y="3360600"/>
            <a:ext cx="6120000" cy="10994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CRInfant"/>
              </a:rPr>
              <a:t>¿Adónde v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08000" y="122400"/>
            <a:ext cx="1295280" cy="265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49:04Z</dcterms:modified>
  <cp:revision>315</cp:revision>
  <dc:subject/>
  <dc:title>TITLE</dc:title>
</cp:coreProperties>
</file>