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ABD0-20F1-4441-B3F1-03CF80F117B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B40F-1335-4039-83EC-0327D5BA82D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5D07-82FF-4ACC-A21D-141812B7E27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E615-6212-44FA-A5CA-D31FA8D6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C11A-7CD2-4C5A-ADDA-0AF497F3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E609-A864-4AA7-AA78-49981144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567A-38A4-4490-95EE-F417D821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329F-8674-43DC-9A78-D5DDA7E4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3576-7573-4E1B-B99F-622238F4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075E-DF88-478B-B659-762B6584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598E-1B76-4CA9-9724-ACC53DD9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E0DB-4F7A-4DFB-A186-D8EC36D9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B287-B6B0-4FE6-A95B-7DDA98A1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DD4E-8F3E-49A9-A56B-8600A63E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967F-AD36-4455-A28D-86A58F9B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3FCA-B75E-47D2-90C8-4AB1307D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0B83-AB07-45CF-926A-6D6DC732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CF42-8BD4-418B-8664-9063CCE9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A390-27C9-45D0-A354-A7E9C198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F462-D330-439F-9665-27856193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AE630-931C-4102-9937-107D12F6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B861E-CCDE-4C52-81BB-85164942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311A0-E34B-4684-BF55-725BD064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0F510-0347-4626-AC0C-E11290AB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8B136-C350-4154-B1DB-51D3BC28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B548-6F37-44F3-9757-954AD0F5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20559-967E-469C-8ED0-27754ABB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56866-B2EF-4E1C-9240-B8941F64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B2DC9-30AA-44BB-8EA1-C5982FB1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8BE01-FAB3-4D9F-8BD8-6178B79C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11676-9AAD-4CE9-9A08-55031B2A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E438C-AD25-48DB-A948-23D80FC5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B8AD8-BB60-47B3-9DFD-01783545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2445-49DD-49E5-9DBB-BD8199A5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05A1-2110-4D63-919E-BBF78B06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5DAE-F869-4B0D-82CB-562DF8CE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DBCC-B0F5-4E99-AAEB-C28EA49A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EA51-69D3-448E-98A6-48F5DCF4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81B8-CC3A-4099-9DBA-2DECCAE4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566C-F51E-4461-BF0A-39D214657F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1FCE-3B03-4EF2-ADBA-87DB5DDD6C8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0253-A2D2-4BEA-9440-0171AC12F68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217440" y="1573200"/>
            <a:ext cx="75056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5079960" cy="33843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"/>
          <p:cNvSpPr/>
          <p:nvPr/>
        </p:nvSpPr>
        <p:spPr>
          <a:xfrm>
            <a:off x="217440" y="3645000"/>
            <a:ext cx="874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oy al mercado en bici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217440" y="4459320"/>
            <a:ext cx="874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amos a la cafetería en autobú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217440" y="5273640"/>
            <a:ext cx="874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Los chicos van al colegio a pie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217440" y="6087960"/>
            <a:ext cx="874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Elena va a la biblioteca en moto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Freeform 2"/>
          <p:cNvSpPr/>
          <p:nvPr/>
        </p:nvSpPr>
        <p:spPr>
          <a:xfrm>
            <a:off x="1554120" y="878040"/>
            <a:ext cx="2679840" cy="612720"/>
          </a:xfrm>
          <a:custGeom>
            <a:avLst/>
            <a:gdLst/>
            <a:ahLst/>
            <a:rect l="l" t="t" r="r" b="b"/>
            <a:pathLst>
              <a:path w="2679192" h="612648">
                <a:moveTo>
                  <a:pt x="0" y="146304"/>
                </a:moveTo>
                <a:cubicBezTo>
                  <a:pt x="28028" y="157515"/>
                  <a:pt x="50740" y="162958"/>
                  <a:pt x="73152" y="182880"/>
                </a:cubicBezTo>
                <a:cubicBezTo>
                  <a:pt x="92482" y="200063"/>
                  <a:pt x="106497" y="223398"/>
                  <a:pt x="128016" y="237744"/>
                </a:cubicBezTo>
                <a:cubicBezTo>
                  <a:pt x="196124" y="283150"/>
                  <a:pt x="112474" y="224792"/>
                  <a:pt x="182880" y="283464"/>
                </a:cubicBezTo>
                <a:cubicBezTo>
                  <a:pt x="222188" y="316221"/>
                  <a:pt x="196504" y="290276"/>
                  <a:pt x="237744" y="310896"/>
                </a:cubicBezTo>
                <a:cubicBezTo>
                  <a:pt x="247574" y="315811"/>
                  <a:pt x="255346" y="324269"/>
                  <a:pt x="265176" y="329184"/>
                </a:cubicBezTo>
                <a:cubicBezTo>
                  <a:pt x="273797" y="333495"/>
                  <a:pt x="283987" y="334017"/>
                  <a:pt x="292608" y="338328"/>
                </a:cubicBezTo>
                <a:cubicBezTo>
                  <a:pt x="302438" y="343243"/>
                  <a:pt x="311097" y="350228"/>
                  <a:pt x="320040" y="356616"/>
                </a:cubicBezTo>
                <a:cubicBezTo>
                  <a:pt x="332441" y="365474"/>
                  <a:pt x="342690" y="377858"/>
                  <a:pt x="356616" y="384048"/>
                </a:cubicBezTo>
                <a:cubicBezTo>
                  <a:pt x="370818" y="390360"/>
                  <a:pt x="387096" y="390144"/>
                  <a:pt x="402336" y="393192"/>
                </a:cubicBezTo>
                <a:cubicBezTo>
                  <a:pt x="445808" y="422173"/>
                  <a:pt x="419342" y="408005"/>
                  <a:pt x="484632" y="429768"/>
                </a:cubicBezTo>
                <a:cubicBezTo>
                  <a:pt x="493776" y="432816"/>
                  <a:pt x="504044" y="433565"/>
                  <a:pt x="512064" y="438912"/>
                </a:cubicBezTo>
                <a:cubicBezTo>
                  <a:pt x="559803" y="470738"/>
                  <a:pt x="518290" y="448091"/>
                  <a:pt x="585216" y="466344"/>
                </a:cubicBezTo>
                <a:cubicBezTo>
                  <a:pt x="603814" y="471416"/>
                  <a:pt x="621378" y="479957"/>
                  <a:pt x="640080" y="484632"/>
                </a:cubicBezTo>
                <a:cubicBezTo>
                  <a:pt x="652272" y="487680"/>
                  <a:pt x="664619" y="490165"/>
                  <a:pt x="676656" y="493776"/>
                </a:cubicBezTo>
                <a:cubicBezTo>
                  <a:pt x="695120" y="499315"/>
                  <a:pt x="712818" y="507389"/>
                  <a:pt x="731520" y="512064"/>
                </a:cubicBezTo>
                <a:cubicBezTo>
                  <a:pt x="743712" y="515112"/>
                  <a:pt x="756059" y="517597"/>
                  <a:pt x="768096" y="521208"/>
                </a:cubicBezTo>
                <a:cubicBezTo>
                  <a:pt x="786560" y="526747"/>
                  <a:pt x="804672" y="533400"/>
                  <a:pt x="822960" y="539496"/>
                </a:cubicBezTo>
                <a:lnTo>
                  <a:pt x="905256" y="566928"/>
                </a:lnTo>
                <a:lnTo>
                  <a:pt x="932688" y="576072"/>
                </a:lnTo>
                <a:cubicBezTo>
                  <a:pt x="941832" y="579120"/>
                  <a:pt x="950769" y="582878"/>
                  <a:pt x="960120" y="585216"/>
                </a:cubicBezTo>
                <a:cubicBezTo>
                  <a:pt x="1074463" y="613802"/>
                  <a:pt x="932301" y="577268"/>
                  <a:pt x="1024128" y="603504"/>
                </a:cubicBezTo>
                <a:cubicBezTo>
                  <a:pt x="1036212" y="606956"/>
                  <a:pt x="1048512" y="609600"/>
                  <a:pt x="1060704" y="612648"/>
                </a:cubicBezTo>
                <a:lnTo>
                  <a:pt x="1554480" y="603504"/>
                </a:lnTo>
                <a:cubicBezTo>
                  <a:pt x="1564113" y="603166"/>
                  <a:pt x="1572561" y="596698"/>
                  <a:pt x="1581912" y="594360"/>
                </a:cubicBezTo>
                <a:cubicBezTo>
                  <a:pt x="1596990" y="590591"/>
                  <a:pt x="1612392" y="588264"/>
                  <a:pt x="1627632" y="585216"/>
                </a:cubicBezTo>
                <a:cubicBezTo>
                  <a:pt x="1706248" y="532805"/>
                  <a:pt x="1606780" y="595642"/>
                  <a:pt x="1682496" y="557784"/>
                </a:cubicBezTo>
                <a:cubicBezTo>
                  <a:pt x="1692326" y="552869"/>
                  <a:pt x="1699827" y="543825"/>
                  <a:pt x="1709928" y="539496"/>
                </a:cubicBezTo>
                <a:cubicBezTo>
                  <a:pt x="1721479" y="534546"/>
                  <a:pt x="1734737" y="534765"/>
                  <a:pt x="1746504" y="530352"/>
                </a:cubicBezTo>
                <a:cubicBezTo>
                  <a:pt x="1810628" y="506306"/>
                  <a:pt x="1757453" y="520305"/>
                  <a:pt x="1810512" y="493776"/>
                </a:cubicBezTo>
                <a:cubicBezTo>
                  <a:pt x="1819133" y="489465"/>
                  <a:pt x="1829085" y="488429"/>
                  <a:pt x="1837944" y="484632"/>
                </a:cubicBezTo>
                <a:cubicBezTo>
                  <a:pt x="1886712" y="463731"/>
                  <a:pt x="1859063" y="469454"/>
                  <a:pt x="1901952" y="457200"/>
                </a:cubicBezTo>
                <a:cubicBezTo>
                  <a:pt x="1924315" y="450811"/>
                  <a:pt x="1977094" y="440633"/>
                  <a:pt x="1993392" y="429768"/>
                </a:cubicBezTo>
                <a:cubicBezTo>
                  <a:pt x="2002536" y="423672"/>
                  <a:pt x="2010723" y="415809"/>
                  <a:pt x="2020824" y="411480"/>
                </a:cubicBezTo>
                <a:cubicBezTo>
                  <a:pt x="2056605" y="396145"/>
                  <a:pt x="2075384" y="408634"/>
                  <a:pt x="2112264" y="384048"/>
                </a:cubicBezTo>
                <a:cubicBezTo>
                  <a:pt x="2190880" y="331637"/>
                  <a:pt x="2091412" y="394474"/>
                  <a:pt x="2167128" y="356616"/>
                </a:cubicBezTo>
                <a:cubicBezTo>
                  <a:pt x="2176958" y="351701"/>
                  <a:pt x="2184730" y="343243"/>
                  <a:pt x="2194560" y="338328"/>
                </a:cubicBezTo>
                <a:cubicBezTo>
                  <a:pt x="2203181" y="334017"/>
                  <a:pt x="2213566" y="333865"/>
                  <a:pt x="2221992" y="329184"/>
                </a:cubicBezTo>
                <a:cubicBezTo>
                  <a:pt x="2241205" y="318510"/>
                  <a:pt x="2255533" y="297939"/>
                  <a:pt x="2276856" y="292608"/>
                </a:cubicBezTo>
                <a:cubicBezTo>
                  <a:pt x="2289048" y="289560"/>
                  <a:pt x="2301665" y="287877"/>
                  <a:pt x="2313432" y="283464"/>
                </a:cubicBezTo>
                <a:cubicBezTo>
                  <a:pt x="2377556" y="259418"/>
                  <a:pt x="2324381" y="273417"/>
                  <a:pt x="2377440" y="246888"/>
                </a:cubicBezTo>
                <a:cubicBezTo>
                  <a:pt x="2386061" y="242577"/>
                  <a:pt x="2396013" y="241541"/>
                  <a:pt x="2404872" y="237744"/>
                </a:cubicBezTo>
                <a:cubicBezTo>
                  <a:pt x="2517089" y="189651"/>
                  <a:pt x="2377048" y="247084"/>
                  <a:pt x="2468880" y="201168"/>
                </a:cubicBezTo>
                <a:cubicBezTo>
                  <a:pt x="2477501" y="196857"/>
                  <a:pt x="2487886" y="196705"/>
                  <a:pt x="2496312" y="192024"/>
                </a:cubicBezTo>
                <a:cubicBezTo>
                  <a:pt x="2515525" y="181350"/>
                  <a:pt x="2532888" y="167640"/>
                  <a:pt x="2551176" y="155448"/>
                </a:cubicBezTo>
                <a:lnTo>
                  <a:pt x="2578608" y="137160"/>
                </a:lnTo>
                <a:cubicBezTo>
                  <a:pt x="2584704" y="128016"/>
                  <a:pt x="2589125" y="117499"/>
                  <a:pt x="2596896" y="109728"/>
                </a:cubicBezTo>
                <a:cubicBezTo>
                  <a:pt x="2604667" y="101957"/>
                  <a:pt x="2615885" y="98475"/>
                  <a:pt x="2624328" y="91440"/>
                </a:cubicBezTo>
                <a:cubicBezTo>
                  <a:pt x="2634262" y="83161"/>
                  <a:pt x="2642616" y="73152"/>
                  <a:pt x="2651760" y="64008"/>
                </a:cubicBezTo>
                <a:cubicBezTo>
                  <a:pt x="2671411" y="5055"/>
                  <a:pt x="2656417" y="22775"/>
                  <a:pt x="2679192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Freeform 3"/>
          <p:cNvSpPr/>
          <p:nvPr/>
        </p:nvSpPr>
        <p:spPr>
          <a:xfrm>
            <a:off x="2130480" y="1325520"/>
            <a:ext cx="2441520" cy="795240"/>
          </a:xfrm>
          <a:custGeom>
            <a:avLst/>
            <a:gdLst/>
            <a:ahLst/>
            <a:rect l="l" t="t" r="r" b="b"/>
            <a:pathLst>
              <a:path w="2441448" h="795528">
                <a:moveTo>
                  <a:pt x="0" y="704088"/>
                </a:moveTo>
                <a:cubicBezTo>
                  <a:pt x="18288" y="707136"/>
                  <a:pt x="36877" y="708735"/>
                  <a:pt x="54864" y="713232"/>
                </a:cubicBezTo>
                <a:cubicBezTo>
                  <a:pt x="73566" y="717907"/>
                  <a:pt x="91440" y="725424"/>
                  <a:pt x="109728" y="731520"/>
                </a:cubicBezTo>
                <a:cubicBezTo>
                  <a:pt x="118872" y="734568"/>
                  <a:pt x="127709" y="738774"/>
                  <a:pt x="137160" y="740664"/>
                </a:cubicBezTo>
                <a:cubicBezTo>
                  <a:pt x="152400" y="743712"/>
                  <a:pt x="167736" y="746313"/>
                  <a:pt x="182880" y="749808"/>
                </a:cubicBezTo>
                <a:cubicBezTo>
                  <a:pt x="207371" y="755460"/>
                  <a:pt x="231150" y="764541"/>
                  <a:pt x="256032" y="768096"/>
                </a:cubicBezTo>
                <a:lnTo>
                  <a:pt x="320040" y="777240"/>
                </a:lnTo>
                <a:cubicBezTo>
                  <a:pt x="388636" y="785815"/>
                  <a:pt x="432372" y="789115"/>
                  <a:pt x="502920" y="795528"/>
                </a:cubicBezTo>
                <a:lnTo>
                  <a:pt x="886968" y="786384"/>
                </a:lnTo>
                <a:cubicBezTo>
                  <a:pt x="902858" y="785708"/>
                  <a:pt x="942305" y="775731"/>
                  <a:pt x="960120" y="768096"/>
                </a:cubicBezTo>
                <a:cubicBezTo>
                  <a:pt x="972649" y="762726"/>
                  <a:pt x="983933" y="754594"/>
                  <a:pt x="996696" y="749808"/>
                </a:cubicBezTo>
                <a:cubicBezTo>
                  <a:pt x="1013596" y="743471"/>
                  <a:pt x="1063929" y="734996"/>
                  <a:pt x="1078992" y="731520"/>
                </a:cubicBezTo>
                <a:cubicBezTo>
                  <a:pt x="1103483" y="725868"/>
                  <a:pt x="1127498" y="718161"/>
                  <a:pt x="1152144" y="713232"/>
                </a:cubicBezTo>
                <a:cubicBezTo>
                  <a:pt x="1167384" y="710184"/>
                  <a:pt x="1182870" y="708177"/>
                  <a:pt x="1197864" y="704088"/>
                </a:cubicBezTo>
                <a:cubicBezTo>
                  <a:pt x="1216462" y="699016"/>
                  <a:pt x="1234440" y="691896"/>
                  <a:pt x="1252728" y="685800"/>
                </a:cubicBezTo>
                <a:cubicBezTo>
                  <a:pt x="1261872" y="682752"/>
                  <a:pt x="1272140" y="682003"/>
                  <a:pt x="1280160" y="676656"/>
                </a:cubicBezTo>
                <a:cubicBezTo>
                  <a:pt x="1453147" y="561331"/>
                  <a:pt x="1265889" y="679220"/>
                  <a:pt x="1362456" y="630936"/>
                </a:cubicBezTo>
                <a:cubicBezTo>
                  <a:pt x="1425604" y="599362"/>
                  <a:pt x="1350342" y="622535"/>
                  <a:pt x="1426464" y="603504"/>
                </a:cubicBezTo>
                <a:cubicBezTo>
                  <a:pt x="1435608" y="597408"/>
                  <a:pt x="1443853" y="589679"/>
                  <a:pt x="1453896" y="585216"/>
                </a:cubicBezTo>
                <a:lnTo>
                  <a:pt x="1536192" y="557784"/>
                </a:lnTo>
                <a:lnTo>
                  <a:pt x="1563624" y="548640"/>
                </a:lnTo>
                <a:cubicBezTo>
                  <a:pt x="1572768" y="545592"/>
                  <a:pt x="1583036" y="544843"/>
                  <a:pt x="1591056" y="539496"/>
                </a:cubicBezTo>
                <a:cubicBezTo>
                  <a:pt x="1600200" y="533400"/>
                  <a:pt x="1608658" y="526123"/>
                  <a:pt x="1618488" y="521208"/>
                </a:cubicBezTo>
                <a:cubicBezTo>
                  <a:pt x="1627109" y="516897"/>
                  <a:pt x="1637494" y="516745"/>
                  <a:pt x="1645920" y="512064"/>
                </a:cubicBezTo>
                <a:cubicBezTo>
                  <a:pt x="1665133" y="501390"/>
                  <a:pt x="1681125" y="485318"/>
                  <a:pt x="1700784" y="475488"/>
                </a:cubicBezTo>
                <a:cubicBezTo>
                  <a:pt x="1745981" y="452889"/>
                  <a:pt x="1724428" y="461511"/>
                  <a:pt x="1764792" y="448056"/>
                </a:cubicBezTo>
                <a:cubicBezTo>
                  <a:pt x="1788461" y="424387"/>
                  <a:pt x="1814276" y="394985"/>
                  <a:pt x="1847088" y="384048"/>
                </a:cubicBezTo>
                <a:lnTo>
                  <a:pt x="1874520" y="374904"/>
                </a:lnTo>
                <a:cubicBezTo>
                  <a:pt x="1926522" y="322902"/>
                  <a:pt x="1876451" y="364795"/>
                  <a:pt x="1929384" y="338328"/>
                </a:cubicBezTo>
                <a:cubicBezTo>
                  <a:pt x="1939214" y="333413"/>
                  <a:pt x="1946773" y="324503"/>
                  <a:pt x="1956816" y="320040"/>
                </a:cubicBezTo>
                <a:cubicBezTo>
                  <a:pt x="1974432" y="312211"/>
                  <a:pt x="2011680" y="301752"/>
                  <a:pt x="2011680" y="301752"/>
                </a:cubicBezTo>
                <a:cubicBezTo>
                  <a:pt x="2020824" y="292608"/>
                  <a:pt x="2028352" y="281493"/>
                  <a:pt x="2039112" y="274320"/>
                </a:cubicBezTo>
                <a:cubicBezTo>
                  <a:pt x="2047132" y="268973"/>
                  <a:pt x="2057923" y="269487"/>
                  <a:pt x="2066544" y="265176"/>
                </a:cubicBezTo>
                <a:cubicBezTo>
                  <a:pt x="2076374" y="260261"/>
                  <a:pt x="2084146" y="251803"/>
                  <a:pt x="2093976" y="246888"/>
                </a:cubicBezTo>
                <a:cubicBezTo>
                  <a:pt x="2102597" y="242577"/>
                  <a:pt x="2112982" y="242425"/>
                  <a:pt x="2121408" y="237744"/>
                </a:cubicBezTo>
                <a:cubicBezTo>
                  <a:pt x="2140621" y="227070"/>
                  <a:pt x="2157984" y="213360"/>
                  <a:pt x="2176272" y="201168"/>
                </a:cubicBezTo>
                <a:lnTo>
                  <a:pt x="2203704" y="182880"/>
                </a:lnTo>
                <a:cubicBezTo>
                  <a:pt x="2212848" y="176784"/>
                  <a:pt x="2222344" y="171186"/>
                  <a:pt x="2231136" y="164592"/>
                </a:cubicBezTo>
                <a:cubicBezTo>
                  <a:pt x="2243328" y="155448"/>
                  <a:pt x="2255227" y="145900"/>
                  <a:pt x="2267712" y="137160"/>
                </a:cubicBezTo>
                <a:lnTo>
                  <a:pt x="2350008" y="82296"/>
                </a:lnTo>
                <a:lnTo>
                  <a:pt x="2377440" y="64008"/>
                </a:lnTo>
                <a:cubicBezTo>
                  <a:pt x="2383536" y="54864"/>
                  <a:pt x="2387957" y="44347"/>
                  <a:pt x="2395728" y="36576"/>
                </a:cubicBezTo>
                <a:cubicBezTo>
                  <a:pt x="2406504" y="25800"/>
                  <a:pt x="2420404" y="18664"/>
                  <a:pt x="2432304" y="9144"/>
                </a:cubicBezTo>
                <a:cubicBezTo>
                  <a:pt x="2435670" y="6451"/>
                  <a:pt x="2438400" y="3048"/>
                  <a:pt x="2441448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Freeform 4"/>
          <p:cNvSpPr/>
          <p:nvPr/>
        </p:nvSpPr>
        <p:spPr>
          <a:xfrm>
            <a:off x="2716200" y="2011320"/>
            <a:ext cx="3127320" cy="768240"/>
          </a:xfrm>
          <a:custGeom>
            <a:avLst/>
            <a:gdLst/>
            <a:ahLst/>
            <a:rect l="l" t="t" r="r" b="b"/>
            <a:pathLst>
              <a:path w="3127248" h="768096">
                <a:moveTo>
                  <a:pt x="0" y="768096"/>
                </a:moveTo>
                <a:cubicBezTo>
                  <a:pt x="105342" y="762244"/>
                  <a:pt x="147538" y="763686"/>
                  <a:pt x="237744" y="749808"/>
                </a:cubicBezTo>
                <a:cubicBezTo>
                  <a:pt x="253105" y="747445"/>
                  <a:pt x="268173" y="743444"/>
                  <a:pt x="283464" y="740664"/>
                </a:cubicBezTo>
                <a:cubicBezTo>
                  <a:pt x="301705" y="737347"/>
                  <a:pt x="320148" y="735156"/>
                  <a:pt x="338328" y="731520"/>
                </a:cubicBezTo>
                <a:cubicBezTo>
                  <a:pt x="350651" y="729055"/>
                  <a:pt x="362636" y="725102"/>
                  <a:pt x="374904" y="722376"/>
                </a:cubicBezTo>
                <a:cubicBezTo>
                  <a:pt x="413244" y="713856"/>
                  <a:pt x="435785" y="710705"/>
                  <a:pt x="475488" y="704088"/>
                </a:cubicBezTo>
                <a:cubicBezTo>
                  <a:pt x="484632" y="697992"/>
                  <a:pt x="492877" y="690263"/>
                  <a:pt x="502920" y="685800"/>
                </a:cubicBezTo>
                <a:cubicBezTo>
                  <a:pt x="520536" y="677971"/>
                  <a:pt x="539496" y="673608"/>
                  <a:pt x="557784" y="667512"/>
                </a:cubicBezTo>
                <a:cubicBezTo>
                  <a:pt x="566928" y="664464"/>
                  <a:pt x="575865" y="660706"/>
                  <a:pt x="585216" y="658368"/>
                </a:cubicBezTo>
                <a:cubicBezTo>
                  <a:pt x="596935" y="655438"/>
                  <a:pt x="636106" y="646639"/>
                  <a:pt x="649224" y="640080"/>
                </a:cubicBezTo>
                <a:cubicBezTo>
                  <a:pt x="659054" y="635165"/>
                  <a:pt x="666826" y="626707"/>
                  <a:pt x="676656" y="621792"/>
                </a:cubicBezTo>
                <a:cubicBezTo>
                  <a:pt x="685277" y="617481"/>
                  <a:pt x="695662" y="617329"/>
                  <a:pt x="704088" y="612648"/>
                </a:cubicBezTo>
                <a:cubicBezTo>
                  <a:pt x="723301" y="601974"/>
                  <a:pt x="738100" y="583023"/>
                  <a:pt x="758952" y="576072"/>
                </a:cubicBezTo>
                <a:cubicBezTo>
                  <a:pt x="827903" y="553088"/>
                  <a:pt x="742912" y="584092"/>
                  <a:pt x="813816" y="548640"/>
                </a:cubicBezTo>
                <a:cubicBezTo>
                  <a:pt x="822437" y="544329"/>
                  <a:pt x="832389" y="543293"/>
                  <a:pt x="841248" y="539496"/>
                </a:cubicBezTo>
                <a:cubicBezTo>
                  <a:pt x="920343" y="505598"/>
                  <a:pt x="840923" y="533508"/>
                  <a:pt x="905256" y="512064"/>
                </a:cubicBezTo>
                <a:cubicBezTo>
                  <a:pt x="914400" y="502920"/>
                  <a:pt x="921460" y="491048"/>
                  <a:pt x="932688" y="484632"/>
                </a:cubicBezTo>
                <a:cubicBezTo>
                  <a:pt x="943599" y="478397"/>
                  <a:pt x="957180" y="478940"/>
                  <a:pt x="969264" y="475488"/>
                </a:cubicBezTo>
                <a:cubicBezTo>
                  <a:pt x="978532" y="472840"/>
                  <a:pt x="988075" y="470655"/>
                  <a:pt x="996696" y="466344"/>
                </a:cubicBezTo>
                <a:cubicBezTo>
                  <a:pt x="1006526" y="461429"/>
                  <a:pt x="1014586" y="453508"/>
                  <a:pt x="1024128" y="448056"/>
                </a:cubicBezTo>
                <a:cubicBezTo>
                  <a:pt x="1055766" y="429977"/>
                  <a:pt x="1057360" y="430883"/>
                  <a:pt x="1088136" y="420624"/>
                </a:cubicBezTo>
                <a:cubicBezTo>
                  <a:pt x="1097280" y="411480"/>
                  <a:pt x="1104264" y="399472"/>
                  <a:pt x="1115568" y="393192"/>
                </a:cubicBezTo>
                <a:cubicBezTo>
                  <a:pt x="1132419" y="383830"/>
                  <a:pt x="1152144" y="381000"/>
                  <a:pt x="1170432" y="374904"/>
                </a:cubicBezTo>
                <a:cubicBezTo>
                  <a:pt x="1179576" y="371856"/>
                  <a:pt x="1189844" y="371107"/>
                  <a:pt x="1197864" y="365760"/>
                </a:cubicBezTo>
                <a:cubicBezTo>
                  <a:pt x="1216152" y="353568"/>
                  <a:pt x="1231876" y="336135"/>
                  <a:pt x="1252728" y="329184"/>
                </a:cubicBezTo>
                <a:cubicBezTo>
                  <a:pt x="1261872" y="326136"/>
                  <a:pt x="1271539" y="324351"/>
                  <a:pt x="1280160" y="320040"/>
                </a:cubicBezTo>
                <a:cubicBezTo>
                  <a:pt x="1289990" y="315125"/>
                  <a:pt x="1297762" y="306667"/>
                  <a:pt x="1307592" y="301752"/>
                </a:cubicBezTo>
                <a:cubicBezTo>
                  <a:pt x="1316213" y="297441"/>
                  <a:pt x="1326403" y="296919"/>
                  <a:pt x="1335024" y="292608"/>
                </a:cubicBezTo>
                <a:cubicBezTo>
                  <a:pt x="1344854" y="287693"/>
                  <a:pt x="1352626" y="279235"/>
                  <a:pt x="1362456" y="274320"/>
                </a:cubicBezTo>
                <a:cubicBezTo>
                  <a:pt x="1371077" y="270009"/>
                  <a:pt x="1381267" y="269487"/>
                  <a:pt x="1389888" y="265176"/>
                </a:cubicBezTo>
                <a:cubicBezTo>
                  <a:pt x="1399718" y="260261"/>
                  <a:pt x="1407277" y="251351"/>
                  <a:pt x="1417320" y="246888"/>
                </a:cubicBezTo>
                <a:cubicBezTo>
                  <a:pt x="1434936" y="239059"/>
                  <a:pt x="1453896" y="234696"/>
                  <a:pt x="1472184" y="228600"/>
                </a:cubicBezTo>
                <a:cubicBezTo>
                  <a:pt x="1481328" y="225552"/>
                  <a:pt x="1491596" y="224803"/>
                  <a:pt x="1499616" y="219456"/>
                </a:cubicBezTo>
                <a:cubicBezTo>
                  <a:pt x="1508760" y="213360"/>
                  <a:pt x="1517218" y="206083"/>
                  <a:pt x="1527048" y="201168"/>
                </a:cubicBezTo>
                <a:cubicBezTo>
                  <a:pt x="1535669" y="196857"/>
                  <a:pt x="1546054" y="196705"/>
                  <a:pt x="1554480" y="192024"/>
                </a:cubicBezTo>
                <a:cubicBezTo>
                  <a:pt x="1573693" y="181350"/>
                  <a:pt x="1588492" y="162399"/>
                  <a:pt x="1609344" y="155448"/>
                </a:cubicBezTo>
                <a:cubicBezTo>
                  <a:pt x="1673677" y="134004"/>
                  <a:pt x="1594257" y="161914"/>
                  <a:pt x="1673352" y="128016"/>
                </a:cubicBezTo>
                <a:cubicBezTo>
                  <a:pt x="1726353" y="105301"/>
                  <a:pt x="1675498" y="135729"/>
                  <a:pt x="1728216" y="100584"/>
                </a:cubicBezTo>
                <a:cubicBezTo>
                  <a:pt x="1737360" y="103632"/>
                  <a:pt x="1746049" y="110601"/>
                  <a:pt x="1755648" y="109728"/>
                </a:cubicBezTo>
                <a:cubicBezTo>
                  <a:pt x="1780679" y="107452"/>
                  <a:pt x="1828800" y="91440"/>
                  <a:pt x="1828800" y="91440"/>
                </a:cubicBezTo>
                <a:cubicBezTo>
                  <a:pt x="1837944" y="85344"/>
                  <a:pt x="1845942" y="77011"/>
                  <a:pt x="1856232" y="73152"/>
                </a:cubicBezTo>
                <a:cubicBezTo>
                  <a:pt x="1870784" y="67695"/>
                  <a:pt x="1886874" y="67777"/>
                  <a:pt x="1901952" y="64008"/>
                </a:cubicBezTo>
                <a:cubicBezTo>
                  <a:pt x="1911303" y="61670"/>
                  <a:pt x="1920116" y="57512"/>
                  <a:pt x="1929384" y="54864"/>
                </a:cubicBezTo>
                <a:cubicBezTo>
                  <a:pt x="1941468" y="51412"/>
                  <a:pt x="1953876" y="49172"/>
                  <a:pt x="1965960" y="45720"/>
                </a:cubicBezTo>
                <a:cubicBezTo>
                  <a:pt x="1975228" y="43072"/>
                  <a:pt x="1983983" y="38667"/>
                  <a:pt x="1993392" y="36576"/>
                </a:cubicBezTo>
                <a:cubicBezTo>
                  <a:pt x="2011491" y="32554"/>
                  <a:pt x="2030269" y="31929"/>
                  <a:pt x="2048256" y="27432"/>
                </a:cubicBezTo>
                <a:cubicBezTo>
                  <a:pt x="2182142" y="-6039"/>
                  <a:pt x="2018548" y="21226"/>
                  <a:pt x="2167128" y="0"/>
                </a:cubicBezTo>
                <a:cubicBezTo>
                  <a:pt x="2267712" y="3048"/>
                  <a:pt x="2368546" y="1426"/>
                  <a:pt x="2468880" y="9144"/>
                </a:cubicBezTo>
                <a:cubicBezTo>
                  <a:pt x="2488100" y="10622"/>
                  <a:pt x="2505456" y="21336"/>
                  <a:pt x="2523744" y="27432"/>
                </a:cubicBezTo>
                <a:cubicBezTo>
                  <a:pt x="2532888" y="30480"/>
                  <a:pt x="2543156" y="31229"/>
                  <a:pt x="2551176" y="36576"/>
                </a:cubicBezTo>
                <a:cubicBezTo>
                  <a:pt x="2560320" y="42672"/>
                  <a:pt x="2568565" y="50401"/>
                  <a:pt x="2578608" y="54864"/>
                </a:cubicBezTo>
                <a:cubicBezTo>
                  <a:pt x="2596224" y="62693"/>
                  <a:pt x="2615184" y="67056"/>
                  <a:pt x="2633472" y="73152"/>
                </a:cubicBezTo>
                <a:cubicBezTo>
                  <a:pt x="2642616" y="76200"/>
                  <a:pt x="2652884" y="76949"/>
                  <a:pt x="2660904" y="82296"/>
                </a:cubicBezTo>
                <a:cubicBezTo>
                  <a:pt x="2670048" y="88392"/>
                  <a:pt x="2678293" y="96121"/>
                  <a:pt x="2688336" y="100584"/>
                </a:cubicBezTo>
                <a:cubicBezTo>
                  <a:pt x="2705952" y="108413"/>
                  <a:pt x="2727160" y="108179"/>
                  <a:pt x="2743200" y="118872"/>
                </a:cubicBezTo>
                <a:cubicBezTo>
                  <a:pt x="2752344" y="124968"/>
                  <a:pt x="2760589" y="132697"/>
                  <a:pt x="2770632" y="137160"/>
                </a:cubicBezTo>
                <a:cubicBezTo>
                  <a:pt x="2788248" y="144989"/>
                  <a:pt x="2809456" y="144755"/>
                  <a:pt x="2825496" y="155448"/>
                </a:cubicBezTo>
                <a:cubicBezTo>
                  <a:pt x="2904112" y="207859"/>
                  <a:pt x="2804644" y="145022"/>
                  <a:pt x="2880360" y="182880"/>
                </a:cubicBezTo>
                <a:cubicBezTo>
                  <a:pt x="2890190" y="187795"/>
                  <a:pt x="2897962" y="196253"/>
                  <a:pt x="2907792" y="201168"/>
                </a:cubicBezTo>
                <a:cubicBezTo>
                  <a:pt x="2916413" y="205479"/>
                  <a:pt x="2926798" y="205631"/>
                  <a:pt x="2935224" y="210312"/>
                </a:cubicBezTo>
                <a:cubicBezTo>
                  <a:pt x="2954437" y="220986"/>
                  <a:pt x="2969236" y="239937"/>
                  <a:pt x="2990088" y="246888"/>
                </a:cubicBezTo>
                <a:cubicBezTo>
                  <a:pt x="3027946" y="259507"/>
                  <a:pt x="3009500" y="250685"/>
                  <a:pt x="3044952" y="274320"/>
                </a:cubicBezTo>
                <a:cubicBezTo>
                  <a:pt x="3093720" y="347472"/>
                  <a:pt x="3029712" y="259080"/>
                  <a:pt x="3090672" y="320040"/>
                </a:cubicBezTo>
                <a:cubicBezTo>
                  <a:pt x="3123176" y="352544"/>
                  <a:pt x="3091960" y="347472"/>
                  <a:pt x="3127248" y="34747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Freeform 8"/>
          <p:cNvSpPr/>
          <p:nvPr/>
        </p:nvSpPr>
        <p:spPr>
          <a:xfrm>
            <a:off x="1947960" y="2624040"/>
            <a:ext cx="3601800" cy="824040"/>
          </a:xfrm>
          <a:custGeom>
            <a:avLst/>
            <a:gdLst/>
            <a:ahLst/>
            <a:rect l="l" t="t" r="r" b="b"/>
            <a:pathLst>
              <a:path w="3602736" h="822960">
                <a:moveTo>
                  <a:pt x="0" y="630936"/>
                </a:moveTo>
                <a:cubicBezTo>
                  <a:pt x="42672" y="633984"/>
                  <a:pt x="85709" y="633734"/>
                  <a:pt x="128016" y="640080"/>
                </a:cubicBezTo>
                <a:cubicBezTo>
                  <a:pt x="147080" y="642940"/>
                  <a:pt x="164592" y="652272"/>
                  <a:pt x="182880" y="658368"/>
                </a:cubicBezTo>
                <a:cubicBezTo>
                  <a:pt x="192024" y="661416"/>
                  <a:pt x="202292" y="662165"/>
                  <a:pt x="210312" y="667512"/>
                </a:cubicBezTo>
                <a:cubicBezTo>
                  <a:pt x="219456" y="673608"/>
                  <a:pt x="227914" y="680885"/>
                  <a:pt x="237744" y="685800"/>
                </a:cubicBezTo>
                <a:cubicBezTo>
                  <a:pt x="246365" y="690111"/>
                  <a:pt x="256750" y="690263"/>
                  <a:pt x="265176" y="694944"/>
                </a:cubicBezTo>
                <a:cubicBezTo>
                  <a:pt x="284389" y="705618"/>
                  <a:pt x="299188" y="724569"/>
                  <a:pt x="320040" y="731520"/>
                </a:cubicBezTo>
                <a:cubicBezTo>
                  <a:pt x="388991" y="754504"/>
                  <a:pt x="304000" y="723500"/>
                  <a:pt x="374904" y="758952"/>
                </a:cubicBezTo>
                <a:cubicBezTo>
                  <a:pt x="399240" y="771120"/>
                  <a:pt x="432616" y="771972"/>
                  <a:pt x="457200" y="777240"/>
                </a:cubicBezTo>
                <a:cubicBezTo>
                  <a:pt x="481777" y="782506"/>
                  <a:pt x="505371" y="792752"/>
                  <a:pt x="530352" y="795528"/>
                </a:cubicBezTo>
                <a:lnTo>
                  <a:pt x="685800" y="813816"/>
                </a:lnTo>
                <a:lnTo>
                  <a:pt x="768096" y="822960"/>
                </a:lnTo>
                <a:cubicBezTo>
                  <a:pt x="847344" y="819912"/>
                  <a:pt x="926670" y="818473"/>
                  <a:pt x="1005840" y="813816"/>
                </a:cubicBezTo>
                <a:cubicBezTo>
                  <a:pt x="1030371" y="812373"/>
                  <a:pt x="1054587" y="807543"/>
                  <a:pt x="1078992" y="804672"/>
                </a:cubicBezTo>
                <a:lnTo>
                  <a:pt x="1161288" y="795528"/>
                </a:lnTo>
                <a:cubicBezTo>
                  <a:pt x="1236599" y="770424"/>
                  <a:pt x="1197069" y="779966"/>
                  <a:pt x="1280160" y="768096"/>
                </a:cubicBezTo>
                <a:cubicBezTo>
                  <a:pt x="1289304" y="762000"/>
                  <a:pt x="1297549" y="754271"/>
                  <a:pt x="1307592" y="749808"/>
                </a:cubicBezTo>
                <a:cubicBezTo>
                  <a:pt x="1325208" y="741979"/>
                  <a:pt x="1346416" y="742213"/>
                  <a:pt x="1362456" y="731520"/>
                </a:cubicBezTo>
                <a:cubicBezTo>
                  <a:pt x="1390006" y="713154"/>
                  <a:pt x="1393980" y="708866"/>
                  <a:pt x="1426464" y="694944"/>
                </a:cubicBezTo>
                <a:cubicBezTo>
                  <a:pt x="1435323" y="691147"/>
                  <a:pt x="1444752" y="688848"/>
                  <a:pt x="1453896" y="685800"/>
                </a:cubicBezTo>
                <a:cubicBezTo>
                  <a:pt x="1512282" y="642011"/>
                  <a:pt x="1476841" y="665184"/>
                  <a:pt x="1563624" y="621792"/>
                </a:cubicBezTo>
                <a:cubicBezTo>
                  <a:pt x="1575816" y="615696"/>
                  <a:pt x="1587268" y="607815"/>
                  <a:pt x="1600200" y="603504"/>
                </a:cubicBezTo>
                <a:cubicBezTo>
                  <a:pt x="1609344" y="600456"/>
                  <a:pt x="1619206" y="599041"/>
                  <a:pt x="1627632" y="594360"/>
                </a:cubicBezTo>
                <a:lnTo>
                  <a:pt x="1709928" y="539496"/>
                </a:lnTo>
                <a:lnTo>
                  <a:pt x="1792224" y="484632"/>
                </a:lnTo>
                <a:lnTo>
                  <a:pt x="1819656" y="466344"/>
                </a:lnTo>
                <a:cubicBezTo>
                  <a:pt x="1825752" y="457200"/>
                  <a:pt x="1829362" y="445777"/>
                  <a:pt x="1837944" y="438912"/>
                </a:cubicBezTo>
                <a:cubicBezTo>
                  <a:pt x="1845470" y="432891"/>
                  <a:pt x="1856950" y="434449"/>
                  <a:pt x="1865376" y="429768"/>
                </a:cubicBezTo>
                <a:cubicBezTo>
                  <a:pt x="1884589" y="419094"/>
                  <a:pt x="1901952" y="405384"/>
                  <a:pt x="1920240" y="393192"/>
                </a:cubicBezTo>
                <a:lnTo>
                  <a:pt x="1947672" y="374904"/>
                </a:lnTo>
                <a:cubicBezTo>
                  <a:pt x="1956816" y="368808"/>
                  <a:pt x="1964678" y="360091"/>
                  <a:pt x="1975104" y="356616"/>
                </a:cubicBezTo>
                <a:cubicBezTo>
                  <a:pt x="1993392" y="350520"/>
                  <a:pt x="2013928" y="349021"/>
                  <a:pt x="2029968" y="338328"/>
                </a:cubicBezTo>
                <a:cubicBezTo>
                  <a:pt x="2108584" y="285917"/>
                  <a:pt x="2009116" y="348754"/>
                  <a:pt x="2084832" y="310896"/>
                </a:cubicBezTo>
                <a:cubicBezTo>
                  <a:pt x="2094662" y="305981"/>
                  <a:pt x="2102434" y="297523"/>
                  <a:pt x="2112264" y="292608"/>
                </a:cubicBezTo>
                <a:cubicBezTo>
                  <a:pt x="2120885" y="288297"/>
                  <a:pt x="2131075" y="287775"/>
                  <a:pt x="2139696" y="283464"/>
                </a:cubicBezTo>
                <a:cubicBezTo>
                  <a:pt x="2149526" y="278549"/>
                  <a:pt x="2157298" y="270091"/>
                  <a:pt x="2167128" y="265176"/>
                </a:cubicBezTo>
                <a:cubicBezTo>
                  <a:pt x="2175749" y="260865"/>
                  <a:pt x="2186134" y="260713"/>
                  <a:pt x="2194560" y="256032"/>
                </a:cubicBezTo>
                <a:cubicBezTo>
                  <a:pt x="2213773" y="245358"/>
                  <a:pt x="2228572" y="226407"/>
                  <a:pt x="2249424" y="219456"/>
                </a:cubicBezTo>
                <a:cubicBezTo>
                  <a:pt x="2258568" y="216408"/>
                  <a:pt x="2268430" y="214993"/>
                  <a:pt x="2276856" y="210312"/>
                </a:cubicBezTo>
                <a:cubicBezTo>
                  <a:pt x="2296069" y="199638"/>
                  <a:pt x="2310868" y="180687"/>
                  <a:pt x="2331720" y="173736"/>
                </a:cubicBezTo>
                <a:cubicBezTo>
                  <a:pt x="2350008" y="167640"/>
                  <a:pt x="2370544" y="166141"/>
                  <a:pt x="2386584" y="155448"/>
                </a:cubicBezTo>
                <a:cubicBezTo>
                  <a:pt x="2465200" y="103037"/>
                  <a:pt x="2365732" y="165874"/>
                  <a:pt x="2441448" y="128016"/>
                </a:cubicBezTo>
                <a:cubicBezTo>
                  <a:pt x="2504596" y="96442"/>
                  <a:pt x="2429334" y="119615"/>
                  <a:pt x="2505456" y="100584"/>
                </a:cubicBezTo>
                <a:cubicBezTo>
                  <a:pt x="2558174" y="65439"/>
                  <a:pt x="2507319" y="95867"/>
                  <a:pt x="2560320" y="73152"/>
                </a:cubicBezTo>
                <a:cubicBezTo>
                  <a:pt x="2572849" y="67782"/>
                  <a:pt x="2583964" y="59175"/>
                  <a:pt x="2596896" y="54864"/>
                </a:cubicBezTo>
                <a:cubicBezTo>
                  <a:pt x="2611640" y="49949"/>
                  <a:pt x="2627622" y="49809"/>
                  <a:pt x="2642616" y="45720"/>
                </a:cubicBezTo>
                <a:cubicBezTo>
                  <a:pt x="2661214" y="40648"/>
                  <a:pt x="2678397" y="30158"/>
                  <a:pt x="2697480" y="27432"/>
                </a:cubicBezTo>
                <a:cubicBezTo>
                  <a:pt x="2718816" y="24384"/>
                  <a:pt x="2740283" y="22143"/>
                  <a:pt x="2761488" y="18288"/>
                </a:cubicBezTo>
                <a:cubicBezTo>
                  <a:pt x="2773853" y="16040"/>
                  <a:pt x="2785594" y="10703"/>
                  <a:pt x="2798064" y="9144"/>
                </a:cubicBezTo>
                <a:cubicBezTo>
                  <a:pt x="2834483" y="4592"/>
                  <a:pt x="2871216" y="3048"/>
                  <a:pt x="2907792" y="0"/>
                </a:cubicBezTo>
                <a:cubicBezTo>
                  <a:pt x="2958911" y="4260"/>
                  <a:pt x="3012907" y="4561"/>
                  <a:pt x="3063240" y="18288"/>
                </a:cubicBezTo>
                <a:lnTo>
                  <a:pt x="3145536" y="45720"/>
                </a:lnTo>
                <a:cubicBezTo>
                  <a:pt x="3154680" y="48768"/>
                  <a:pt x="3164948" y="49517"/>
                  <a:pt x="3172968" y="54864"/>
                </a:cubicBezTo>
                <a:cubicBezTo>
                  <a:pt x="3182112" y="60960"/>
                  <a:pt x="3190299" y="68823"/>
                  <a:pt x="3200400" y="73152"/>
                </a:cubicBezTo>
                <a:cubicBezTo>
                  <a:pt x="3241417" y="90731"/>
                  <a:pt x="3228820" y="73646"/>
                  <a:pt x="3264408" y="91440"/>
                </a:cubicBezTo>
                <a:cubicBezTo>
                  <a:pt x="3274238" y="96355"/>
                  <a:pt x="3281414" y="106253"/>
                  <a:pt x="3291840" y="109728"/>
                </a:cubicBezTo>
                <a:cubicBezTo>
                  <a:pt x="3309429" y="115591"/>
                  <a:pt x="3328717" y="114375"/>
                  <a:pt x="3346704" y="118872"/>
                </a:cubicBezTo>
                <a:cubicBezTo>
                  <a:pt x="3365406" y="123547"/>
                  <a:pt x="3383280" y="131064"/>
                  <a:pt x="3401568" y="137160"/>
                </a:cubicBezTo>
                <a:lnTo>
                  <a:pt x="3429000" y="146304"/>
                </a:lnTo>
                <a:cubicBezTo>
                  <a:pt x="3497951" y="169288"/>
                  <a:pt x="3412960" y="138284"/>
                  <a:pt x="3483864" y="173736"/>
                </a:cubicBezTo>
                <a:cubicBezTo>
                  <a:pt x="3492485" y="178047"/>
                  <a:pt x="3502675" y="178569"/>
                  <a:pt x="3511296" y="182880"/>
                </a:cubicBezTo>
                <a:cubicBezTo>
                  <a:pt x="3521126" y="187795"/>
                  <a:pt x="3528898" y="196253"/>
                  <a:pt x="3538728" y="201168"/>
                </a:cubicBezTo>
                <a:cubicBezTo>
                  <a:pt x="3547349" y="205479"/>
                  <a:pt x="3557539" y="206001"/>
                  <a:pt x="3566160" y="210312"/>
                </a:cubicBezTo>
                <a:cubicBezTo>
                  <a:pt x="3606117" y="230291"/>
                  <a:pt x="3579832" y="228600"/>
                  <a:pt x="3602736" y="228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Freeform 9"/>
          <p:cNvSpPr/>
          <p:nvPr/>
        </p:nvSpPr>
        <p:spPr>
          <a:xfrm>
            <a:off x="4562640" y="1316160"/>
            <a:ext cx="1188720" cy="366480"/>
          </a:xfrm>
          <a:custGeom>
            <a:avLst/>
            <a:gdLst/>
            <a:ahLst/>
            <a:rect l="l" t="t" r="r" b="b"/>
            <a:pathLst>
              <a:path w="1188720" h="365760">
                <a:moveTo>
                  <a:pt x="0" y="27432"/>
                </a:moveTo>
                <a:cubicBezTo>
                  <a:pt x="15240" y="24384"/>
                  <a:pt x="30642" y="22057"/>
                  <a:pt x="45720" y="18288"/>
                </a:cubicBezTo>
                <a:cubicBezTo>
                  <a:pt x="55071" y="15950"/>
                  <a:pt x="63610" y="10507"/>
                  <a:pt x="73152" y="9144"/>
                </a:cubicBezTo>
                <a:cubicBezTo>
                  <a:pt x="106480" y="4383"/>
                  <a:pt x="140208" y="3048"/>
                  <a:pt x="173736" y="0"/>
                </a:cubicBezTo>
                <a:cubicBezTo>
                  <a:pt x="262128" y="3048"/>
                  <a:pt x="350791" y="1591"/>
                  <a:pt x="438912" y="9144"/>
                </a:cubicBezTo>
                <a:cubicBezTo>
                  <a:pt x="495855" y="14025"/>
                  <a:pt x="482495" y="26363"/>
                  <a:pt x="521208" y="45720"/>
                </a:cubicBezTo>
                <a:cubicBezTo>
                  <a:pt x="529829" y="50031"/>
                  <a:pt x="540019" y="50553"/>
                  <a:pt x="548640" y="54864"/>
                </a:cubicBezTo>
                <a:cubicBezTo>
                  <a:pt x="558470" y="59779"/>
                  <a:pt x="566242" y="68237"/>
                  <a:pt x="576072" y="73152"/>
                </a:cubicBezTo>
                <a:cubicBezTo>
                  <a:pt x="584693" y="77463"/>
                  <a:pt x="594883" y="77985"/>
                  <a:pt x="603504" y="82296"/>
                </a:cubicBezTo>
                <a:cubicBezTo>
                  <a:pt x="613334" y="87211"/>
                  <a:pt x="620893" y="96121"/>
                  <a:pt x="630936" y="100584"/>
                </a:cubicBezTo>
                <a:cubicBezTo>
                  <a:pt x="648552" y="108413"/>
                  <a:pt x="669760" y="108179"/>
                  <a:pt x="685800" y="118872"/>
                </a:cubicBezTo>
                <a:cubicBezTo>
                  <a:pt x="694944" y="124968"/>
                  <a:pt x="703131" y="132831"/>
                  <a:pt x="713232" y="137160"/>
                </a:cubicBezTo>
                <a:cubicBezTo>
                  <a:pt x="724783" y="142110"/>
                  <a:pt x="738041" y="141891"/>
                  <a:pt x="749808" y="146304"/>
                </a:cubicBezTo>
                <a:cubicBezTo>
                  <a:pt x="762571" y="151090"/>
                  <a:pt x="773855" y="159222"/>
                  <a:pt x="786384" y="164592"/>
                </a:cubicBezTo>
                <a:cubicBezTo>
                  <a:pt x="795243" y="168389"/>
                  <a:pt x="805195" y="169425"/>
                  <a:pt x="813816" y="173736"/>
                </a:cubicBezTo>
                <a:cubicBezTo>
                  <a:pt x="823646" y="178651"/>
                  <a:pt x="830958" y="188165"/>
                  <a:pt x="841248" y="192024"/>
                </a:cubicBezTo>
                <a:cubicBezTo>
                  <a:pt x="882983" y="207675"/>
                  <a:pt x="880557" y="193390"/>
                  <a:pt x="914400" y="210312"/>
                </a:cubicBezTo>
                <a:cubicBezTo>
                  <a:pt x="985304" y="245764"/>
                  <a:pt x="900313" y="214760"/>
                  <a:pt x="969264" y="237744"/>
                </a:cubicBezTo>
                <a:cubicBezTo>
                  <a:pt x="978408" y="246888"/>
                  <a:pt x="985392" y="258896"/>
                  <a:pt x="996696" y="265176"/>
                </a:cubicBezTo>
                <a:cubicBezTo>
                  <a:pt x="1013547" y="274538"/>
                  <a:pt x="1033272" y="277368"/>
                  <a:pt x="1051560" y="283464"/>
                </a:cubicBezTo>
                <a:cubicBezTo>
                  <a:pt x="1060704" y="286512"/>
                  <a:pt x="1070972" y="287261"/>
                  <a:pt x="1078992" y="292608"/>
                </a:cubicBezTo>
                <a:lnTo>
                  <a:pt x="1133856" y="329184"/>
                </a:lnTo>
                <a:lnTo>
                  <a:pt x="1161288" y="347472"/>
                </a:lnTo>
                <a:lnTo>
                  <a:pt x="1188720" y="365760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43:09Z</dcterms:modified>
  <cp:revision>332</cp:revision>
  <dc:subject/>
  <dc:title>TITLE</dc:title>
</cp:coreProperties>
</file>