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0B90-7A6F-4CA0-B94A-F050E53B0B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7262-1F02-406D-A38F-BBD5D54952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7906-EAEE-43C9-912D-3257A454B9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1D24-5481-4A9B-8A26-8706CD9F0B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7C5C-7053-4E93-A144-23AB198FEA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7802-5EE4-43D2-91EB-B880C98781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5B9-87F6-469D-82CC-4BF26A12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37F-570E-44DC-8DEB-A05C8449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58F-5F07-4F4E-A973-11511108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842-88A7-4655-A8E6-2CEC435A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8AE4-148F-442D-B310-26E215C8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6AC6-E4B1-4276-9B71-0899F622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0178-B47E-4629-897B-2F29926C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487B-B1AA-4FE6-9973-26A3C0A1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FE0B-9A77-4FC6-9021-A165E0C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D1AC-3EF5-4D77-8507-9D23AA25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9726-C01A-4EC6-8309-971F4D38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81F-8734-4434-B9B7-D5ED819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44CC-59F2-4B31-8452-90BB7772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2654-024E-4B8A-94FA-3FBF31B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380B-3864-438B-9A27-8AC95278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9D15-9911-43C2-A4AC-1E7C44CA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AC55-5C32-46E0-BB69-DA81D480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A2A4-F5BD-43B6-B6C3-B34E7635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6F64-8EAF-432A-B83A-AFFF25D5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05D4-3861-4FDB-921E-4DB76E9A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8096-196A-4701-8BDC-F10ECB11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D90B-004B-4963-AE87-70F69443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952-B129-4960-B41F-01DA8807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114BD-1B3B-49E2-A414-BFA22CBE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62E31-CBB7-4B8E-A811-52DCE341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70B6-D245-4DCD-BAB8-70C490C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A1E4-8EC4-4565-90BA-ED6172ED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A2CD-DFCC-4BC7-8836-BE4F3C92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0F80-23EB-4667-AA48-8DD5A10F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6BC6-F253-4F22-9DBE-21D99994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624-82FC-4F73-8D62-646AF152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09D-F658-4140-BC7C-2FB12012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3D7-8A40-444B-9677-77FB09C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5DE-D456-4162-BF7B-D39BBEDA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B17-E4C8-44CA-BAFE-95F0A99A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BA0-55FA-4F18-8802-D6129471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DE27-5D48-4B7C-9899-E0EC31793D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2C1B-2D45-44C4-8154-568663AFAC8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9BD8-6183-478C-B35E-29E4DF2025A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33360"/>
            <a:ext cx="8497800" cy="618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jandro _____ _____ museo _____ t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y yo _____ _____ plaza _____ caba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1989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4005360"/>
            <a:ext cx="180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4005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33360"/>
            <a:ext cx="8497800" cy="618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jandro _____ _____ museo _____ t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y yo _____ _____ plaza _____ caba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989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4005360"/>
            <a:ext cx="180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4005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49360"/>
            <a:ext cx="30751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7606"/>
              <a:gd name="adj5" fmla="val 217189"/>
              <a:gd name="adj6" fmla="val -33351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A las cua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5013360"/>
            <a:ext cx="3527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601"/>
              <a:gd name="adj5" fmla="val 13800"/>
              <a:gd name="adj6" fmla="val -25069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el miérc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97800" cy="618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jandro _____ _____ museo _____ t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y yo _____ _____ plaza _____ caba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989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4005360"/>
            <a:ext cx="180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4005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549360"/>
            <a:ext cx="43927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2324"/>
              <a:gd name="adj5" fmla="val 217189"/>
              <a:gd name="adj6" fmla="val -23347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Cuando hace fr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5013360"/>
            <a:ext cx="3888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268"/>
              <a:gd name="adj5" fmla="val 13800"/>
              <a:gd name="adj6" fmla="val -22745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el once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33360"/>
            <a:ext cx="8497800" cy="618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ejandro _____ _____ museo _____ t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y yo _____ _____ plaza _____ caba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134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1989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4005360"/>
            <a:ext cx="180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4005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549360"/>
            <a:ext cx="43927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2324"/>
              <a:gd name="adj5" fmla="val 217189"/>
              <a:gd name="adj6" fmla="val -23347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Cuando hace fr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5013360"/>
            <a:ext cx="3888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268"/>
              <a:gd name="adj5" fmla="val 13800"/>
              <a:gd name="adj6" fmla="val -22745"/>
            </a:avLst>
          </a:prstGeom>
          <a:solidFill>
            <a:srgbClr val="fffff7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0000"/>
                </a:solidFill>
                <a:latin typeface="Comic Sans MS"/>
              </a:rPr>
              <a:t>el once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07440" y="3035880"/>
            <a:ext cx="680760" cy="672480"/>
            <a:chOff x="307440" y="3035880"/>
            <a:chExt cx="680760" cy="672480"/>
          </a:xfrm>
        </p:grpSpPr>
        <p:sp>
          <p:nvSpPr>
            <p:cNvPr id="169" name="PubPieSlice"/>
            <p:cNvSpPr/>
            <p:nvPr/>
          </p:nvSpPr>
          <p:spPr>
            <a:xfrm rot="3156600">
              <a:off x="417240" y="3119400"/>
              <a:ext cx="460440" cy="50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93" y="4"/>
                  </a:moveTo>
                  <a:arcTo wR="10800" hR="10800" stAng="-5306691" swAng="-18110153"/>
                  <a:lnTo>
                    <a:pt x="10800" y="10800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000" y="3178080"/>
              <a:ext cx="119160" cy="10872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3960" y="3214440"/>
              <a:ext cx="5940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07440" y="5699520"/>
            <a:ext cx="680760" cy="672480"/>
            <a:chOff x="307440" y="5699520"/>
            <a:chExt cx="680760" cy="672480"/>
          </a:xfrm>
        </p:grpSpPr>
        <p:sp>
          <p:nvSpPr>
            <p:cNvPr id="173" name="PubPieSlice"/>
            <p:cNvSpPr/>
            <p:nvPr/>
          </p:nvSpPr>
          <p:spPr>
            <a:xfrm rot="3156600">
              <a:off x="417240" y="5783040"/>
              <a:ext cx="460440" cy="50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93" y="4"/>
                  </a:moveTo>
                  <a:arcTo wR="10800" hR="10800" stAng="-5306691" swAng="-18110153"/>
                  <a:lnTo>
                    <a:pt x="10800" y="10800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4000" y="5841720"/>
              <a:ext cx="119160" cy="10872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3960" y="5878080"/>
              <a:ext cx="5940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116000" y="2924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Comic Sans MS"/>
              </a:rPr>
              <a:t>Sí, estoy de acuer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661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Comic Sans MS"/>
              </a:rPr>
              <a:t>¡ No me diga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765000"/>
            <a:ext cx="8497800" cy="5163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Cuando hace frí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 Alejandro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 al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museo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e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t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Comic Sans MS"/>
              </a:rPr>
              <a:t>Sí, estoy de acuer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El miércol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, Sara y yo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vamos</a:t>
            </a:r>
            <a:br>
              <a:rPr sz="4400"/>
            </a:b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 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plaza </a:t>
            </a: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caba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Comic Sans MS"/>
              </a:rPr>
              <a:t>¡ No me diga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3-27T12:14:11Z</dcterms:modified>
  <cp:revision>296</cp:revision>
  <dc:subject/>
  <dc:title>TITLE</dc:title>
</cp:coreProperties>
</file>