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D608-DF31-4357-91FC-5DD8982727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7BA6-D0DA-4672-AA9D-1CAE9799C5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3F84-DD6D-4F92-9F7A-3236F99FAE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EA49-CD89-4B92-AF92-3FF349ECB9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E003-EE1D-493E-BDF0-F2FE47193E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3B00-0C4C-4292-9FF5-429A32F98E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70D-B789-4C55-9336-B36048EA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EA9-C0CF-448E-BA7D-C4F0312D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28A-5137-47E9-A847-1E1F2B43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A1A-5F4F-4981-B716-3EC7D6C2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F46F-B6F7-4B80-88BD-0099EB1B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7175-5F08-466B-9050-0B079957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979E-E1EB-4411-B47F-EF07A88F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A6A5-CD2D-4802-AB41-E163C709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D006-4BED-4716-B2E8-EEC9818A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F906-1DBD-49D8-9034-3DEF1075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299C-F912-4458-BA63-2CAFFF8B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67F-3DBB-4D61-BB91-509E4360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B1E1-160F-41D7-B8B2-E6122606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9410-DCDF-4DF6-BF16-85ED13E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CF1-7E9F-4283-9D91-73D0326D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D329-A067-48F2-885D-1813C32C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380F-3614-454C-B1FA-AF685595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7F48-C607-4929-8961-838A8997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3AFA-3FB9-47A9-A558-8DD3B736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935E-EE5B-4E46-B026-2A669ABB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749B0-FFD6-4735-B3CB-80825B3C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1AA7-5154-4E37-9FFE-4CBC0D1C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73C-A229-4201-99A2-CBA1457B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46F0-3284-4CEB-BEF6-B45D33E3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C2C8-59E5-4F57-A839-72A3796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D900-37F5-43B6-960C-D14975D4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DEFE-FAF5-4B62-B42F-F0220689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8C01-C175-4061-B2E5-76B32A9F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2CDC-A4CA-499C-AFA8-99DA36A4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CB2F-2976-457E-82B9-3594DD79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ABA-47E8-4C4B-BCC1-E84B020D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D57-A7C4-474A-8A44-72605B4B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83A-A34C-4752-9440-906AB46C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12D-E913-44AB-9437-51DE94AF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0E6-CF20-4A2F-962E-41E7C9D1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86A-0C2A-40C8-8667-C99B5CF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0580-F774-4922-BBA8-6B92C448A1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BF88-E2DE-44E6-8A07-440607E69D0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734-8AED-41A7-B3F7-FA4BDCC13B1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33360"/>
            <a:ext cx="8497800" cy="618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jandro _____ _____ museo _____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y yo _____ _____ plaza _____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989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4005360"/>
            <a:ext cx="180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005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33360"/>
            <a:ext cx="8497800" cy="618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jandro _____ _____ museo _____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y yo _____ _____ plaza _____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989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005360"/>
            <a:ext cx="180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4005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49360"/>
            <a:ext cx="30751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7606"/>
              <a:gd name="adj5" fmla="val 217189"/>
              <a:gd name="adj6" fmla="val -33351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A las cua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5013360"/>
            <a:ext cx="3527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601"/>
              <a:gd name="adj5" fmla="val 13800"/>
              <a:gd name="adj6" fmla="val -25069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el miérc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7800" cy="618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jandro _____ _____ museo _____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y yo _____ _____ plaza _____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989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4005360"/>
            <a:ext cx="180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4005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549360"/>
            <a:ext cx="4392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324"/>
              <a:gd name="adj5" fmla="val 217189"/>
              <a:gd name="adj6" fmla="val -23347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Cuando hace fr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5013360"/>
            <a:ext cx="3888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268"/>
              <a:gd name="adj5" fmla="val 13800"/>
              <a:gd name="adj6" fmla="val -22745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el once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33360"/>
            <a:ext cx="8497800" cy="618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jandro _____ _____ museo _____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y yo _____ _____ plaza _____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1989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4005360"/>
            <a:ext cx="180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4005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549360"/>
            <a:ext cx="4392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324"/>
              <a:gd name="adj5" fmla="val 217189"/>
              <a:gd name="adj6" fmla="val -23347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Cuando hace fr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5013360"/>
            <a:ext cx="3888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268"/>
              <a:gd name="adj5" fmla="val 13800"/>
              <a:gd name="adj6" fmla="val -22745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el once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07440" y="3035880"/>
            <a:ext cx="680760" cy="672480"/>
            <a:chOff x="307440" y="3035880"/>
            <a:chExt cx="680760" cy="672480"/>
          </a:xfrm>
        </p:grpSpPr>
        <p:sp>
          <p:nvSpPr>
            <p:cNvPr id="169" name="PubPieSlice"/>
            <p:cNvSpPr/>
            <p:nvPr/>
          </p:nvSpPr>
          <p:spPr>
            <a:xfrm rot="3156600">
              <a:off x="417240" y="3119400"/>
              <a:ext cx="460440" cy="50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93" y="4"/>
                  </a:moveTo>
                  <a:arcTo wR="10800" hR="10800" stAng="-5306691" swAng="-18110153"/>
                  <a:lnTo>
                    <a:pt x="10800" y="10800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000" y="3178080"/>
              <a:ext cx="119160" cy="10872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3960" y="3214440"/>
              <a:ext cx="5940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07440" y="5699520"/>
            <a:ext cx="680760" cy="672480"/>
            <a:chOff x="307440" y="5699520"/>
            <a:chExt cx="680760" cy="672480"/>
          </a:xfrm>
        </p:grpSpPr>
        <p:sp>
          <p:nvSpPr>
            <p:cNvPr id="173" name="PubPieSlice"/>
            <p:cNvSpPr/>
            <p:nvPr/>
          </p:nvSpPr>
          <p:spPr>
            <a:xfrm rot="3156600">
              <a:off x="417240" y="5783040"/>
              <a:ext cx="460440" cy="50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93" y="4"/>
                  </a:moveTo>
                  <a:arcTo wR="10800" hR="10800" stAng="-5306691" swAng="-18110153"/>
                  <a:lnTo>
                    <a:pt x="10800" y="10800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4000" y="5841720"/>
              <a:ext cx="119160" cy="10872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3960" y="5878080"/>
              <a:ext cx="5940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116000" y="2924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Comic Sans MS"/>
              </a:rPr>
              <a:t>Sí, estoy de acuer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66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Comic Sans MS"/>
              </a:rPr>
              <a:t>¡ No me diga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765000"/>
            <a:ext cx="8497800" cy="5163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Cuando hace frí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 Alejandro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 al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museo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Comic Sans MS"/>
              </a:rPr>
              <a:t>Sí, estoy de acuer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El miércol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 Sara y yo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plaza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Comic Sans MS"/>
              </a:rPr>
              <a:t>¡ No me diga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3-27T12:14:11Z</dcterms:modified>
  <cp:revision>296</cp:revision>
  <dc:subject/>
  <dc:title>TITLE</dc:title>
</cp:coreProperties>
</file>