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D1A-52BE-458D-8C48-3685109E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152-0EB8-4ACA-B005-F20ED4D8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AC1-B1EF-422A-AAF1-A47AF1FE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0C1-5961-4369-8F92-11853199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64D-A77B-40CC-BC83-08383B26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D8A-8A56-40D9-9144-01421168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ECC-0C9F-463A-A212-8527BA15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4AC-36ED-4B67-AA18-9441B1E1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B14-E5C0-4D1E-82C6-14CCF994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4C2-47EC-4F91-A6AC-1004143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998-48B1-4D19-9593-F6AAA4D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116-F320-4E44-B2E2-CB195B7B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0A0-9D98-44E5-8678-EA7CC4A886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468360" y="24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a"/>
                </a:solidFill>
                <a:latin typeface="Comic Sans MS"/>
              </a:rPr>
              <a:t>j u e g o a l t e n i s d e m e s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uego al tenis de mes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468360" y="24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a"/>
                </a:solidFill>
                <a:latin typeface="Comic Sans MS"/>
              </a:rPr>
              <a:t>h a g o c i c l i s m 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ago cicl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324000" y="2492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 a g o e q u i t a c i ó 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ago equitaci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24000" y="2492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j u e g o a l r u g b 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uego al rugb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24000" y="2492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ugje la sausq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uego al squa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324000" y="2492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goah titoesal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ago atlet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324000" y="2492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jeog la blfot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uego al fútbo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24000" y="2492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gah samigi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ago gimnasi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3:15Z</dcterms:modified>
  <cp:revision>186</cp:revision>
  <dc:subject/>
  <dc:title>TITLE</dc:title>
</cp:coreProperties>
</file>