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D67-3D1E-4CD9-8198-B58B4F3E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630-8BDE-44C5-8DDB-3938BD1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362-6860-4D9A-8C1E-4EB03693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2E5-23C5-4911-B1CB-A5B0F67F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867-BFC7-4658-921A-962D8B4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46B-2D07-4DD9-83A4-944D063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239-D8C6-458C-B1F7-3E7374E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DF5-E2FB-4F94-938F-6D1BF67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08E-FFB7-4A19-983C-E40B0F9B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523-4560-4ADD-8C88-77EF3CF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A73-18C9-4B6A-BF4A-61E591F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830-CC3F-4F25-9DC4-B7587BF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5FB9-A749-4690-97A4-7CF00B16E5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68360" y="24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a"/>
                </a:solidFill>
                <a:latin typeface="Comic Sans MS"/>
              </a:rPr>
              <a:t>j u e g o a l t e n i s d e m e s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tenis de me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68360" y="24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a"/>
                </a:solidFill>
                <a:latin typeface="Comic Sans MS"/>
              </a:rPr>
              <a:t>h a g o c i c l i s m 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 a g o e q u i t a c i ó 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24000" y="2492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 u e g o a l r u g b 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rugb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ugje la sausq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squa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24000" y="2492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goah titoesal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24000" y="2492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jeog la blfot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uego al fútbo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089920" y="6524640"/>
            <a:ext cx="1054080" cy="274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24000" y="2492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gah samig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8126280" y="189000"/>
            <a:ext cx="6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95280" y="364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ago gimnasi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3:15Z</dcterms:modified>
  <cp:revision>186</cp:revision>
  <dc:subject/>
  <dc:title>TITLE</dc:title>
</cp:coreProperties>
</file>