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0D3F-5494-4E44-A733-0E1012D382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8DB6-9BA3-40B2-8C08-2D6ACCE529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EF8-76B0-4DD5-82E8-C6F62E83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919-5100-4C4D-85D6-26781F04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F8A-476F-4DC2-BF52-092D3F5E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DF0-4B6E-4863-ADB4-EB6FED0F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BD92-A0B0-4AB9-B04A-191BF49C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D2C9-F371-4287-9184-5A950895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E726-DFB5-4901-9105-498B8615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C6E9-AD8D-47CC-BCF6-A07A143E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F442-18E6-4DB5-9DB0-496216BD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B2F5-E8D0-4733-9A73-689E1198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5CBC-0F95-4059-AA75-2C9651E3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F68-C614-4286-A222-190C6BA2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960A-2AB8-4562-91E7-0B9EAEC8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3A3B-788F-4E1A-99D8-61F20A8A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A2A0-2C06-4A3C-8142-F250F23F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2F62-E811-44DA-BCB4-D3E204A8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C0DE-0E5D-4D33-8F1B-8679CD61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557D9-2741-4F4C-9609-C15BE180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0C7B0-4A9F-4325-BB16-E247850A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ACFFC-9158-4031-AB79-8E9E55E9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67CC1-E1FE-4173-A84C-5E14D438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95C7A-D7A6-4EE3-BF80-BBC296A1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CF1-BCAF-4307-A013-FE7F8718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1DAA5-AED8-4991-9481-2C1D5579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4099B-0444-4AD2-A3CF-452CDC0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4CDAE-8B9C-4EE2-BFDA-0A5BE613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BCA0C-AED7-458B-BAFA-A0A26115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ED7F6-C7D0-4DD1-A587-DB687D48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8A4FD-1F71-4D01-8008-89721BBC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25592-EA48-47BA-A69C-65DADED7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D1D-8F97-4A9A-90B0-3AB4DC81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1E7-7354-4F87-91A9-5C7F2CDB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481-8F8A-4A1D-8364-1CF6F64F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553-A085-48AC-B381-6D19EC94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1E0-E8CE-4CC7-8864-C03D0AB3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9AF-2434-408F-8C77-1A7A9B01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6C7C-BF5F-463F-A63C-D4CB298859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7A02-3405-46D6-99CD-C9D10E3641A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8138-205A-40C3-B3B6-F4EDC53A35F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1342" t="19938" r="14963" b="53483"/>
          <a:stretch/>
        </p:blipFill>
        <p:spPr>
          <a:xfrm>
            <a:off x="468360" y="260280"/>
            <a:ext cx="3456000" cy="168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3543" t="41962" r="65997" b="36624"/>
          <a:stretch/>
        </p:blipFill>
        <p:spPr>
          <a:xfrm>
            <a:off x="468360" y="2133720"/>
            <a:ext cx="8137440" cy="4576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40360" y="83664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km = kilóme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2-06-18T09:59:23Z</dcterms:modified>
  <cp:revision>242</cp:revision>
  <dc:subject/>
  <dc:title>TITLE</dc:title>
</cp:coreProperties>
</file>