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85E-374E-441C-B517-6FF97D81D8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D31-E7A2-482B-B76B-E451A57952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5D0-4540-4F22-826D-03FA2E8E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94E-B902-4288-8056-C2F9121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AE0-84C1-4FDE-8119-BB8E76AA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EBB-25C0-4124-A0B1-DB71A22B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3097-A39D-40B4-9B08-C71D2B6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FDE1-52B8-40D2-8314-2EFC4BA8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4006-7906-48DB-B657-1ADD66E0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CDC-163B-409B-BD3F-437AAFF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8BFF-3295-4AD9-8436-CE99451A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34C4-ED8C-4AD2-B76B-86CBF7D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539-695C-4DA0-9F4F-6030B26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901-EC2A-4755-BCE3-C8B8F46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52E-5634-4917-BF95-4CF56A4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F0C-D15E-4196-85A4-D2468CB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D19-36E9-4417-BC2C-9499F94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FFF-1BC1-49AC-8A6B-73AA6EDE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F985-0E45-440A-93A0-39E8D0C8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9ADB-21BD-4CC7-B8F2-262CFCB3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741F-C870-463B-B4FC-5D492E3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9C13-AEBD-4631-9F32-6E239E72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9481-F80F-48C7-8250-0F81C22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EE62-3D95-4164-A599-F21E3C4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087-4D33-4F6C-9B57-C91F664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F4CE-B906-439B-B05D-869C4B4C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F1B3-40A7-4921-AB3F-EF8A2DB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79A2-6980-4F12-91C1-2A1D4FB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4E6A-7DDE-48C4-8150-2408BA1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1289-F5B0-4AD7-82C6-3A101C4C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D67D-B19B-4ECE-8ECF-1AE6E446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7DC1-EFE8-42E1-ADD9-77BD5354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DAE-6549-498E-AA72-AC7649B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1A2-EDFB-4A7A-9D26-B1CA705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AA5-635C-437E-B365-A15A61AB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F33-E57C-4384-AAA7-EEAC14A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A26-5D6E-4559-80CB-191C2ED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E7C-C7F7-43CE-B123-18CDC57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FED4-F426-4227-923A-419C0C549B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E6E-8E06-41F9-A01C-26D2A5BBF53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9FBE-8870-4150-BF6C-E168B6E1F2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1342" t="19938" r="14963" b="53483"/>
          <a:stretch/>
        </p:blipFill>
        <p:spPr>
          <a:xfrm>
            <a:off x="468360" y="260280"/>
            <a:ext cx="3456000" cy="168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543" t="41962" r="65997" b="36624"/>
          <a:stretch/>
        </p:blipFill>
        <p:spPr>
          <a:xfrm>
            <a:off x="468360" y="2133720"/>
            <a:ext cx="8137440" cy="457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360" y="83664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km = kilóme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06-18T09:59:23Z</dcterms:modified>
  <cp:revision>242</cp:revision>
  <dc:subject/>
  <dc:title>TITLE</dc:title>
</cp:coreProperties>
</file>