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E440-E39E-4F99-BBDD-7919D6B39A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7AF3-D836-4A8E-8B5D-40DEFDF05E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8144-5C12-44FE-9A59-AC6D5020F7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CEDC-E0E3-4B25-9DBE-C462874252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E031-3DE2-45F8-9E7F-838EAC9810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E38A-F502-4AE8-9ED3-1A6B8E2E56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EB95-1824-47CA-88E5-6E7F24DBBA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6F98-9A73-4899-A343-7FA51A1074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9985-947E-4316-92C2-80F86A9846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5EC4-DBA3-4F04-823F-BF8A008DD5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E8BD-5FB0-43D5-A3B2-D45CD3B0D6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220E-411E-4AB2-8AF6-94471D3998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4C19-C9F9-493E-90BC-2D52BFF59E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2259-BFDB-4E5E-81AA-F4BE553FB0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168-47C3-4562-BD65-4D413283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620-2EEF-42FF-9E7D-04066DE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A6D-E07B-40E3-8F3B-C5AF27E4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7E7-F168-4D69-8001-665A2542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378-D9C0-4FA1-91DB-578838FD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579-A1A5-45ED-B79E-73B06F70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E44-3DE8-4385-977D-01DD767F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24F-5D79-4F62-8552-D2A0AD84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C02-B16D-4FD5-9221-1A2F3311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76F-AD8E-40C1-A40D-19242420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D1F-9612-46C3-A19D-6051FE83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F00-D3D3-4317-923B-FE0CE0CD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9F0C-FDB6-4BEB-88BF-012B873DDA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2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5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148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35280" y="2205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393372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472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2637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620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213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3213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437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3716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       </a:t>
            </a: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5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2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  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2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       </a:t>
            </a: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2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5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2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5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2421000"/>
            <a:ext cx="67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           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     5  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314172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3272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4653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4797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836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2852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4581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494172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916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3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43640" y="1197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6:51Z</dcterms:modified>
  <cp:revision>63</cp:revision>
  <dc:subject/>
  <dc:title>TITLE</dc:title>
</cp:coreProperties>
</file>