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E0F1-7895-4D50-8BA8-C8ACB0E9BE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DFA-AFA0-488A-8A06-72E9A79356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F468-AA3F-4BCB-BE3D-FB6375409F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9A3-CFD6-4ED0-B481-E49C8C0A1F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A14-561F-47FA-AE06-8BD7744FDB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7F26-F34D-4893-B881-D51DB35C35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339-DAA7-4E03-ADF0-DDDFBF9701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577-457C-4E47-A41B-E87A231403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651-C66B-4847-BF01-43F70AE5D8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364-837D-42E6-97F3-75C9B947F0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71F-6B42-425B-B528-2C0F2DBB10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14F8-8DB8-4C57-AE96-BF0C294B60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2EA-93D3-4CDC-9361-03786D4D3C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C35-1811-4BD6-9C8A-A59A3C607F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A97-6118-4049-A1E8-37D1E75E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C6D-D0B0-47A1-87BB-18AAE63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2F1-0648-486C-B9B6-6D2D276C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959-53A7-4E26-93D9-A77F4760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127-3DCF-470A-894A-015E436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66E-7622-45AE-91A9-4CBD2A2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99C-5876-4818-A80E-2614181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907-28F3-46EF-9ACE-5FE66D1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629-B7F9-44B9-B756-1E9CA219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AFD-8B5B-4F45-B85E-07471AEB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C83-9858-481C-B88A-30370EE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D2E-E4D6-4AA1-B252-1418AC7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BC7-7749-4832-B242-B2DFB4E06F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148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35280" y="220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3933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6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62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21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21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4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71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       </a:t>
            </a: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  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       </a:t>
            </a: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  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141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65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4797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836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852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581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941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91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3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119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6:51Z</dcterms:modified>
  <cp:revision>63</cp:revision>
  <dc:subject/>
  <dc:title>TITLE</dc:title>
</cp:coreProperties>
</file>