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0B4-44A7-4E4D-9A7C-18E5819DB3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28B3-B9A0-4BC8-B51C-2933BA2D87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8B0-6816-4248-A01C-E9EE7B36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3CD-E158-4874-BA1C-D1486C3E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614-36C6-4032-9A40-B11A684A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642-1E3F-48E2-9EAE-63120DF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4CB-BCD8-4E2E-A953-E1013195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AC4-1A9B-4C0D-9D5F-C6FC9FE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159-B793-441C-AB30-41E4A90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E7A-A096-4023-99C7-C046DBF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929-7075-4099-B202-0764B34D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23C-9D09-4DEA-AA1C-47DA1B7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378-CA66-48D2-975A-12375FE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961-2236-43A0-8176-C881B28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0EE-0BC5-4BF8-BAC2-98D6CA9B4E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15092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95280" y="1989000"/>
            <a:ext cx="1152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a jira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24000" y="260280"/>
            <a:ext cx="1160640" cy="14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124000" y="1700280"/>
            <a:ext cx="115092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t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80000" y="260280"/>
            <a:ext cx="1338120" cy="190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780000" y="2133720"/>
            <a:ext cx="133164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elef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651640" y="260280"/>
            <a:ext cx="1250640" cy="160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1640" y="1844640"/>
            <a:ext cx="1224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p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ü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380360" y="260280"/>
            <a:ext cx="1271520" cy="118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7380360" y="1413000"/>
            <a:ext cx="125892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le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24000" y="2924280"/>
            <a:ext cx="129528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4581360"/>
            <a:ext cx="129528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flame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979640" y="2708280"/>
            <a:ext cx="1403280" cy="105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79640" y="3762360"/>
            <a:ext cx="140328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cocodr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860640"/>
            <a:ext cx="1368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m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780000" y="2852640"/>
            <a:ext cx="1368360" cy="10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5580000" y="2708280"/>
            <a:ext cx="1621080" cy="12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580000" y="3933720"/>
            <a:ext cx="1656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hipopót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524720" y="2565360"/>
            <a:ext cx="1295280" cy="1228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24720" y="3789360"/>
            <a:ext cx="129528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c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1979640" y="4869000"/>
            <a:ext cx="1430280" cy="114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79640" y="6021360"/>
            <a:ext cx="1440000" cy="6476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3924360" y="4869000"/>
            <a:ext cx="1684440" cy="95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924360" y="5805360"/>
            <a:ext cx="1692360" cy="64800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31T13:49:47Z</dcterms:modified>
  <cp:revision>152</cp:revision>
  <dc:subject/>
  <dc:title>TITLE</dc:title>
</cp:coreProperties>
</file>