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AE2A-71DD-44C2-96E9-562D528F17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1A21-2243-413A-8AFE-630A18700A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414-AC56-4329-8996-CB442528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917-8B56-4D31-947F-3D4829D5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64B-380C-4B21-B33C-B94B7EA8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99A-9F31-491C-AAC7-F31F00F3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F8C-7D57-4E31-A300-8837E824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02B-3E72-4033-80FA-EFF244B2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299-A1B9-4636-B0E9-F988DD97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AB7-8817-4592-8C99-9B32F5AD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BA8-8FD8-4AC8-9F3A-88BB6B39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35F-3417-45F9-88DB-501E2458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883-998E-417C-A597-78D92D88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967-340B-4D4F-8A7D-082C8BB9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B843-C895-430C-8ADB-0B373F1A1C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150920" cy="172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95280" y="1989000"/>
            <a:ext cx="1152360" cy="64800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a jira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24000" y="260280"/>
            <a:ext cx="1160640" cy="14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124000" y="1700280"/>
            <a:ext cx="115092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ti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780000" y="260280"/>
            <a:ext cx="1338120" cy="190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3780000" y="2133720"/>
            <a:ext cx="133164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elef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651640" y="260280"/>
            <a:ext cx="1250640" cy="1604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5651640" y="1844640"/>
            <a:ext cx="122400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p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ü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380360" y="260280"/>
            <a:ext cx="1271520" cy="118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7380360" y="1413000"/>
            <a:ext cx="125892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le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324000" y="2924280"/>
            <a:ext cx="1295280" cy="166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24000" y="4581360"/>
            <a:ext cx="1295280" cy="64800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flame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1979640" y="2708280"/>
            <a:ext cx="1403280" cy="105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979640" y="3762360"/>
            <a:ext cx="140328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cocodr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3860640"/>
            <a:ext cx="1368360" cy="64800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m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3780000" y="2852640"/>
            <a:ext cx="1368360" cy="104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5580000" y="2708280"/>
            <a:ext cx="1621080" cy="122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5580000" y="3933720"/>
            <a:ext cx="165600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hipopót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7524720" y="2565360"/>
            <a:ext cx="1295280" cy="1228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524720" y="3789360"/>
            <a:ext cx="129528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c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1979640" y="4869000"/>
            <a:ext cx="1430280" cy="114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979640" y="6021360"/>
            <a:ext cx="144000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3924360" y="4869000"/>
            <a:ext cx="1684440" cy="95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924360" y="5805360"/>
            <a:ext cx="1692360" cy="64800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r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31T13:49:47Z</dcterms:modified>
  <cp:revision>152</cp:revision>
  <dc:subject/>
  <dc:title>TITLE</dc:title>
</cp:coreProperties>
</file>