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1E33-1F02-4264-81BF-A41F23DFA0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AF38-041E-4D0E-978B-8C8E2CC776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30E-BA3B-49ED-B400-854DF285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602-C049-4706-8382-CD699F7F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B0A-33FB-4703-A540-35172097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D6C-9CE9-47C0-AA2D-03AA04A2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6A5-8AED-4C95-8D24-677E9798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DD7-21F7-4FCD-BFFD-849F8AE2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5CE-24DC-400C-92F5-D90B55FF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C44-A171-4BF3-AF88-65B90B59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F2F-A2D5-4B5F-BF00-8AEE9560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594-989A-4C6E-ABE5-C6182D49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D9C-6F37-4367-822E-B9CB2454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3C4-A2DF-45E0-A36F-81177B78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5E6A-D9B5-4CB7-A390-03A6815515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1511280" cy="107028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rcRect l="17027" t="4224" r="15893" b="10743"/>
          <a:stretch/>
        </p:blipFill>
        <p:spPr>
          <a:xfrm>
            <a:off x="2700360" y="333360"/>
            <a:ext cx="1368360" cy="115560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4"/>
          <a:srcRect l="0" t="0" r="0" b="8185"/>
          <a:stretch/>
        </p:blipFill>
        <p:spPr>
          <a:xfrm>
            <a:off x="5148360" y="333360"/>
            <a:ext cx="957240" cy="107172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2" name="il_fi" descr=""/>
          <p:cNvPicPr/>
          <p:nvPr/>
        </p:nvPicPr>
        <p:blipFill>
          <a:blip r:embed="rId5"/>
          <a:stretch/>
        </p:blipFill>
        <p:spPr>
          <a:xfrm>
            <a:off x="7164360" y="333360"/>
            <a:ext cx="1514520" cy="115416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6"/>
          <a:srcRect l="14712" t="0" r="17263" b="0"/>
          <a:stretch/>
        </p:blipFill>
        <p:spPr>
          <a:xfrm>
            <a:off x="684360" y="2924280"/>
            <a:ext cx="909360" cy="133812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2771640" y="2924280"/>
            <a:ext cx="1143000" cy="111276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5003640" y="2924280"/>
            <a:ext cx="1057320" cy="105408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7236000" y="2924280"/>
            <a:ext cx="1371600" cy="103032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1187280" y="5589720"/>
            <a:ext cx="1152720" cy="103320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11"/>
          <a:stretch/>
        </p:blipFill>
        <p:spPr>
          <a:xfrm>
            <a:off x="5148360" y="5516640"/>
            <a:ext cx="1368360" cy="113508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68360" y="1484280"/>
            <a:ext cx="151128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 caba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1484280"/>
            <a:ext cx="136692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a ov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1413000"/>
            <a:ext cx="151128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 gat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484280"/>
            <a:ext cx="226692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 rinocero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4221000"/>
            <a:ext cx="100800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4005360"/>
            <a:ext cx="115272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 pe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4005360"/>
            <a:ext cx="151128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 perr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6000" y="3933720"/>
            <a:ext cx="136836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5589720"/>
            <a:ext cx="151128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 ce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16720" y="5516640"/>
            <a:ext cx="151128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a v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3-31T13:53:09Z</dcterms:modified>
  <cp:revision>164</cp:revision>
  <dc:subject/>
  <dc:title>TITLE</dc:title>
</cp:coreProperties>
</file>