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84A8-0A4E-4F00-9F0E-386FEB4E28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5B0B-AD01-4BB5-9058-87654BA00E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550-804C-4C41-AE61-71032545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123-F3F8-49A3-B544-6F19FD62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12A-B384-4C0F-880A-13003195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F84-A129-4821-89BC-2E94D54C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268-2E9D-46F1-89B4-20DD44BA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A36-36DC-402B-A487-E32AF824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B22-B764-4273-BD94-59F00A34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FB1-4CC2-4F4F-A724-4215CB26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351-F094-42BB-81C7-866D7AA1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83A-2E89-4127-87F0-A786DE79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75C-EF9D-48A1-BCAC-25488AB6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45E-6420-4D81-B3D4-6D771EF4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524A-E59F-4632-9D32-DD5BD9E366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511280" cy="107028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7027" t="4224" r="15893" b="10743"/>
          <a:stretch/>
        </p:blipFill>
        <p:spPr>
          <a:xfrm>
            <a:off x="2700360" y="333360"/>
            <a:ext cx="1368360" cy="115560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rcRect l="0" t="0" r="0" b="8185"/>
          <a:stretch/>
        </p:blipFill>
        <p:spPr>
          <a:xfrm>
            <a:off x="5148360" y="333360"/>
            <a:ext cx="957240" cy="107172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2" name="il_fi" descr=""/>
          <p:cNvPicPr/>
          <p:nvPr/>
        </p:nvPicPr>
        <p:blipFill>
          <a:blip r:embed="rId5"/>
          <a:stretch/>
        </p:blipFill>
        <p:spPr>
          <a:xfrm>
            <a:off x="7164360" y="333360"/>
            <a:ext cx="1514520" cy="115416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6"/>
          <a:srcRect l="14712" t="0" r="17263" b="0"/>
          <a:stretch/>
        </p:blipFill>
        <p:spPr>
          <a:xfrm>
            <a:off x="684360" y="2924280"/>
            <a:ext cx="909360" cy="133812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2771640" y="2924280"/>
            <a:ext cx="1143000" cy="111276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5003640" y="2924280"/>
            <a:ext cx="1057320" cy="105408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236000" y="2924280"/>
            <a:ext cx="1371600" cy="103032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1187280" y="5589720"/>
            <a:ext cx="1152720" cy="103320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5148360" y="5516640"/>
            <a:ext cx="1368360" cy="1135080"/>
          </a:xfrm>
          <a:prstGeom prst="rect">
            <a:avLst/>
          </a:prstGeom>
          <a:ln w="19080">
            <a:solidFill>
              <a:srgbClr val="fffff7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68360" y="148428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caba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484280"/>
            <a:ext cx="136692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ov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141300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gat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484280"/>
            <a:ext cx="226692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rinocero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4221000"/>
            <a:ext cx="100800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005360"/>
            <a:ext cx="115272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pe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400536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perr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3933720"/>
            <a:ext cx="136836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558972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c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5516640"/>
            <a:ext cx="15112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v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31T13:53:09Z</dcterms:modified>
  <cp:revision>164</cp:revision>
  <dc:subject/>
  <dc:title>TITLE</dc:title>
</cp:coreProperties>
</file>