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FE30-8E9C-409F-BCDE-426D437E18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BF28-7CFA-4A54-907A-0B6DC4D69E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64FA-70E0-4FE6-93DA-F93545888E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48A-5D4F-4342-A2FC-0998D21A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A7C-B1E9-411D-8429-397627DF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C66-1D50-4E94-BBEC-DFC1DC72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97F-52C9-4C6E-9223-03E3EBBA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A6D-080D-4F31-A4D5-C6F76AC3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C2F-31EF-45E5-AD1C-4193AEA0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B3C-D80D-4800-BEA2-BA203935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399-566B-41AF-9C3E-4333ABEA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5E1-4AB8-4D10-8816-838B408E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E37-DEBB-4C49-A839-275F33B5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AA5-655D-44E8-914C-2BAB194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37C-2667-4FC7-89AB-BCE14D4F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871-D4B5-4117-B0FB-DB741D14D4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297240" cy="640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765000"/>
            <a:ext cx="2664000" cy="6126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az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bez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tóma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br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n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ern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d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297240" cy="640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765000"/>
            <a:ext cx="2664000" cy="6126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az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bez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tóma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br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n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ern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d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924360" y="1413000"/>
            <a:ext cx="2519280" cy="792000"/>
            <a:chOff x="3924360" y="1413000"/>
            <a:chExt cx="2519280" cy="792000"/>
          </a:xfrm>
        </p:grpSpPr>
        <p:sp>
          <p:nvSpPr>
            <p:cNvPr id="55" name=""/>
            <p:cNvSpPr/>
            <p:nvPr/>
          </p:nvSpPr>
          <p:spPr>
            <a:xfrm>
              <a:off x="5435640" y="1773360"/>
              <a:ext cx="1008000" cy="43164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24360" y="1413000"/>
              <a:ext cx="1655640" cy="6426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5796000" y="475920"/>
            <a:ext cx="1297080" cy="14436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26028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859280" y="2565000"/>
            <a:ext cx="2160720" cy="36036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56536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03640" y="3357360"/>
            <a:ext cx="936720" cy="71892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3716280"/>
            <a:ext cx="1656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219640" y="4149720"/>
            <a:ext cx="1657440" cy="79200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8360" y="450864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46560" y="4797000"/>
            <a:ext cx="1873440" cy="86364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5300640"/>
            <a:ext cx="1656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6426360"/>
            <a:ext cx="1584360" cy="2700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606600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60280"/>
            <a:ext cx="16556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141300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r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2565360"/>
            <a:ext cx="230508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stóm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3716280"/>
            <a:ext cx="1656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450864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i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5300640"/>
            <a:ext cx="1656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od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6021360"/>
            <a:ext cx="165564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29T15:12:55Z</dcterms:modified>
  <cp:revision>142</cp:revision>
  <dc:subject/>
  <dc:title>TITLE</dc:title>
</cp:coreProperties>
</file>