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E95-5509-49CC-8477-4A28205F32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A2E3-F91A-4249-A4F3-403F024BA9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0196-FE12-42B2-949E-026C7ED442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98C-8A08-4984-9250-D5963B09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B36-7730-44FE-89B6-A4AE43B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49D-F0D7-48AE-8BA4-E54BE211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661-3E77-45D3-B157-541CAB13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AF3-733A-417D-B308-EA87752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705-0CDF-4159-99DC-F5652643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254-4E44-4BB5-BFED-A2BDD797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54D-DBD8-4B5F-9B1F-2B2D52D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413-11E8-4243-A3F8-FAB4089E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074-6CD7-435B-AF83-D34921D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F78-FFD3-4200-8744-E597C3D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F09-6B2F-42BD-8698-EB3DA53E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C93-E7D0-4DBF-AFCE-9BE10F10B6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297240" cy="64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765000"/>
            <a:ext cx="2664000" cy="6126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az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bez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br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rn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297240" cy="640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765000"/>
            <a:ext cx="2664000" cy="6126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az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bez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br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rn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24360" y="1413000"/>
            <a:ext cx="2519280" cy="792000"/>
            <a:chOff x="3924360" y="1413000"/>
            <a:chExt cx="2519280" cy="792000"/>
          </a:xfrm>
        </p:grpSpPr>
        <p:sp>
          <p:nvSpPr>
            <p:cNvPr id="55" name=""/>
            <p:cNvSpPr/>
            <p:nvPr/>
          </p:nvSpPr>
          <p:spPr>
            <a:xfrm>
              <a:off x="5435640" y="1773360"/>
              <a:ext cx="1008000" cy="43164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24360" y="1413000"/>
              <a:ext cx="1655640" cy="6426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5796000" y="475920"/>
            <a:ext cx="1297080" cy="14436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26028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59280" y="2565000"/>
            <a:ext cx="2160720" cy="36036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56536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03640" y="3357360"/>
            <a:ext cx="936720" cy="71892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371628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219640" y="4149720"/>
            <a:ext cx="1657440" cy="79200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450864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46560" y="4797000"/>
            <a:ext cx="1873440" cy="86364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530064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6426360"/>
            <a:ext cx="1584360" cy="2700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606600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60280"/>
            <a:ext cx="16556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141300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r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2565360"/>
            <a:ext cx="230508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371628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450864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i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530064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602136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29T15:12:55Z</dcterms:modified>
  <cp:revision>142</cp:revision>
  <dc:subject/>
  <dc:title>TITLE</dc:title>
</cp:coreProperties>
</file>