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5A8C-A2B6-4E9F-B556-451ABF7D51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DF4B-3020-4546-8EC0-97D12E1754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6078-4C00-42DE-BE5D-D082E06ED8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8B23-CE24-4BB5-A7E4-DF090188E1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AC70-F741-4E9F-9FC5-D3B6F95F22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28DC-2E1F-4646-AC62-36D53AB1E1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70D1-5608-476D-9C8A-5BF37A7D4E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4EDC-E9F5-4EBF-A352-EA00E01935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F94-4415-4E7F-9A81-65A5A224C2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665-11C3-4B92-B94F-3C927C9ED1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1175-5C44-4890-A641-EE06FBCBE0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42E3-ED95-415F-8F18-692DBE03B0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CF8-13A5-4F1A-815F-EE66864D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A5E-3CA5-4A7C-AFEF-1B96F1BC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8E8-91D0-448D-ADCA-0373E72A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0ED-E1B7-42A9-B006-E6AC96C2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7612-AC26-4B5A-AD44-5A0AD63B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0E71-5D26-40B2-8F19-85211009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31EE-C1EC-4B01-B122-9D1CEDF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B2D-30DC-4E35-98D3-42120351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21B6-7618-433E-83E8-9AD1FE2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C253-C673-44E3-A288-F49F9517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910B-060B-4B0D-B429-CDD7EDD6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77D-0418-4750-B709-58B5581B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5C78-FE04-4797-AB03-E1F0C70B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FC39-2F9A-47EA-ACA9-31D6932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A9A2-1257-4AD8-91DE-33B2F5F7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15E-404E-40B8-BC93-B11DD39A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8A8-E884-4C4D-B330-01BA0463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D35A-382B-4B3D-9856-955F5B8E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BD51-F899-4FE4-ACA0-3F74BDED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C12A-6ED9-40A1-9F67-B34C00A4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9B8E-735C-4849-BDBC-F2AF20AB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6E96-75A0-461A-B307-79EC2506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658-3AD4-474D-B07E-EAA7DB0F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1F77-DD56-45BC-B401-1524AC7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E69E-FE40-4DED-B86D-4D43A61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450B-3959-4D89-B66C-02C17F32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E501-98F9-43F4-AC8F-4AADF45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9493-B292-4D7A-B38A-D05BC53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2CBA-6A74-4604-B4FC-739E53C4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5866-1DF1-4B33-B7B3-DB04C745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002-C88F-4925-900B-9F4D9696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10D-2248-4EC5-A8DA-210B53D4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18C-2420-4E3B-B3E7-BB6C99E8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68A-65C8-4A8C-8162-4AE5192D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791-A56C-43B5-B0E3-2CFD8AD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150-B4F4-4D46-B658-43C4591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A6DA-585B-4B18-A23B-74662D194D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0177-51B6-4F56-84CA-A6AA4ECFFD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9DA0-D15A-4B6A-A1C5-F5163656BC4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0" y="234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ow much do you know about languag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249640" y="3879720"/>
            <a:ext cx="464472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62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108000" y="5013360"/>
            <a:ext cx="89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369.7 million people speak English as first language / mother tong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463 million people speak Spanish as first language / mother tong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94644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6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907920"/>
          <a:ext cx="8928000" cy="189072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8000" y="907920"/>
          <a:ext cx="8928000" cy="240840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8000" y="907920"/>
          <a:ext cx="8928000" cy="292752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0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000" y="907920"/>
          <a:ext cx="8928000" cy="3872160"/>
        </p:xfrm>
        <a:graphic>
          <a:graphicData uri="http://schemas.openxmlformats.org/drawingml/2006/table">
            <a:tbl>
              <a:tblPr/>
              <a:tblGrid>
                <a:gridCol w="527040"/>
                <a:gridCol w="7608960"/>
                <a:gridCol w="79200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ut 6,500 languages are spoken in the world to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ia is the continent with the most langua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 people in the world are monolingu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 is spoken in 20 countr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people speak English as their first language than Spanis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56" name="TextBox 4"/>
          <p:cNvSpPr/>
          <p:nvPr/>
        </p:nvSpPr>
        <p:spPr>
          <a:xfrm>
            <a:off x="10800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ru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or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fals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3:46Z</dcterms:modified>
  <cp:revision>345</cp:revision>
  <dc:subject/>
  <dc:title>TITLE</dc:title>
</cp:coreProperties>
</file>