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858-4D23-4746-9F64-89DBF76F5B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3ED7-F759-46FA-AE0C-CC39A4EE47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49C9-7471-4016-8C6F-3A3160C70C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ADEC-BF77-457D-A7DB-7133DA7757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511-83D9-4B6F-8C1A-E6798C976C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DF08-9C5D-4A32-A9C7-39EB6964EE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900B-BC9A-412B-99DE-87615266C6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2E12-2A2C-4CB0-897F-CA26C13311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24FC-D90C-433C-9BE9-21A6902F40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B57-B961-4C9F-B720-31B86F0894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F9DE-7B3D-44B6-9EBE-8639F43D05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C8DF-DFBE-43C0-9496-0875D1B738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565-9799-49DE-98DF-D071DA7F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EB6-C7B3-45DA-8407-1286108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C7A-9215-4D8C-903C-CAAF9590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CE5-6720-4F45-A221-30F8CA2F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0A8-81B6-4F00-A809-E5AFD882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9F55-96BE-4143-B503-09A7F6D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AFB6-7A48-48D4-9F42-A998F1C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C3FD-DD63-4545-B168-DE175A0D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ACB7-39EC-4CD3-9D64-5054848A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42D0-7E2F-4FE9-8E66-77F622FE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C312-063C-4131-9C05-6483C45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999-A42C-4A6B-B3D3-A216D9DC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ACD-2266-435A-B90E-4917F4C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41C3-BE81-4D6E-8276-E0C5A34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03D0-70DB-4C46-86D5-F7207C62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54F1-83B1-4185-A382-9A2B48F0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D56-6AC0-40B2-BDEA-4080A994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BA21-5173-4D2B-A4A6-FF256A1F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DA3B-9038-4A17-9883-ADC82A7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348E-137E-40ED-9E53-D2D3B27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E8BD-2571-4108-8206-6C46D80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E5C0-6171-4C75-B350-F9667B4B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A5C-B91B-47E3-A3BF-2FDBD5A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EBA4-E652-43A7-8CE0-0A99EAE0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B7FB-3B4A-45BC-A81D-63614732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7F26-5EAE-4F39-9FB0-E700AFC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05C5-135A-4656-97D9-D30DE26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A13D-7A92-4698-9F18-0D3E9943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4C13-5B66-430D-A42C-93EF8767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2B3E-C835-4741-8713-75A25BA4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098-4247-4E9E-889F-6D53C7C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808-321F-4671-8F97-1B789E1B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B63-A77F-4289-814F-28139267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C6F-56DA-4D19-80EC-FD92111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D82-B22D-4AE9-B407-83C1EF59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B40-871F-46F5-9010-06D54EC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8CC-28B4-4304-A332-85E62A3D35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F0FE-A911-4D4D-8A22-7A25DEEC25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4940-599B-43FB-AD9E-EB52A7428D2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0" y="234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ow much do you know about languag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49640" y="3879720"/>
            <a:ext cx="4644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2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108000" y="5013360"/>
            <a:ext cx="89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369.7 million people speak English as first language / mother tong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463 million people speak Spanish as first language / mother tong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94644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6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907920"/>
          <a:ext cx="8928000" cy="189072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8000" y="907920"/>
          <a:ext cx="8928000" cy="240840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8000" y="907920"/>
          <a:ext cx="8928000" cy="292752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0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6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3:46Z</dcterms:modified>
  <cp:revision>345</cp:revision>
  <dc:subject/>
  <dc:title>TITLE</dc:title>
</cp:coreProperties>
</file>