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2E4-3E57-435C-83CE-B002F413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CB2-06E3-44CC-BB0E-17DC9E27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99C-6399-41DE-8DE9-E02B037E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24C-16E8-4167-A574-9A981759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D444-6CD9-412F-83D5-AD1C8ADE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C1C-4E5D-4232-8F2F-680F9446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E0C9-1850-4ECD-869C-1555EF3D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042-B562-4CC7-B8D6-D54FB035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F30B-81E3-44EA-8816-5DD839D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2E62-8754-46A1-82E1-6F736647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8E52-0500-470A-A6B3-CE0919C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4D0-8042-4163-938A-A9E5EA23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86B-277E-41D6-902D-74EB06EC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9EFF-FA37-4019-B8F2-142E195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63E2-E769-4EFE-A4CE-864B078B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D581-BE4F-4A52-A188-4BD23497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CEAB-0342-4ED9-B4B5-407F6BE4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E369-A388-468E-A646-EEFA41A6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EE6C-4849-49F3-8739-09A7BF05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F614-0325-4524-97A4-3EA0D43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8F3A-69D6-4BB9-B506-B4B9DA1C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A21C-E8EE-4B47-B0C8-EBD67818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CFB-B37B-4F8A-96E8-E2A20BB2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0490-CB91-4E79-9509-43CB362B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7267-3644-4B43-9C61-02614BD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4489-E70E-48CE-8CD4-1F6DF149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1F4B-1B45-44CD-8CC0-23DF202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1B8A-8DAE-4009-A515-E5E59793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FA06-A5EE-4DC1-82CA-E7C285A2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9288-F195-4A52-BC61-71D6F535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1FD-074D-423F-9229-79F25715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85A-ED5C-4E5A-9578-79BD7A16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789-51BE-4AE6-933D-22E7FB3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43E-C03D-4EDC-BB2B-C57B012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66B-4790-49F2-861D-9743D280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A68-0F48-4C21-A40B-1E06F59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104F-86F5-47C5-A6CD-BB95D81DF8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A5CA-DF68-4F79-8074-1E2AD3434E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0378-F3AE-4815-AD04-68ECD615268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649760" y="0"/>
            <a:ext cx="449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mici 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732720" y="1050840"/>
            <a:ext cx="21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orn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59200" y="3044880"/>
            <a:ext cx="204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laud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804000" y="51037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Li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054320" y="1592280"/>
            <a:ext cx="17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lā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940280" y="5862600"/>
            <a:ext cx="244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cel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649760" y="4365720"/>
            <a:ext cx="19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985080" y="3813120"/>
            <a:ext cx="17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etr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6300720" y="2157480"/>
            <a:ext cx="17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Luci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7:02Z</dcterms:modified>
  <cp:revision>89</cp:revision>
  <dc:subject/>
  <dc:title>TITLE</dc:title>
</cp:coreProperties>
</file>