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0F1-981B-4CA1-BD86-29F23402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4A4-83CD-4867-8AEC-ECD1BF3B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C9D-A2AD-4E30-A7A4-443DCD3F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AA1-E249-4F70-B9F2-D76BE445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39DB-69FC-4E07-A8A2-8132DEFC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BB43-28BC-43B7-9761-22B7FF75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9A2B-D686-49CD-9B11-A24EF168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C87D-05A2-483E-B5D1-DD9FA2F5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17ED-61AD-4222-8313-097BE5E7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9759-966D-4817-B1CB-262CA671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1F28-4F55-4EA5-B448-BD940F3D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4C0-81F7-4BC4-9DAB-0D2CDC24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9149-BCC1-4284-9256-47A753A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2689-43D5-4F4D-8A4C-480DD7B9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5EB9-EBE3-46F1-84E0-DA224937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EDD9-8504-4C67-8F95-ACAA4D70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C603-A6AC-4519-BE63-1B11BCD1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4DE5-2151-4B73-9A1F-EF124EA4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C1A0-F2B0-4922-96D8-5B87BC83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8774-D96E-4B06-934B-F478470A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1631-E166-4AFA-8B97-0FDA556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A896-3B68-4B0C-8717-4D3F5C9D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03B-8786-4BDF-944B-FF56EFED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161A-F6A3-4A17-A9FB-4C6A9360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577B-E3E3-46D2-80EE-3C50045D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0260-1D6B-44C4-9CF9-E3EEADD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6B19-2E06-4BAE-81D2-DCD384F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3509-0B08-4ECA-86AB-E49F2AEF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0392-46D7-4135-935A-891ABD7F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395D2-4B9E-48BB-9644-2C4C5315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154-EBAE-4CAF-8555-26C560E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971-6A25-4243-BF1E-FD50C3EA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B45-9141-49AE-8C1F-91C840C0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222-1B8D-4BFD-AC0B-A28AE0B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37E-81B9-4453-9AD2-B71070E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689-877B-4FD5-9041-8E04C3E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E1ED-4263-49BE-ACE8-901DA4B41C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FD2B-75D1-47ED-AAB2-276738AA38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362E-444E-494E-8BBF-70FC7599149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4649760" y="0"/>
            <a:ext cx="449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mici 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732720" y="1050840"/>
            <a:ext cx="21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orn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59200" y="3044880"/>
            <a:ext cx="204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laud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804000" y="5103720"/>
            <a:ext cx="17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Liv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054320" y="1592280"/>
            <a:ext cx="17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lāv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940280" y="5862600"/>
            <a:ext cx="244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cel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649760" y="4365720"/>
            <a:ext cx="19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985080" y="3813120"/>
            <a:ext cx="17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etr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6300720" y="2157480"/>
            <a:ext cx="17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Luci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7:02Z</dcterms:modified>
  <cp:revision>89</cp:revision>
  <dc:subject/>
  <dc:title>TITLE</dc:title>
</cp:coreProperties>
</file>