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9CA13-2BB6-4C8E-8C77-2E3D7F8101D8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Moth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ath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is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roth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Grandmoth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grandfath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35AF8-D80A-41E1-AF6B-E3B31E64D0A7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3628E-AD5B-48CC-8E7C-944C33851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E239A-A640-4310-B8DD-AD48DFE31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DEB30-D7A0-448D-BBBA-7544CD7E5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B2D45-23B9-47AF-8183-E1534BBC7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F4865-6B22-47BD-B600-540B5FC2C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1F466-B26F-4E36-9638-72AEEC38A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4163B-5306-4948-9402-286AEFF1F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C9312-9F59-4255-BB0D-3C8078C85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10519-99CE-4A23-9BD0-CF920A512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48C87-6AFB-4A7A-AED5-B9B396B83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E0F08-0A4D-4CC6-B8D5-B2C6CD47A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51DE0-9AF2-499D-9F26-9620073F2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ECD16-F04F-4963-AC37-C5C9EDE5C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20513-A1F7-44C9-8004-42726115A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332B4-D7A1-420A-8875-746CED015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5708F-271C-416B-8E5E-C0A980ADC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C29BF-D690-4695-8DF5-51D0FE935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D42D00-20B9-4FB9-92FF-B90B927F0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5C037A-BA9A-4B3E-AC3F-A72F3423D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5CF09F-E5F1-4405-A369-CE88004B2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BE9B5C-BD2A-454E-ADA1-4673FA5E3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D6A4C7-0CA7-4A00-B0BC-C5AE8953F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C2CA3-125E-497B-9B06-DF948C07F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7FACEB-C009-40B2-910D-068243F30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D689B0-1A8B-4769-B2FA-59F3556E7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90C8CF-B245-4EE2-9E38-38483D5AF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502A55-E976-4CE5-9B45-316335DBF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A31D53-78E3-48D8-B2C8-90E415CFC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155E0D-05D8-4183-A99D-DC484F15B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AF5C2B-1842-4797-A6BC-D91F99FAC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5C767-5EA5-445A-B9D0-99652E310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2BC57-0092-4EDD-A5AE-D16EB6868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93301-AF3C-4933-A58F-36E990146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97128-3655-48FF-BED7-AB4DA077A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96CE8-B964-4B60-91A1-3576F810D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BE697-D147-4245-A047-D0FFCDFF2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d9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0E090-6CB0-4BDB-9759-896F16C703FC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d9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67CFD-5843-4A96-8476-4E27A51C2F14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d9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5FE3D-198B-4565-8181-728AA8D71170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4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" descr="http://4.bp.blogspot.com/-TMLK3EXFKVA/T2EhW-QCTmI/AAAAAAAAADg/YKrqiTF8Z1Q/s1600/latin+words.jpg"/>
          <p:cNvPicPr/>
          <p:nvPr/>
        </p:nvPicPr>
        <p:blipFill>
          <a:blip r:embed="rId1"/>
          <a:srcRect l="34892" t="0" r="35190" b="0"/>
          <a:stretch/>
        </p:blipFill>
        <p:spPr>
          <a:xfrm>
            <a:off x="0" y="0"/>
            <a:ext cx="2057400" cy="68580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4" descr=""/>
          <p:cNvPicPr/>
          <p:nvPr/>
        </p:nvPicPr>
        <p:blipFill>
          <a:blip r:embed="rId2"/>
          <a:stretch/>
        </p:blipFill>
        <p:spPr>
          <a:xfrm>
            <a:off x="1530360" y="2133720"/>
            <a:ext cx="3119400" cy="5016240"/>
          </a:xfrm>
          <a:prstGeom prst="rect">
            <a:avLst/>
          </a:prstGeom>
          <a:ln w="0">
            <a:noFill/>
          </a:ln>
        </p:spPr>
      </p:pic>
      <p:sp>
        <p:nvSpPr>
          <p:cNvPr id="132" name="TextBox 5"/>
          <p:cNvSpPr/>
          <p:nvPr/>
        </p:nvSpPr>
        <p:spPr>
          <a:xfrm>
            <a:off x="4649760" y="0"/>
            <a:ext cx="4494240" cy="61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mat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pat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soror  /  german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frater  /  germanu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av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avu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 Seccombe</cp:lastModifiedBy>
  <dcterms:modified xsi:type="dcterms:W3CDTF">2014-07-19T20:40:38Z</dcterms:modified>
  <cp:revision>93</cp:revision>
  <dc:subject/>
  <dc:title>TITLE</dc:title>
</cp:coreProperties>
</file>