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D91-BFA9-4C92-BE5B-16B7B21455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9E5-20ED-45CA-AD67-8FE6A51303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97F-9455-4249-A437-01E98DEC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A3D-6313-409B-BEF5-92C1E4CD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244-BD2B-468D-AE2B-40AC3309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CD-E254-4DAA-9515-7B4CE1F8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584C-D323-4F04-AD81-7706A62E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B2CE-638B-477C-B15C-719C963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280-C424-4795-8F73-98BEDC5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107-5D1F-420D-9C80-44F49D4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3CE-06DE-434E-A8AA-FC671CD3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40F3-E38C-4372-B254-E1CF01A8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4B4-5229-4055-AA61-4AFCCF8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6C6-25CF-469F-8D5A-E3BF0B2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4A4A-2AD7-4147-8B48-0C26CBD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6A1-2437-49F1-B9F9-F8DF417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65DA-841B-4F99-96EE-4C0D6461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79DB-4872-428B-81BA-E3A9E523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67E-F2C6-4938-8FF8-D55E33A6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4CD2-38E6-4F09-93A0-814F1F9B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E706-8921-4BF3-ABB0-FBE0885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F10B-69AD-4833-AB38-08AA126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8E81-214A-406A-951C-44AE600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BD10-B2FF-40B0-A149-29A8942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0B4-8DBE-4606-83D3-5BC3582D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5958-5788-4E28-B29C-27DA0F6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5363-7920-406C-A2E2-B7DC6FC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6E7E-1AFF-452C-8FCB-431ED78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88CF-75F5-41AD-A121-8DAC153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FAFC-67B5-49F6-92A7-8C15956D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F19F-5FF7-4572-92BE-35E5CCC9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9A17-D64D-45F4-9DC7-5A1D7A75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316-7763-4B23-98CE-BBA7D30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E72-00A1-4BF8-99C5-7957581D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D5F-3300-4A64-A435-14597EB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BA1-B454-417C-991F-9471FC1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BC7-2EF7-4774-BBC4-D97FF396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E85-AE1D-4E3A-AE57-8AFC666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9840-1BD2-4564-AB44-A2C97C8E55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39B-F36C-44D8-AFEC-053911161F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981E-B355-43CD-B77C-2F475FB7911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649760" y="0"/>
            <a:ext cx="4494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or  /  g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rater  /  german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v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9T20:40:38Z</dcterms:modified>
  <cp:revision>93</cp:revision>
  <dc:subject/>
  <dc:title>TITLE</dc:title>
</cp:coreProperties>
</file>