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F79-2D4F-475B-8157-46F127B2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EF1-92DD-4BCF-9D9B-EA9F6D1B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42A-58DC-489B-BBA9-ECE6DDC7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300-54F0-4F9C-AB9B-CC7C75D0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3AC-47CD-46B2-BEC4-4AB44AA5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207A-0909-4FCB-8E83-F762988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388-03B9-406F-BA0F-D0D3EB42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8566-55DF-4F24-8334-13900552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C6D-19D9-45A7-80E4-52202D2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0E2-3253-4163-A0CD-9CF465B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DE37-59C1-4EE3-BDEF-3E62E98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A3B-9C60-4918-90DD-B84B4BB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BA1A-B9FC-475D-9422-C1AD720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9E28-2436-4B52-AE16-884BF85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BF6E-F65E-4D9A-8935-D2EA7FE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44D-19C8-46B2-A3A7-C60850C2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5A5-F45D-440B-8ECE-4ED20443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63F8-A2AD-4815-B979-F1163FB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7913-5F5C-4E4B-B531-3D5C471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446C-0511-412E-952A-EAEED67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0117-BF4C-4DBD-B583-B267BFCD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1A72-37CB-4413-9889-495ABF8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BA7-576E-42DA-BFAC-EE2E4D5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66B6-A184-4559-BE17-F7152F2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3DE7-1E83-4747-9DEB-E9767A7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92BF-2F3C-4355-B3D2-4EC382F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E267-C4FF-45F6-B7EF-9AF5757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CF41-56AF-4CD8-B44A-7CD5039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1AF0-16B8-422B-957C-560650D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F6EB-31E7-40FC-BE4B-7962214D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C7B-FD40-4578-9C31-5703E6A0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524-42F5-498A-BA8E-406F24B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652-941C-4F48-B7F7-7A1B9106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D38-4621-4BBA-94A8-913EB44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BE2-4B8D-486E-A2DD-409CD35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B9D-5431-4155-8722-BAE3C67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3AB7-D6FF-4616-90AE-675BA18C23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84E-B5D4-4F67-B4A0-9B2E8D5B3E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E9F1-F17D-4B8F-93C0-0A1C66DD43F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4649760" y="0"/>
            <a:ext cx="4494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alv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bonum die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ihi nomen est Quintu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6:14Z</dcterms:modified>
  <cp:revision>90</cp:revision>
  <dc:subject/>
  <dc:title>TITLE</dc:title>
</cp:coreProperties>
</file>