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AAE-31E1-4461-86E2-1CEA3A3E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FE9-5C6F-445D-918B-0E405583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B0A4-47FF-4A9E-ACDB-CBE2F9E3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C3F-0471-4D0F-814D-22CEF3DA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5405-8F66-41B2-BA82-B4C1F873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777D-FD29-46A8-A899-7BB2B5F4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6A59-B487-4546-BB00-61D85647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FDB1-EF01-4E8C-8DD0-3A0BD63D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D37A-F24A-4D61-9645-6C9483FD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9F10-2784-4CD8-B110-B3C9D133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2E9C-FDD0-454E-8F9C-4EFEAA85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6C9F-27CF-4779-9044-F6B1CD73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5A85-E931-4692-A476-13B61F2D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16D8-7CAA-4FD8-ACFE-BE1E1245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9858-87AD-4399-B630-9F19DC55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B810-F491-4E27-AA39-A3E9C2AD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BB3C-FA27-4785-BB34-8B165918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7A4E3-5F87-4982-B3E2-2BC01BD0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2E0E3-1563-438F-8849-96C90308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AE7FC-2D10-438E-8BCB-3CD4532E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6E120-CB8F-438D-9CA5-84E6BA80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970A3-7E05-4E1E-B5AE-76430C92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2C8C-4749-487D-A005-5D5D6E04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38D97-32E1-44DB-9495-34429FB7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5A536-233E-43B4-86A0-1C29C304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00C34-2AF1-46B6-90E9-99F0E5F0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462B0-8F70-4C00-80E0-17488F54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59703-70F2-4012-B0FF-A0890C4C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0F056-9B74-42C1-BEB0-A02D66E0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8EF8D-1A79-4BA7-8FC6-6FB4F96B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C716-EAB4-4D9A-BF52-DBB1529E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6A0-7ED6-485F-855B-BF54A293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7B65-D2A9-4930-BF86-F2B1EE71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BBC-A498-40A1-A71F-017B8935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4AF-12E5-4B85-9847-00F0405C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AAE-C0E0-480E-9DB5-84FA4A45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A9E7-D7C3-4ED6-AC6E-1C64A2E37E1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58EA-7554-4055-9B29-F3C1341F099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A7C0-E0FC-4516-A419-D94C732C517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4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4.bp.blogspot.com/-TMLK3EXFKVA/T2EhW-QCTmI/AAAAAAAAADg/YKrqiTF8Z1Q/s1600/latin+words.jpg"/>
          <p:cNvPicPr/>
          <p:nvPr/>
        </p:nvPicPr>
        <p:blipFill>
          <a:blip r:embed="rId1"/>
          <a:srcRect l="34892" t="0" r="35190" b="0"/>
          <a:stretch/>
        </p:blipFill>
        <p:spPr>
          <a:xfrm>
            <a:off x="0" y="0"/>
            <a:ext cx="20574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1530360" y="2133720"/>
            <a:ext cx="3119400" cy="50162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/>
          <p:cNvSpPr/>
          <p:nvPr/>
        </p:nvSpPr>
        <p:spPr>
          <a:xfrm>
            <a:off x="4649760" y="0"/>
            <a:ext cx="44942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alv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bonum die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mihi nomen est Quintu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al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1-10T09:46:14Z</dcterms:modified>
  <cp:revision>90</cp:revision>
  <dc:subject/>
  <dc:title>TITLE</dc:title>
</cp:coreProperties>
</file>