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FF8-BC7C-4529-93D6-6760DC25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406-98E3-4ED5-93ED-18079386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329-3563-4BD2-8322-9BF5F30A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345-5507-497C-8CD9-E21292EB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969-D64F-4E40-BBE4-21CD4DA5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DC9-D574-4FD6-ABB1-E2538AFA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097-C19A-413C-BFBB-EF253D05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901-1936-4D74-B2A4-A4CF96BA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07F-C0D3-45A2-A19B-37F25AE9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7EE-C376-4B66-87C5-9486BC54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763-AB01-4167-BA7F-F169CAFA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D3B-96A8-457D-91ED-4F80081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B5DB-4EE6-48BC-A028-7A7890D9EB1A}" type="slidenum">
              <a:rPr b="0" lang="en-GB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5435640" y="0"/>
            <a:ext cx="37083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nu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u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re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quattuor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quinqu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ex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epte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oct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ove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ec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4716360" y="0"/>
            <a:ext cx="4427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uo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re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quattuor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quin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e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eptendeci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uodevigint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viginti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716360" y="0"/>
            <a:ext cx="4427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unu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duo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tre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quattuor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quinqu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sex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nti septe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uodetrigint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triginta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rigin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9:46Z</dcterms:modified>
  <cp:revision>99</cp:revision>
  <dc:subject/>
  <dc:title>TITLE</dc:title>
</cp:coreProperties>
</file>