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798-A6AE-4907-AFBD-C929AD32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1FB-F36E-4CBC-9DCF-0C466099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5DC-B8F6-43BC-85E5-977EF483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420-E87C-4F2D-B9C7-3D46206D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C50-D03A-4965-A312-5E804016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812-F6F3-4355-A187-B54934BD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3F4-D655-4F86-BA65-2907039C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4BC-4609-450F-BDF9-2A0E9F63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D96-57D8-4E0B-B795-8DAF59BB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A38-05B2-44F8-B022-336DC1C5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7D2-2DE8-48AA-A588-3E0CF478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7531-8ED0-4213-94FB-12409F54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1EAE-549E-4315-929C-17BB818F35FD}" type="slidenum"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4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4.bp.blogspot.com/-TMLK3EXFKVA/T2EhW-QCTmI/AAAAAAAAADg/YKrqiTF8Z1Q/s1600/latin+words.jpg"/>
          <p:cNvPicPr/>
          <p:nvPr/>
        </p:nvPicPr>
        <p:blipFill>
          <a:blip r:embed="rId1"/>
          <a:srcRect l="34892" t="0" r="35190" b="0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30360" y="2133720"/>
            <a:ext cx="3119400" cy="5016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5435640" y="0"/>
            <a:ext cx="37083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unu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du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tre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quattuor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quinqu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ex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epte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oct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nove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dec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4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4.bp.blogspot.com/-TMLK3EXFKVA/T2EhW-QCTmI/AAAAAAAAADg/YKrqiTF8Z1Q/s1600/latin+words.jpg"/>
          <p:cNvPicPr/>
          <p:nvPr/>
        </p:nvPicPr>
        <p:blipFill>
          <a:blip r:embed="rId1"/>
          <a:srcRect l="34892" t="0" r="35190" b="0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530360" y="2133720"/>
            <a:ext cx="3119400" cy="501624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4716360" y="0"/>
            <a:ext cx="44276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ci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duodeci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tredeci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quattuordeci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quindeci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edeci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eptendeci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duodeviginti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viginti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n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4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4.bp.blogspot.com/-TMLK3EXFKVA/T2EhW-QCTmI/AAAAAAAAADg/YKrqiTF8Z1Q/s1600/latin+words.jpg"/>
          <p:cNvPicPr/>
          <p:nvPr/>
        </p:nvPicPr>
        <p:blipFill>
          <a:blip r:embed="rId1"/>
          <a:srcRect l="34892" t="0" r="35190" b="0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530360" y="2133720"/>
            <a:ext cx="3119400" cy="5016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716360" y="0"/>
            <a:ext cx="44276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nti unu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nti du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nti tre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nti quattuor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nti quinqu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nti sex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nti septe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duodetrigint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trigint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trigin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49:46Z</dcterms:modified>
  <cp:revision>99</cp:revision>
  <dc:subject/>
  <dc:title>TITLE</dc:title>
</cp:coreProperties>
</file>