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E2B4-EF29-4A24-B2F7-237EFCDB66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n                 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in               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oud              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now (nix,niv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0BE4-D20A-4929-AF3F-C9B6F3D4EB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657-772D-444D-A845-8C4E2229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225-B2B8-4ECD-8ED4-4484344C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B25-98D5-4C19-BA4F-9FD3023E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00E-6FC4-4E89-943F-27556222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7733-BF2F-4402-B2D8-6E033665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3C5C-E0A4-4F23-A447-B905E82E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1BF5-C018-457D-826D-5950A6CC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043B-59F6-4F2A-8D52-9DB7BCA8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FFFB-10E2-445F-8FB3-B21CCB6D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01C8-9C48-4B2C-BBAC-4309B51C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79FA-4D15-4745-8EAD-712CF041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81B-429D-4D42-8348-EA1E5517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D65D-8278-4798-A06D-3DF9D910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4828-01EA-4AB2-919E-5DA4104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751F-8D98-477C-A9F5-3F0BF381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CDB0-1D07-4087-94CE-60FEDA0A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AC0E-E1B7-45E9-B40B-7529AA0A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2A68-9D85-4B0C-BFA6-AB1665C0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E5929-00F7-423C-B693-60159E3C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A4E7-F7BE-4C44-BFD9-B1B12E8F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9273-E459-41D3-93E3-58769238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FBB31-185B-44F0-9E68-4B08C6A8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A74-30F5-4EC9-96CE-80864438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D418-ADAB-43BE-BFA1-68192890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43711-9AEB-4A2F-903E-4B0D85D5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71205-F26F-481F-BA44-6CB4D156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F06C-776F-4B0F-ADD7-ED878C1B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DF344-E57F-453B-8810-C90E9DCD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3F4EC-37BD-40C9-AFB8-A0307D81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0999-67EF-458F-BE63-1FC6698C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FEB-54D4-4C05-BB9A-3E678FD7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797-A42E-4231-8479-DD59568D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F18-872F-41A6-A3DE-689FCA49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CF2-28DF-4CA4-BB5D-9DFEF5FA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4CE-DA13-444A-B794-D4BAD600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3CA-1F02-46B8-B40A-15DA1405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A671-0CBF-4C3C-931F-C90A5AB9AA6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9F45-D7B2-4E8A-974D-C05ABD5B4C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4AEE-1262-418D-92EF-59218E95C8E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673520" y="-171360"/>
            <a:ext cx="265932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pluvi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ub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empes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ent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ebu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gel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7265880" y="-171360"/>
            <a:ext cx="2659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gel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ca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frig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7-19T20:39:57Z</dcterms:modified>
  <cp:revision>96</cp:revision>
  <dc:subject/>
  <dc:title>TITLE</dc:title>
</cp:coreProperties>
</file>