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9660-2C04-4E25-A3AE-E782577BEBF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un                 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in               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oud              c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now (nix,niv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8CD2-4198-4964-A082-82712491ADD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C83C-C2AF-4093-B6A2-EAADE66E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36D6-8282-4EF2-BF12-CD579F78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43D-6001-44FC-9DFE-79214F1F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015-3FD9-4EA8-B20C-472B3397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2B57-2660-429A-972B-8E55229F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70F2-98AC-49F4-AD19-F42DA436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08DB-71B1-4459-9E14-1DB1D5BF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E3B6-CA15-453D-8D5B-D8929CA0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C19F-8661-4992-834D-0CD125B8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3573-DE20-419A-A49F-63106A93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8E8E-6EDC-4167-A3E2-E38036E0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5404-8298-4C5B-A24C-5385FE94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6BA3-ABE8-48A4-A614-70361231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4F19-CFD2-4AEF-9EA2-D8605977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B80B-8321-4F7F-A51F-1E6F7908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2581-7985-4183-B559-282C83E0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D65F-4AA4-4482-BD72-D297BCF4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4D568-D94D-4B9F-91EA-C733A9DD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38EF8-20EB-4D06-90A4-F5803F2D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4F891-0854-4871-86D6-D92707C0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209E9-9CB8-4389-9067-D38D6494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3119B-0DFE-4C9D-B65D-10F80F00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6F8-4F6A-47DA-B374-322A5B91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62ACF-14D1-471F-B3D0-B412B363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7CDF5-016A-4ADE-9E11-2142CC43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4F063-1715-4817-8D88-D1000478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34F13-B2DD-4CC0-B6CD-9B29EEE1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523D3-D17E-4882-B03A-77BA236F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28418-FAC6-4F06-9184-3512573D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550D0-AA02-4971-9DCD-4E2D0379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183-D288-44E2-ABB8-37809A99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029-5D61-4201-93DE-5421AA82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78E7-C254-4EE5-8718-532A4EF4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276-CC01-4E5F-B8B2-4E5DE103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8946-D379-4262-9E86-8032958D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2B9-CDB6-4D6B-BA6C-F6D11A09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C3C9-90B2-4CF8-9FF8-688592A3A0E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8E59-A043-4B97-ABD4-36CC9B13BB8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2495-9207-4A6D-AE23-B5A546E1609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4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4.bp.blogspot.com/-TMLK3EXFKVA/T2EhW-QCTmI/AAAAAAAAADg/YKrqiTF8Z1Q/s1600/latin+words.jpg"/>
          <p:cNvPicPr/>
          <p:nvPr/>
        </p:nvPicPr>
        <p:blipFill>
          <a:blip r:embed="rId1"/>
          <a:srcRect l="34892" t="0" r="35190" b="0"/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1530360" y="2133720"/>
            <a:ext cx="3119400" cy="50162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4673520" y="-171360"/>
            <a:ext cx="265932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pluvi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nub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tempest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ent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n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nebu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gelu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7265880" y="-171360"/>
            <a:ext cx="26593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gelu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cal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frig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7-19T20:39:57Z</dcterms:modified>
  <cp:revision>96</cp:revision>
  <dc:subject/>
  <dc:title>TITLE</dc:title>
</cp:coreProperties>
</file>