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69BD-CB72-420E-AD92-97B05EF1B47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D107-DB34-479D-8836-A91A2318EB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CD0C-8733-48DB-B2D3-DEFEEC2CA36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7B94-C901-49CB-80BE-BAC44AE013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9F85-32E0-4859-9DF3-5531BE8408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23B0-5503-45DC-B6D3-EB66F8D8E38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6FBB-29CB-4CD5-8F21-62DA46C67B9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2FF3-9932-4809-BC6F-7B4664FBAA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0E8C-3AC0-460A-A5AF-CD45E0CF6F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87B4-00B7-415D-BF1C-3F27138F826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2DB0-92EE-4D45-B237-56BAFC1BE9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0A0A-0383-4DDD-9562-EA320B05CDA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44E-8950-442D-BB52-A4BF81B9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F8BD-F2AB-49EC-A7C9-F2B3BF36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930-94D8-4FA1-B0D1-C9848D9F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4C4-5B27-4C13-B85F-9A7BE539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548E-8285-47E4-86C0-84191BAF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868-8139-4B14-B617-01549CE3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2B2D-9436-4FA8-BD9B-794398B5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CA7-018F-4E8C-A79C-94EC128A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411-EE79-4342-BBBF-C4FB87CB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2113-DBE7-4872-9774-859AEB2D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9E4-E54F-416C-86AD-378073D0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B71-5B5A-48C5-BF86-E36FB1FC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CE93-72B6-497C-818B-375DC13C96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ww.lightbulblanguages.co.uk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273640" y="3973680"/>
            <a:ext cx="1035000" cy="296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16"/>
          <p:cNvSpPr/>
          <p:nvPr/>
        </p:nvSpPr>
        <p:spPr>
          <a:xfrm>
            <a:off x="3152880" y="895320"/>
            <a:ext cx="293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los ojo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Oval Callout 17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084720" y="22320"/>
            <a:ext cx="3140280" cy="3139920"/>
          </a:xfrm>
          <a:prstGeom prst="rect">
            <a:avLst/>
          </a:prstGeom>
          <a:ln w="0">
            <a:noFill/>
          </a:ln>
        </p:spPr>
      </p:pic>
      <p:sp>
        <p:nvSpPr>
          <p:cNvPr id="53" name="Right Arrow 18"/>
          <p:cNvSpPr/>
          <p:nvPr/>
        </p:nvSpPr>
        <p:spPr>
          <a:xfrm rot="727200">
            <a:off x="6152760" y="1047240"/>
            <a:ext cx="1913040" cy="17172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87dee7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2987640" y="3608280"/>
            <a:ext cx="3211560" cy="3213360"/>
          </a:xfrm>
          <a:prstGeom prst="rect">
            <a:avLst/>
          </a:prstGeom>
          <a:ln w="0">
            <a:noFill/>
          </a:ln>
        </p:spPr>
      </p:pic>
      <p:sp>
        <p:nvSpPr>
          <p:cNvPr id="55" name="Right Arrow 12"/>
          <p:cNvSpPr/>
          <p:nvPr/>
        </p:nvSpPr>
        <p:spPr>
          <a:xfrm rot="20948400">
            <a:off x="5943600" y="1592280"/>
            <a:ext cx="110952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7dee7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-17640" y="3645000"/>
            <a:ext cx="3141720" cy="313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6066000" y="3621240"/>
            <a:ext cx="3186000" cy="3187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1"/>
          <p:cNvSpPr/>
          <p:nvPr/>
        </p:nvSpPr>
        <p:spPr>
          <a:xfrm>
            <a:off x="3213000" y="6670800"/>
            <a:ext cx="5967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5"/>
              </a:rPr>
              <a:t>http://www.lightbulblanguages.co.uk</a:t>
            </a: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8000" y="212760"/>
          <a:ext cx="8928000" cy="64562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  <a:gridCol w="2232000"/>
              </a:tblGrid>
              <a:tr h="215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</a:tr>
              <a:tr h="2151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</a:tr>
              <a:tr h="215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4702320" y="264960"/>
            <a:ext cx="2070000" cy="20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2476440" y="26496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tretch/>
        </p:blipFill>
        <p:spPr>
          <a:xfrm>
            <a:off x="4702320" y="2463840"/>
            <a:ext cx="2070000" cy="207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4"/>
          <a:stretch/>
        </p:blipFill>
        <p:spPr>
          <a:xfrm>
            <a:off x="2476440" y="246384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5"/>
          <a:stretch/>
        </p:blipFill>
        <p:spPr>
          <a:xfrm>
            <a:off x="6875640" y="461160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6"/>
          <a:stretch/>
        </p:blipFill>
        <p:spPr>
          <a:xfrm>
            <a:off x="247680" y="4602240"/>
            <a:ext cx="2071800" cy="207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7"/>
          <a:stretch/>
        </p:blipFill>
        <p:spPr>
          <a:xfrm>
            <a:off x="4702320" y="4602240"/>
            <a:ext cx="2070000" cy="207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8"/>
          <a:stretch/>
        </p:blipFill>
        <p:spPr>
          <a:xfrm>
            <a:off x="6875640" y="246384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9"/>
          <a:stretch/>
        </p:blipFill>
        <p:spPr>
          <a:xfrm>
            <a:off x="247680" y="26496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10"/>
          <a:stretch/>
        </p:blipFill>
        <p:spPr>
          <a:xfrm>
            <a:off x="2476440" y="4602240"/>
            <a:ext cx="2071800" cy="2071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"/>
          <p:cNvPicPr/>
          <p:nvPr/>
        </p:nvPicPr>
        <p:blipFill>
          <a:blip r:embed="rId11"/>
          <a:stretch/>
        </p:blipFill>
        <p:spPr>
          <a:xfrm>
            <a:off x="6875640" y="25704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12"/>
          <a:stretch/>
        </p:blipFill>
        <p:spPr>
          <a:xfrm>
            <a:off x="250920" y="2463840"/>
            <a:ext cx="20714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179280" y="189000"/>
            <a:ext cx="8785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Notes for the teach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Practise the first sentence –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engo los ojos negros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– using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Escuchad y repetid 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and actions to help embed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Discuss the meaning (I have black eyes) and ask the children what they notice about the words (extra s on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negros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Repeat the other three sentences in the same way (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engo los ojos rojos/ tengo los ojos azules/ tengo los ojos grises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)  What do the children notice about the other colours?  (extra s on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rojos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, es on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azules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grises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Ask the children if they can work out why the extra s/es is there.</a:t>
            </a:r>
            <a:br>
              <a:rPr sz="2000"/>
            </a:b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- The eyes are plural so the colour has to </a:t>
            </a:r>
            <a:r>
              <a:rPr b="0" lang="en-GB" sz="2000" spc="-1" strike="noStrike" u="sng">
                <a:solidFill>
                  <a:srgbClr val="fffffa"/>
                </a:solidFill>
                <a:uFillTx/>
                <a:latin typeface="Arial"/>
              </a:rPr>
              <a:t>agree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with it, or match it, and be plural to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Ask the children which colours will do the same as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negro/rojo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(all the ones that end in a vowel) and which will be the same as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azules/grises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(the ones that end in a consona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Using slide 2, give children one minute to practise the sentences in pai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Using slides 3-9, ask the children to tell you what the sentence is.  Note that the support is gradually withdraw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Use slide 9 to practise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engo los ojos + colour.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You could also incorporate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¿tienes?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ie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2987640" y="404640"/>
            <a:ext cx="5670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fffffa"/>
                </a:solidFill>
                <a:latin typeface="Comic Sans MS"/>
              </a:rPr>
              <a:t>los ojos negros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Oval Callout 12"/>
          <p:cNvSpPr/>
          <p:nvPr/>
        </p:nvSpPr>
        <p:spPr>
          <a:xfrm>
            <a:off x="87480" y="115920"/>
            <a:ext cx="2900160" cy="15588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2987640" y="2082960"/>
            <a:ext cx="5670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fffffa"/>
                </a:solidFill>
                <a:latin typeface="Comic Sans MS"/>
              </a:rPr>
              <a:t>los ojos rojos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Oval Callout 14"/>
          <p:cNvSpPr/>
          <p:nvPr/>
        </p:nvSpPr>
        <p:spPr>
          <a:xfrm>
            <a:off x="87480" y="1779480"/>
            <a:ext cx="2900160" cy="155916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2987640" y="5437080"/>
            <a:ext cx="5670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fffffa"/>
                </a:solidFill>
                <a:latin typeface="Comic Sans MS"/>
              </a:rPr>
              <a:t>los ojos grises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Callout 16"/>
          <p:cNvSpPr/>
          <p:nvPr/>
        </p:nvSpPr>
        <p:spPr>
          <a:xfrm>
            <a:off x="87480" y="3443400"/>
            <a:ext cx="2900160" cy="15588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Callout 17"/>
          <p:cNvSpPr/>
          <p:nvPr/>
        </p:nvSpPr>
        <p:spPr>
          <a:xfrm>
            <a:off x="87480" y="5106960"/>
            <a:ext cx="2900160" cy="15588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2987640" y="3759120"/>
            <a:ext cx="5670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fffffa"/>
                </a:solidFill>
                <a:latin typeface="Comic Sans MS"/>
              </a:rPr>
              <a:t>los ojos azules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5"/>
          <p:cNvSpPr/>
          <p:nvPr/>
        </p:nvSpPr>
        <p:spPr>
          <a:xfrm>
            <a:off x="8172360" y="692280"/>
            <a:ext cx="576360" cy="576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Oval 19"/>
          <p:cNvSpPr/>
          <p:nvPr/>
        </p:nvSpPr>
        <p:spPr>
          <a:xfrm>
            <a:off x="8172360" y="2271600"/>
            <a:ext cx="576360" cy="57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20"/>
          <p:cNvSpPr/>
          <p:nvPr/>
        </p:nvSpPr>
        <p:spPr>
          <a:xfrm>
            <a:off x="8172360" y="3979800"/>
            <a:ext cx="576360" cy="576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Oval 21"/>
          <p:cNvSpPr/>
          <p:nvPr/>
        </p:nvSpPr>
        <p:spPr>
          <a:xfrm>
            <a:off x="8172360" y="5657760"/>
            <a:ext cx="576360" cy="57636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3222720" y="895320"/>
            <a:ext cx="307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los ojo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4265640" y="1773360"/>
            <a:ext cx="5113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3222720" y="895320"/>
            <a:ext cx="336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los ojo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4284720" y="1765440"/>
            <a:ext cx="50101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5176800" y="4525920"/>
            <a:ext cx="1508040" cy="460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Oval Callout 17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3973680" y="1628640"/>
            <a:ext cx="5373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4160880" y="1708200"/>
            <a:ext cx="514980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4213080" y="1711440"/>
            <a:ext cx="515016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4118040" y="1773360"/>
            <a:ext cx="51069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4189320" y="1609560"/>
            <a:ext cx="5229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1:19:04Z</dcterms:modified>
  <cp:revision>149</cp:revision>
  <dc:subject/>
  <dc:title>TITLE</dc:title>
</cp:coreProperties>
</file>