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9896-5719-4CEC-B39D-780161F2DA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236D-2140-44B9-B22C-08DD65CD8F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DA3-6CAD-430D-B754-4D65DF688E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4140-F3F5-436F-921A-D6324F650B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CE25-A9A5-4824-97BE-314D1DFE3D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14DA-CB9D-448D-9424-92328C1D7A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A7CF-F510-46D4-8965-7FD65B5171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971-B41A-40C8-8719-E9CB6808EB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2883-8FD7-40E5-ADC5-2B02B0FD89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AFA0-9C40-4CD5-8734-A3E8467BA9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E9C8-2C12-4439-9A96-FC154DB70D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E031-4756-4ED5-964C-00A881E8C0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9C6-D42B-4A85-B77B-ECA3A26D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EA1-4F1A-4D27-966B-1CA2366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C8C-4CA7-433A-A605-9A470597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645-1801-447C-ADA7-6794605B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B3B-8D46-4F89-A618-A2B8935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A05-D8F9-447D-A4D4-9499FB01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6F7-407B-471E-80EF-2F1969D4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7AF-E355-45B2-AD1E-F06E6FF5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6AC-9B40-4459-B6C4-1EAE01FD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3E9-6475-401B-AA3A-DF6DF7F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E87-CF9A-415F-9157-0EB700A8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63D-540A-4181-8725-E38A8BD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B5E8-E869-471E-9A5F-9BBA37D78B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273640" y="3973680"/>
            <a:ext cx="1035000" cy="296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3152880" y="895320"/>
            <a:ext cx="293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84720" y="22320"/>
            <a:ext cx="3140280" cy="3139920"/>
          </a:xfrm>
          <a:prstGeom prst="rect">
            <a:avLst/>
          </a:prstGeom>
          <a:ln w="0">
            <a:noFill/>
          </a:ln>
        </p:spPr>
      </p:pic>
      <p:sp>
        <p:nvSpPr>
          <p:cNvPr id="53" name="Right Arrow 18"/>
          <p:cNvSpPr/>
          <p:nvPr/>
        </p:nvSpPr>
        <p:spPr>
          <a:xfrm rot="727200">
            <a:off x="6152760" y="1047240"/>
            <a:ext cx="1913040" cy="17172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2987640" y="3608280"/>
            <a:ext cx="3211560" cy="321336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12"/>
          <p:cNvSpPr/>
          <p:nvPr/>
        </p:nvSpPr>
        <p:spPr>
          <a:xfrm rot="20948400">
            <a:off x="5943600" y="1592280"/>
            <a:ext cx="110952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7640" y="3645000"/>
            <a:ext cx="3141720" cy="31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066000" y="3621240"/>
            <a:ext cx="3186000" cy="3187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3213000" y="6670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5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212760"/>
          <a:ext cx="8928000" cy="64562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4702320" y="264960"/>
            <a:ext cx="2070000" cy="20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476440" y="26496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4702320" y="2463840"/>
            <a:ext cx="207000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2476440" y="24638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5"/>
          <a:stretch/>
        </p:blipFill>
        <p:spPr>
          <a:xfrm>
            <a:off x="6875640" y="461160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247680" y="460224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7"/>
          <a:stretch/>
        </p:blipFill>
        <p:spPr>
          <a:xfrm>
            <a:off x="4702320" y="4602240"/>
            <a:ext cx="2070000" cy="207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6875640" y="246384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247680" y="26496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0"/>
          <a:stretch/>
        </p:blipFill>
        <p:spPr>
          <a:xfrm>
            <a:off x="2476440" y="460224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11"/>
          <a:stretch/>
        </p:blipFill>
        <p:spPr>
          <a:xfrm>
            <a:off x="6875640" y="25704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12"/>
          <a:stretch/>
        </p:blipFill>
        <p:spPr>
          <a:xfrm>
            <a:off x="250920" y="246384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79280" y="189000"/>
            <a:ext cx="8785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first sentence –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los ojos negro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– using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scuchad y repetid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actions to help embed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Discuss the meaning (I have black eyes) and ask the children what they notice about the words (extra s o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negro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the other three sentences in the same way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los ojos rojos/ tengo los ojos azules/ tengo los ojos gris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  What do the children notice about the other colours?  (extra s o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rojo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es o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azul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gris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Ask the children if they can work out why the extra s/es is there.</a:t>
            </a:r>
            <a:br>
              <a:rPr sz="2000"/>
            </a:b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- The eyes are plural so the colour has to </a:t>
            </a:r>
            <a:r>
              <a:rPr b="0" lang="en-GB" sz="2000" spc="-1" strike="noStrike" u="sng">
                <a:solidFill>
                  <a:srgbClr val="fffffa"/>
                </a:solidFill>
                <a:uFillTx/>
                <a:latin typeface="Arial"/>
              </a:rPr>
              <a:t>agree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with it, or match it, and be plural to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Ask the children which colours will do the same as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negro/roj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(all the ones that end in a vowel) and which will be the same as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azules/gris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(the ones that end in a consona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 2, give children one minute to practise the sentences in 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s 3-9, ask the children to tell you what the sentence is.  Note that the support is gradually withdra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e slide 9 to practis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los ojos + colour.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You could also incorporat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¿tienes?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ie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987640" y="40464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negro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Callout 12"/>
          <p:cNvSpPr/>
          <p:nvPr/>
        </p:nvSpPr>
        <p:spPr>
          <a:xfrm>
            <a:off x="87480" y="115920"/>
            <a:ext cx="290016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2987640" y="208296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rojo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Callout 14"/>
          <p:cNvSpPr/>
          <p:nvPr/>
        </p:nvSpPr>
        <p:spPr>
          <a:xfrm>
            <a:off x="87480" y="1779480"/>
            <a:ext cx="2900160" cy="155916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2987640" y="543708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grise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Callout 16"/>
          <p:cNvSpPr/>
          <p:nvPr/>
        </p:nvSpPr>
        <p:spPr>
          <a:xfrm>
            <a:off x="87480" y="3443400"/>
            <a:ext cx="290016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Callout 17"/>
          <p:cNvSpPr/>
          <p:nvPr/>
        </p:nvSpPr>
        <p:spPr>
          <a:xfrm>
            <a:off x="87480" y="5106960"/>
            <a:ext cx="290016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2987640" y="375912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azule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5"/>
          <p:cNvSpPr/>
          <p:nvPr/>
        </p:nvSpPr>
        <p:spPr>
          <a:xfrm>
            <a:off x="8172360" y="692280"/>
            <a:ext cx="57636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8172360" y="2271600"/>
            <a:ext cx="576360" cy="57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0"/>
          <p:cNvSpPr/>
          <p:nvPr/>
        </p:nvSpPr>
        <p:spPr>
          <a:xfrm>
            <a:off x="8172360" y="3979800"/>
            <a:ext cx="576360" cy="576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21"/>
          <p:cNvSpPr/>
          <p:nvPr/>
        </p:nvSpPr>
        <p:spPr>
          <a:xfrm>
            <a:off x="8172360" y="5657760"/>
            <a:ext cx="576360" cy="57636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222720" y="895320"/>
            <a:ext cx="307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4265640" y="1773360"/>
            <a:ext cx="511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222720" y="895320"/>
            <a:ext cx="336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4284720" y="1765440"/>
            <a:ext cx="5010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5176800" y="4525920"/>
            <a:ext cx="1508040" cy="460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3973680" y="1628640"/>
            <a:ext cx="5373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4160880" y="1708200"/>
            <a:ext cx="51498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4213080" y="1711440"/>
            <a:ext cx="515016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4118040" y="1773360"/>
            <a:ext cx="51069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189320" y="1609560"/>
            <a:ext cx="5229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9:04Z</dcterms:modified>
  <cp:revision>149</cp:revision>
  <dc:subject/>
  <dc:title>TITLE</dc:title>
</cp:coreProperties>
</file>