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589D-D42F-4582-914E-20D98043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C409-F97C-4911-9BA1-771E6DF7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AF20-6D9B-4299-8974-42F585E3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07E7-1DC1-4FD7-8D65-20022E1ED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182B-335B-4A4E-914C-A5D18B81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9BF7-743F-4E31-8618-5E725044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716B-74C7-4F6D-8D43-73E29AC7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FD50-95AC-4E12-AB9C-1E409F0E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DF57-1646-4660-B78E-FF0A2197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F0A1-918C-4D76-A871-53C01A32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13D8-8162-4D71-96BD-78A98E59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9E42-2CEE-4251-92B4-B1B2EAAC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FA9D-D780-4144-8630-71199F54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E22C-448D-4D0A-B2BA-DF31C668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8AC6-1F10-46D2-A9AC-8DAB2212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F380-4860-4429-AC45-95482A3D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8381-AFE1-4B3E-9645-E52FF8EE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61ACB-3993-476A-9659-C33CB8DC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5040A-6F5E-4D83-B1C3-C1C705A7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2415D-8518-4C18-996E-5265496C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6210E-BB22-4EC0-B71E-0FAF9220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63A84-B30C-4D96-AB43-4360A2C0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7008-DB6B-492C-B954-1392D63B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CBF19-8964-4052-8FA4-68590CA1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CA502-6BD5-43B5-940E-F37D1DB7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F2E82-8F5C-4CE5-BDE8-8D34A1C7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B82F1-56F3-47B8-AAAD-DA98B849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B3E51-10DF-4140-8225-8327596B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E6556-7300-4D45-A263-D04FCFE9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3CA55-0CE6-4275-8EB8-3D37815BE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DFEE-C7FA-489F-AD0D-9FECAF36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FCAB-3431-48A2-B5B8-515A3EE1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A583-3623-4AF4-B22F-878AD42C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ED52-5D44-4AE3-A518-833CA1E9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974E-70ED-4561-B539-4878F792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8B61-ECE1-497A-A8AB-C15A6A5E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F404-0ABF-4CEC-9368-385357C97DE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3279-BDE5-4CB9-9A8A-FAB70A2798F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87F4-97A9-4F42-83B8-A839DAD1668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youtu.be/7CBkJIFR09A" TargetMode="External"/><Relationship Id="rId2" Type="http://schemas.openxmlformats.org/officeDocument/2006/relationships/hyperlink" Target="https://www.youtube.com/watch?v=ylwiOLab5AA" TargetMode="External"/><Relationship Id="rId3" Type="http://schemas.openxmlformats.org/officeDocument/2006/relationships/hyperlink" Target="https://www.youtube.com/watch?v=vQJiUPU_eWs&amp;t=7s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3916440" cy="494172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"/>
          <p:cNvSpPr/>
          <p:nvPr/>
        </p:nvSpPr>
        <p:spPr>
          <a:xfrm>
            <a:off x="900000" y="4724280"/>
            <a:ext cx="8232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ernando de Magalla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erdinand Magellan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6" name="Picture 3" descr="Logo&#10;&#10;Description automatically generated"/>
          <p:cNvPicPr/>
          <p:nvPr/>
        </p:nvPicPr>
        <p:blipFill>
          <a:blip r:embed="rId2"/>
          <a:stretch/>
        </p:blipFill>
        <p:spPr>
          <a:xfrm>
            <a:off x="71280" y="6093000"/>
            <a:ext cx="755640" cy="448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A picture containing background pattern&#10;&#10;Description automatically generated"/>
          <p:cNvPicPr/>
          <p:nvPr/>
        </p:nvPicPr>
        <p:blipFill>
          <a:blip r:embed="rId3"/>
          <a:stretch/>
        </p:blipFill>
        <p:spPr>
          <a:xfrm>
            <a:off x="71280" y="5002200"/>
            <a:ext cx="85104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0" y="1557360"/>
            <a:ext cx="9221760" cy="29512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5148360" y="206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270,0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5148360" y="2565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330,0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5154480" y="30225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228,0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5124600" y="34815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300,0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Box 8"/>
          <p:cNvSpPr/>
          <p:nvPr/>
        </p:nvSpPr>
        <p:spPr>
          <a:xfrm>
            <a:off x="5148360" y="39387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187,0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116000" y="0"/>
            <a:ext cx="5904000" cy="6862680"/>
          </a:xfrm>
          <a:prstGeom prst="rect">
            <a:avLst/>
          </a:prstGeom>
          <a:ln w="0">
            <a:noFill/>
          </a:ln>
        </p:spPr>
      </p:pic>
      <p:sp>
        <p:nvSpPr>
          <p:cNvPr id="177" name="TextBox 5"/>
          <p:cNvSpPr/>
          <p:nvPr/>
        </p:nvSpPr>
        <p:spPr>
          <a:xfrm>
            <a:off x="4097160" y="-144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Box 6"/>
          <p:cNvSpPr/>
          <p:nvPr/>
        </p:nvSpPr>
        <p:spPr>
          <a:xfrm>
            <a:off x="4076640" y="404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Box 7"/>
          <p:cNvSpPr/>
          <p:nvPr/>
        </p:nvSpPr>
        <p:spPr>
          <a:xfrm>
            <a:off x="3492360" y="809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Box 8"/>
          <p:cNvSpPr/>
          <p:nvPr/>
        </p:nvSpPr>
        <p:spPr>
          <a:xfrm>
            <a:off x="4292640" y="12682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Box 9"/>
          <p:cNvSpPr/>
          <p:nvPr/>
        </p:nvSpPr>
        <p:spPr>
          <a:xfrm>
            <a:off x="4292640" y="16732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1,0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Box 10"/>
          <p:cNvSpPr/>
          <p:nvPr/>
        </p:nvSpPr>
        <p:spPr>
          <a:xfrm>
            <a:off x="4319640" y="210348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4013280" y="250812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4167360" y="29448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Box 13"/>
          <p:cNvSpPr/>
          <p:nvPr/>
        </p:nvSpPr>
        <p:spPr>
          <a:xfrm>
            <a:off x="3879720" y="334476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Box 14"/>
          <p:cNvSpPr/>
          <p:nvPr/>
        </p:nvSpPr>
        <p:spPr>
          <a:xfrm>
            <a:off x="4419720" y="3780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Box 15"/>
          <p:cNvSpPr/>
          <p:nvPr/>
        </p:nvSpPr>
        <p:spPr>
          <a:xfrm>
            <a:off x="4267080" y="422604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Box 16"/>
          <p:cNvSpPr/>
          <p:nvPr/>
        </p:nvSpPr>
        <p:spPr>
          <a:xfrm>
            <a:off x="4707000" y="466092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Box 17"/>
          <p:cNvSpPr/>
          <p:nvPr/>
        </p:nvSpPr>
        <p:spPr>
          <a:xfrm>
            <a:off x="4707000" y="504360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Box 18"/>
          <p:cNvSpPr/>
          <p:nvPr/>
        </p:nvSpPr>
        <p:spPr>
          <a:xfrm>
            <a:off x="3743280" y="547848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Box 19"/>
          <p:cNvSpPr/>
          <p:nvPr/>
        </p:nvSpPr>
        <p:spPr>
          <a:xfrm>
            <a:off x="4097160" y="591192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Box 20"/>
          <p:cNvSpPr/>
          <p:nvPr/>
        </p:nvSpPr>
        <p:spPr>
          <a:xfrm>
            <a:off x="4295880" y="63468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10,0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9217080" cy="5472360"/>
          </a:xfrm>
          <a:prstGeom prst="rect">
            <a:avLst/>
          </a:prstGeom>
          <a:ln w="0">
            <a:noFill/>
          </a:ln>
        </p:spPr>
      </p:pic>
      <p:sp>
        <p:nvSpPr>
          <p:cNvPr id="195" name="TextBox 4"/>
          <p:cNvSpPr/>
          <p:nvPr/>
        </p:nvSpPr>
        <p:spPr>
          <a:xfrm>
            <a:off x="5508720" y="243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5681520" y="674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Box 6"/>
          <p:cNvSpPr/>
          <p:nvPr/>
        </p:nvSpPr>
        <p:spPr>
          <a:xfrm>
            <a:off x="6804000" y="10904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Box 7"/>
          <p:cNvSpPr/>
          <p:nvPr/>
        </p:nvSpPr>
        <p:spPr>
          <a:xfrm>
            <a:off x="5508720" y="14860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5,7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Box 8"/>
          <p:cNvSpPr/>
          <p:nvPr/>
        </p:nvSpPr>
        <p:spPr>
          <a:xfrm>
            <a:off x="5710320" y="1898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43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Box 9"/>
          <p:cNvSpPr/>
          <p:nvPr/>
        </p:nvSpPr>
        <p:spPr>
          <a:xfrm>
            <a:off x="5808600" y="233352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8,8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Box 10"/>
          <p:cNvSpPr/>
          <p:nvPr/>
        </p:nvSpPr>
        <p:spPr>
          <a:xfrm>
            <a:off x="5710320" y="276552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13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5508720" y="31798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1,51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5508720" y="35751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3,2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Box 13"/>
          <p:cNvSpPr/>
          <p:nvPr/>
        </p:nvSpPr>
        <p:spPr>
          <a:xfrm>
            <a:off x="6539040" y="39387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98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Box 14"/>
          <p:cNvSpPr/>
          <p:nvPr/>
        </p:nvSpPr>
        <p:spPr>
          <a:xfrm>
            <a:off x="5508720" y="43848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6,0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Box 15"/>
          <p:cNvSpPr/>
          <p:nvPr/>
        </p:nvSpPr>
        <p:spPr>
          <a:xfrm>
            <a:off x="5497560" y="48164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36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Box 16"/>
          <p:cNvSpPr/>
          <p:nvPr/>
        </p:nvSpPr>
        <p:spPr>
          <a:xfrm>
            <a:off x="5992920" y="5249880"/>
            <a:ext cx="16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6,5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3916440" cy="49417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"/>
          <p:cNvSpPr/>
          <p:nvPr/>
        </p:nvSpPr>
        <p:spPr>
          <a:xfrm>
            <a:off x="900000" y="4724280"/>
            <a:ext cx="8232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ernando de Magalla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erdinand Magellan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3" descr="Logo&#10;&#10;Description automatically generated"/>
          <p:cNvPicPr/>
          <p:nvPr/>
        </p:nvPicPr>
        <p:blipFill>
          <a:blip r:embed="rId2"/>
          <a:stretch/>
        </p:blipFill>
        <p:spPr>
          <a:xfrm>
            <a:off x="71280" y="6093000"/>
            <a:ext cx="755640" cy="448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A picture containing background pattern&#10;&#10;Description automatically generated"/>
          <p:cNvPicPr/>
          <p:nvPr/>
        </p:nvPicPr>
        <p:blipFill>
          <a:blip r:embed="rId3"/>
          <a:stretch/>
        </p:blipFill>
        <p:spPr>
          <a:xfrm>
            <a:off x="71280" y="5002200"/>
            <a:ext cx="851040" cy="5572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"/>
          <p:cNvSpPr/>
          <p:nvPr/>
        </p:nvSpPr>
        <p:spPr>
          <a:xfrm>
            <a:off x="4067280" y="189000"/>
            <a:ext cx="489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bfb00"/>
                </a:solidFill>
                <a:latin typeface="Comic Sans MS"/>
              </a:rPr>
              <a:t>Nació 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Comic Sans MS"/>
              </a:rPr>
              <a:t>mil cuatrocientos ochenta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en Portugal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4067280" y="3213000"/>
            <a:ext cx="48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Comic Sans MS"/>
              </a:rPr>
              <a:t>148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3916440" cy="49417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"/>
          <p:cNvSpPr/>
          <p:nvPr/>
        </p:nvSpPr>
        <p:spPr>
          <a:xfrm>
            <a:off x="900000" y="4724280"/>
            <a:ext cx="8232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ernando de Magalla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erdinand Magellan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8" name="Picture 3" descr="Logo&#10;&#10;Description automatically generated"/>
          <p:cNvPicPr/>
          <p:nvPr/>
        </p:nvPicPr>
        <p:blipFill>
          <a:blip r:embed="rId2"/>
          <a:stretch/>
        </p:blipFill>
        <p:spPr>
          <a:xfrm>
            <a:off x="71280" y="6093000"/>
            <a:ext cx="755640" cy="448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A picture containing background pattern&#10;&#10;Description automatically generated"/>
          <p:cNvPicPr/>
          <p:nvPr/>
        </p:nvPicPr>
        <p:blipFill>
          <a:blip r:embed="rId3"/>
          <a:stretch/>
        </p:blipFill>
        <p:spPr>
          <a:xfrm>
            <a:off x="71280" y="5002200"/>
            <a:ext cx="851040" cy="5572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"/>
          <p:cNvSpPr/>
          <p:nvPr/>
        </p:nvSpPr>
        <p:spPr>
          <a:xfrm>
            <a:off x="4067280" y="189000"/>
            <a:ext cx="489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bfb00"/>
                </a:solidFill>
                <a:latin typeface="Comic Sans MS"/>
              </a:rPr>
              <a:t>Murió 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Comic Sans MS"/>
              </a:rPr>
              <a:t>mil quinientos veintiuno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en Filipina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4067280" y="3235320"/>
            <a:ext cx="48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Comic Sans MS"/>
              </a:rPr>
              <a:t>152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250920" y="476280"/>
            <a:ext cx="8785080" cy="57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5050"/>
                </a:solidFill>
                <a:uFillTx/>
                <a:latin typeface="Comic Sans MS"/>
                <a:hlinkClick r:id="rId1"/>
              </a:rPr>
              <a:t>https://youtu.be/7CBkJIFR09A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(LOVG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5050"/>
                </a:solidFill>
                <a:uFillTx/>
                <a:latin typeface="Comic Sans MS"/>
                <a:hlinkClick r:id="rId2"/>
              </a:rPr>
              <a:t>https://www.youtube.com/watch?v=ylwiOLab5A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(simple history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5050"/>
                </a:solidFill>
                <a:uFillTx/>
                <a:latin typeface="Comic Sans MS"/>
                <a:hlinkClick r:id="rId3"/>
              </a:rPr>
              <a:t>https://www.youtube.com/watch?v=vQJiUPU_eWs&amp;t=7s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mapa de la ruta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0" y="1197000"/>
            <a:ext cx="91695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158760" y="0"/>
            <a:ext cx="882648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Freeform: Shape 3"/>
          <p:cNvSpPr/>
          <p:nvPr/>
        </p:nvSpPr>
        <p:spPr>
          <a:xfrm>
            <a:off x="668160" y="1393920"/>
            <a:ext cx="5604120" cy="2322360"/>
          </a:xfrm>
          <a:custGeom>
            <a:avLst/>
            <a:gdLst/>
            <a:ahLst/>
            <a:rect l="l" t="t" r="r" b="b"/>
            <a:pathLst>
              <a:path w="5604106" h="2322286">
                <a:moveTo>
                  <a:pt x="5573486" y="0"/>
                </a:moveTo>
                <a:cubicBezTo>
                  <a:pt x="5583162" y="24191"/>
                  <a:pt x="5600350" y="46608"/>
                  <a:pt x="5602514" y="72572"/>
                </a:cubicBezTo>
                <a:cubicBezTo>
                  <a:pt x="5605355" y="106664"/>
                  <a:pt x="5606367" y="145310"/>
                  <a:pt x="5588000" y="174172"/>
                </a:cubicBezTo>
                <a:cubicBezTo>
                  <a:pt x="5580335" y="186216"/>
                  <a:pt x="5471699" y="252605"/>
                  <a:pt x="5442857" y="261258"/>
                </a:cubicBezTo>
                <a:cubicBezTo>
                  <a:pt x="5414669" y="269714"/>
                  <a:pt x="5384800" y="270934"/>
                  <a:pt x="5355772" y="275772"/>
                </a:cubicBezTo>
                <a:cubicBezTo>
                  <a:pt x="5283200" y="270934"/>
                  <a:pt x="5210390" y="268872"/>
                  <a:pt x="5138057" y="261258"/>
                </a:cubicBezTo>
                <a:cubicBezTo>
                  <a:pt x="5118219" y="259170"/>
                  <a:pt x="5099473" y="251070"/>
                  <a:pt x="5080000" y="246743"/>
                </a:cubicBezTo>
                <a:cubicBezTo>
                  <a:pt x="5055918" y="241391"/>
                  <a:pt x="5031362" y="238212"/>
                  <a:pt x="5007429" y="232229"/>
                </a:cubicBezTo>
                <a:cubicBezTo>
                  <a:pt x="4935340" y="214207"/>
                  <a:pt x="4988912" y="219842"/>
                  <a:pt x="4905829" y="188686"/>
                </a:cubicBezTo>
                <a:cubicBezTo>
                  <a:pt x="4887151" y="181682"/>
                  <a:pt x="4866952" y="179652"/>
                  <a:pt x="4847772" y="174172"/>
                </a:cubicBezTo>
                <a:cubicBezTo>
                  <a:pt x="4743628" y="144417"/>
                  <a:pt x="4879210" y="174655"/>
                  <a:pt x="4731657" y="145143"/>
                </a:cubicBezTo>
                <a:cubicBezTo>
                  <a:pt x="4678438" y="154819"/>
                  <a:pt x="4622940" y="155979"/>
                  <a:pt x="4572000" y="174172"/>
                </a:cubicBezTo>
                <a:cubicBezTo>
                  <a:pt x="4552669" y="181076"/>
                  <a:pt x="4544660" y="205113"/>
                  <a:pt x="4528457" y="217715"/>
                </a:cubicBezTo>
                <a:cubicBezTo>
                  <a:pt x="4500918" y="239134"/>
                  <a:pt x="4470400" y="256420"/>
                  <a:pt x="4441372" y="275772"/>
                </a:cubicBezTo>
                <a:cubicBezTo>
                  <a:pt x="4426858" y="285448"/>
                  <a:pt x="4410164" y="292465"/>
                  <a:pt x="4397829" y="304800"/>
                </a:cubicBezTo>
                <a:cubicBezTo>
                  <a:pt x="4383315" y="319314"/>
                  <a:pt x="4370989" y="336412"/>
                  <a:pt x="4354286" y="348343"/>
                </a:cubicBezTo>
                <a:cubicBezTo>
                  <a:pt x="4302323" y="385460"/>
                  <a:pt x="4295152" y="372893"/>
                  <a:pt x="4238172" y="391886"/>
                </a:cubicBezTo>
                <a:cubicBezTo>
                  <a:pt x="4181885" y="410648"/>
                  <a:pt x="4137826" y="438080"/>
                  <a:pt x="4078514" y="449943"/>
                </a:cubicBezTo>
                <a:cubicBezTo>
                  <a:pt x="4054324" y="454781"/>
                  <a:pt x="4029876" y="458475"/>
                  <a:pt x="4005943" y="464458"/>
                </a:cubicBezTo>
                <a:cubicBezTo>
                  <a:pt x="3991100" y="468169"/>
                  <a:pt x="3977111" y="474769"/>
                  <a:pt x="3962400" y="478972"/>
                </a:cubicBezTo>
                <a:cubicBezTo>
                  <a:pt x="3943220" y="484452"/>
                  <a:pt x="3923695" y="488648"/>
                  <a:pt x="3904343" y="493486"/>
                </a:cubicBezTo>
                <a:cubicBezTo>
                  <a:pt x="3889829" y="508000"/>
                  <a:pt x="3877879" y="525643"/>
                  <a:pt x="3860800" y="537029"/>
                </a:cubicBezTo>
                <a:cubicBezTo>
                  <a:pt x="3848070" y="545516"/>
                  <a:pt x="3831319" y="545516"/>
                  <a:pt x="3817257" y="551543"/>
                </a:cubicBezTo>
                <a:cubicBezTo>
                  <a:pt x="3765699" y="573639"/>
                  <a:pt x="3759384" y="580449"/>
                  <a:pt x="3715657" y="609600"/>
                </a:cubicBezTo>
                <a:cubicBezTo>
                  <a:pt x="3705981" y="624114"/>
                  <a:pt x="3698964" y="640808"/>
                  <a:pt x="3686629" y="653143"/>
                </a:cubicBezTo>
                <a:cubicBezTo>
                  <a:pt x="3578607" y="761166"/>
                  <a:pt x="3667957" y="637609"/>
                  <a:pt x="3599543" y="740229"/>
                </a:cubicBezTo>
                <a:cubicBezTo>
                  <a:pt x="3555504" y="872349"/>
                  <a:pt x="3623058" y="663681"/>
                  <a:pt x="3570514" y="856343"/>
                </a:cubicBezTo>
                <a:cubicBezTo>
                  <a:pt x="3562463" y="885864"/>
                  <a:pt x="3551162" y="914400"/>
                  <a:pt x="3541486" y="943429"/>
                </a:cubicBezTo>
                <a:cubicBezTo>
                  <a:pt x="3536648" y="957943"/>
                  <a:pt x="3530683" y="972129"/>
                  <a:pt x="3526972" y="986972"/>
                </a:cubicBezTo>
                <a:lnTo>
                  <a:pt x="3512457" y="1045029"/>
                </a:lnTo>
                <a:cubicBezTo>
                  <a:pt x="3507619" y="1103086"/>
                  <a:pt x="3505169" y="1161392"/>
                  <a:pt x="3497943" y="1219200"/>
                </a:cubicBezTo>
                <a:cubicBezTo>
                  <a:pt x="3495469" y="1238994"/>
                  <a:pt x="3488678" y="1258013"/>
                  <a:pt x="3483429" y="1277258"/>
                </a:cubicBezTo>
                <a:cubicBezTo>
                  <a:pt x="3474162" y="1311239"/>
                  <a:pt x="3467481" y="1346155"/>
                  <a:pt x="3454400" y="1378858"/>
                </a:cubicBezTo>
                <a:cubicBezTo>
                  <a:pt x="3447922" y="1395054"/>
                  <a:pt x="3435048" y="1407886"/>
                  <a:pt x="3425372" y="1422400"/>
                </a:cubicBezTo>
                <a:cubicBezTo>
                  <a:pt x="3391660" y="1557242"/>
                  <a:pt x="3431926" y="1389624"/>
                  <a:pt x="3396343" y="1567543"/>
                </a:cubicBezTo>
                <a:cubicBezTo>
                  <a:pt x="3392431" y="1587104"/>
                  <a:pt x="3385108" y="1605924"/>
                  <a:pt x="3381829" y="1625600"/>
                </a:cubicBezTo>
                <a:cubicBezTo>
                  <a:pt x="3370581" y="1693090"/>
                  <a:pt x="3383398" y="1767602"/>
                  <a:pt x="3352800" y="1828800"/>
                </a:cubicBezTo>
                <a:cubicBezTo>
                  <a:pt x="3343124" y="1848153"/>
                  <a:pt x="3332295" y="1866971"/>
                  <a:pt x="3323772" y="1886858"/>
                </a:cubicBezTo>
                <a:cubicBezTo>
                  <a:pt x="3305813" y="1928762"/>
                  <a:pt x="3305231" y="1955777"/>
                  <a:pt x="3294743" y="2002972"/>
                </a:cubicBezTo>
                <a:cubicBezTo>
                  <a:pt x="3290416" y="2022445"/>
                  <a:pt x="3283797" y="2041403"/>
                  <a:pt x="3280229" y="2061029"/>
                </a:cubicBezTo>
                <a:cubicBezTo>
                  <a:pt x="3233684" y="2317020"/>
                  <a:pt x="3299764" y="2064245"/>
                  <a:pt x="3236686" y="2206172"/>
                </a:cubicBezTo>
                <a:cubicBezTo>
                  <a:pt x="3185778" y="2320715"/>
                  <a:pt x="3242445" y="2270067"/>
                  <a:pt x="3164114" y="2322286"/>
                </a:cubicBezTo>
                <a:cubicBezTo>
                  <a:pt x="3081867" y="2317448"/>
                  <a:pt x="2999353" y="2315970"/>
                  <a:pt x="2917372" y="2307772"/>
                </a:cubicBezTo>
                <a:cubicBezTo>
                  <a:pt x="2876459" y="2303681"/>
                  <a:pt x="2832749" y="2265461"/>
                  <a:pt x="2801257" y="2249715"/>
                </a:cubicBezTo>
                <a:cubicBezTo>
                  <a:pt x="2787573" y="2242873"/>
                  <a:pt x="2772228" y="2240038"/>
                  <a:pt x="2757714" y="2235200"/>
                </a:cubicBezTo>
                <a:cubicBezTo>
                  <a:pt x="2721950" y="2208377"/>
                  <a:pt x="2685872" y="2175911"/>
                  <a:pt x="2641600" y="2162629"/>
                </a:cubicBezTo>
                <a:cubicBezTo>
                  <a:pt x="2613412" y="2154173"/>
                  <a:pt x="2583543" y="2152953"/>
                  <a:pt x="2554514" y="2148115"/>
                </a:cubicBezTo>
                <a:cubicBezTo>
                  <a:pt x="2429415" y="2098074"/>
                  <a:pt x="2533256" y="2135820"/>
                  <a:pt x="2423886" y="2104572"/>
                </a:cubicBezTo>
                <a:cubicBezTo>
                  <a:pt x="2409175" y="2100369"/>
                  <a:pt x="2395278" y="2093377"/>
                  <a:pt x="2380343" y="2090058"/>
                </a:cubicBezTo>
                <a:cubicBezTo>
                  <a:pt x="2278512" y="2067429"/>
                  <a:pt x="2320996" y="2087760"/>
                  <a:pt x="2249714" y="2061029"/>
                </a:cubicBezTo>
                <a:cubicBezTo>
                  <a:pt x="2225319" y="2051881"/>
                  <a:pt x="2200446" y="2043652"/>
                  <a:pt x="2177143" y="2032000"/>
                </a:cubicBezTo>
                <a:cubicBezTo>
                  <a:pt x="2161541" y="2024199"/>
                  <a:pt x="2148746" y="2011627"/>
                  <a:pt x="2133600" y="2002972"/>
                </a:cubicBezTo>
                <a:cubicBezTo>
                  <a:pt x="2114814" y="1992237"/>
                  <a:pt x="2094895" y="1983619"/>
                  <a:pt x="2075543" y="1973943"/>
                </a:cubicBezTo>
                <a:cubicBezTo>
                  <a:pt x="2004807" y="1867841"/>
                  <a:pt x="2092198" y="1979619"/>
                  <a:pt x="2002972" y="1915886"/>
                </a:cubicBezTo>
                <a:cubicBezTo>
                  <a:pt x="1980701" y="1899978"/>
                  <a:pt x="1966285" y="1874926"/>
                  <a:pt x="1944914" y="1857829"/>
                </a:cubicBezTo>
                <a:cubicBezTo>
                  <a:pt x="1917671" y="1836035"/>
                  <a:pt x="1882498" y="1824441"/>
                  <a:pt x="1857829" y="1799772"/>
                </a:cubicBezTo>
                <a:cubicBezTo>
                  <a:pt x="1794780" y="1736723"/>
                  <a:pt x="1777546" y="1706206"/>
                  <a:pt x="1712686" y="1669143"/>
                </a:cubicBezTo>
                <a:cubicBezTo>
                  <a:pt x="1693900" y="1658408"/>
                  <a:pt x="1673981" y="1649791"/>
                  <a:pt x="1654629" y="1640115"/>
                </a:cubicBezTo>
                <a:cubicBezTo>
                  <a:pt x="1644953" y="1625601"/>
                  <a:pt x="1637935" y="1608907"/>
                  <a:pt x="1625600" y="1596572"/>
                </a:cubicBezTo>
                <a:cubicBezTo>
                  <a:pt x="1597463" y="1568435"/>
                  <a:pt x="1573930" y="1564834"/>
                  <a:pt x="1538514" y="1553029"/>
                </a:cubicBezTo>
                <a:cubicBezTo>
                  <a:pt x="1473595" y="1455648"/>
                  <a:pt x="1550071" y="1551057"/>
                  <a:pt x="1465943" y="1494972"/>
                </a:cubicBezTo>
                <a:cubicBezTo>
                  <a:pt x="1448864" y="1483586"/>
                  <a:pt x="1438169" y="1464570"/>
                  <a:pt x="1422400" y="1451429"/>
                </a:cubicBezTo>
                <a:cubicBezTo>
                  <a:pt x="1408999" y="1440262"/>
                  <a:pt x="1392102" y="1433753"/>
                  <a:pt x="1378857" y="1422400"/>
                </a:cubicBezTo>
                <a:cubicBezTo>
                  <a:pt x="1358077" y="1404589"/>
                  <a:pt x="1338611" y="1385123"/>
                  <a:pt x="1320800" y="1364343"/>
                </a:cubicBezTo>
                <a:cubicBezTo>
                  <a:pt x="1309448" y="1351099"/>
                  <a:pt x="1305393" y="1331697"/>
                  <a:pt x="1291772" y="1320800"/>
                </a:cubicBezTo>
                <a:cubicBezTo>
                  <a:pt x="1279825" y="1311243"/>
                  <a:pt x="1262743" y="1311124"/>
                  <a:pt x="1248229" y="1306286"/>
                </a:cubicBezTo>
                <a:cubicBezTo>
                  <a:pt x="1238553" y="1286934"/>
                  <a:pt x="1234499" y="1263528"/>
                  <a:pt x="1219200" y="1248229"/>
                </a:cubicBezTo>
                <a:cubicBezTo>
                  <a:pt x="1180194" y="1209223"/>
                  <a:pt x="1134470" y="1177228"/>
                  <a:pt x="1088572" y="1146629"/>
                </a:cubicBezTo>
                <a:cubicBezTo>
                  <a:pt x="1074058" y="1136953"/>
                  <a:pt x="1058274" y="1128953"/>
                  <a:pt x="1045029" y="1117600"/>
                </a:cubicBezTo>
                <a:cubicBezTo>
                  <a:pt x="1024249" y="1099789"/>
                  <a:pt x="1007997" y="1077064"/>
                  <a:pt x="986972" y="1059543"/>
                </a:cubicBezTo>
                <a:cubicBezTo>
                  <a:pt x="949805" y="1028570"/>
                  <a:pt x="909562" y="1001486"/>
                  <a:pt x="870857" y="972458"/>
                </a:cubicBezTo>
                <a:cubicBezTo>
                  <a:pt x="800559" y="919735"/>
                  <a:pt x="835750" y="936565"/>
                  <a:pt x="769257" y="914400"/>
                </a:cubicBezTo>
                <a:cubicBezTo>
                  <a:pt x="698525" y="808301"/>
                  <a:pt x="785912" y="920076"/>
                  <a:pt x="696686" y="856343"/>
                </a:cubicBezTo>
                <a:cubicBezTo>
                  <a:pt x="674416" y="840435"/>
                  <a:pt x="660000" y="815383"/>
                  <a:pt x="638629" y="798286"/>
                </a:cubicBezTo>
                <a:cubicBezTo>
                  <a:pt x="611386" y="776492"/>
                  <a:pt x="580572" y="759581"/>
                  <a:pt x="551543" y="740229"/>
                </a:cubicBezTo>
                <a:lnTo>
                  <a:pt x="420914" y="653143"/>
                </a:lnTo>
                <a:cubicBezTo>
                  <a:pt x="397114" y="637997"/>
                  <a:pt x="368291" y="629548"/>
                  <a:pt x="348343" y="609600"/>
                </a:cubicBezTo>
                <a:cubicBezTo>
                  <a:pt x="293981" y="555240"/>
                  <a:pt x="324273" y="572549"/>
                  <a:pt x="261257" y="551543"/>
                </a:cubicBezTo>
                <a:cubicBezTo>
                  <a:pt x="178069" y="426758"/>
                  <a:pt x="288837" y="573606"/>
                  <a:pt x="188686" y="493486"/>
                </a:cubicBezTo>
                <a:cubicBezTo>
                  <a:pt x="94898" y="418456"/>
                  <a:pt x="225560" y="471910"/>
                  <a:pt x="116114" y="435429"/>
                </a:cubicBezTo>
                <a:cubicBezTo>
                  <a:pt x="79416" y="410963"/>
                  <a:pt x="71953" y="400471"/>
                  <a:pt x="29029" y="391886"/>
                </a:cubicBezTo>
                <a:cubicBezTo>
                  <a:pt x="19541" y="389988"/>
                  <a:pt x="9676" y="391886"/>
                  <a:pt x="0" y="391886"/>
                </a:cubicBezTo>
              </a:path>
            </a:pathLst>
          </a:custGeom>
          <a:noFill/>
          <a:ln w="25560">
            <a:solidFill>
              <a:srgbClr val="ff19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9102600" cy="48243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3"/>
          <p:cNvSpPr/>
          <p:nvPr/>
        </p:nvSpPr>
        <p:spPr>
          <a:xfrm>
            <a:off x="4932360" y="611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4932360" y="119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4932360" y="18050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6588000" y="238932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6588000" y="2960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20,0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6119640" y="354636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1,0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5865840" y="4103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5875200" y="47116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2,0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0" y="1125360"/>
            <a:ext cx="9171000" cy="34560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4"/>
          <p:cNvSpPr/>
          <p:nvPr/>
        </p:nvSpPr>
        <p:spPr>
          <a:xfrm>
            <a:off x="6588000" y="177336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11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6805440" y="2279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1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6885000" y="27860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6818400" y="32878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8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Box 8"/>
          <p:cNvSpPr/>
          <p:nvPr/>
        </p:nvSpPr>
        <p:spPr>
          <a:xfrm>
            <a:off x="6885000" y="382896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22-01-25T11:26:42Z</dcterms:modified>
  <cp:revision>263</cp:revision>
  <dc:subject/>
  <dc:title>TITLE</dc:title>
</cp:coreProperties>
</file>