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816-1E05-4E09-A005-273A9121A4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987-A3A3-4430-ACFB-02C5901DB4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36EE-22B3-4645-8F66-68FBA6D77B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370-25D5-448F-888F-A41513D5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FEA-8945-4F90-B4CC-A487BB9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ADC-F2FB-4933-A4CD-D79FF42B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405-D8E5-4DBD-8723-BA900F6B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36A-B2C1-4E4D-8F81-F746CCD8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539D-5893-4B61-AABE-9B660B2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BF9D-F276-4E95-BF08-A983885B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3D6-4B74-4ABE-A741-735C997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7AE-F198-49DF-BE3B-505BC15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2463-9FE1-4032-BBE9-C3C369A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C4E-F5A6-41E7-B88A-167A89A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D18-70B9-4501-AE25-CEB6BE5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1C34-3A56-485C-9CC7-9D34C29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576-6732-4D19-9084-48C0C95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6C29-7248-4867-80B0-503C190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FEFD-E02A-4556-86EC-67732D62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E6B-5D13-4F27-B4A6-7E493D4E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932A-64B7-44EF-BF51-B6A0B376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4404-7ED5-4EC2-B848-5AD4B8B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0B1E-C049-46DE-8545-973B66D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B047-1E19-4012-B2E9-3D1A479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1D8A-D0EB-4742-98D6-FCD7891A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D40-56BC-4A19-BD5F-0697CD3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1734-8569-4BE8-BD19-B744BC47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0A06-F2B2-4FBF-AC21-4D3F979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754D-4D77-47AF-AF07-01F5775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A92D-FC72-4781-A8A1-4A286DC2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A80D-1AAF-4E2D-9527-EEA72543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B9E1-A5D7-4008-A208-9EBD0BCA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B196-BC45-4EEE-9515-F76919E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31B-F48C-4822-9B84-93BFB098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10D-8812-4D8D-9612-721A8CF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A0A-B2D6-4EFC-99C7-67958D90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4E1-7865-4F7C-81ED-303EDC2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21B-A28D-488B-9341-29FB49F5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E0E-61C2-4243-B770-5244AE5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EA34-20CB-4A32-A494-E2309ECCD0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12F4-EAAA-4F04-B5F3-35DD67EADEE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F1B-7889-4A9C-9706-97A1CC33EF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11625" r="0" b="12198"/>
          <a:stretch/>
        </p:blipFill>
        <p:spPr>
          <a:xfrm>
            <a:off x="1403280" y="0"/>
            <a:ext cx="63914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84360" y="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 Euro sesenta y cua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981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 Euro och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1989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 Euros noventa y si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306864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doce Euros nov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400536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is Euro nov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4797360"/>
            <a:ext cx="237492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dos Euros cuarenta y u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95008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tres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noventa y cinco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105264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uenta y seis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1989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o Euros veinti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299736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dos Euros cincu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7352" r="0" b="3701"/>
          <a:stretch/>
        </p:blipFill>
        <p:spPr>
          <a:xfrm>
            <a:off x="190800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87640" y="4762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476280"/>
            <a:ext cx="17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155736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ua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1557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t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4922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492280"/>
            <a:ext cx="20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s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3429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42900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senta y si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3657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4365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ochenta y o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530064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tenta y s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6237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6237360"/>
            <a:ext cx="15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7:29Z</dcterms:modified>
  <cp:revision>232</cp:revision>
  <dc:subject/>
  <dc:title>TITLE</dc:title>
</cp:coreProperties>
</file>