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5BB6-E55D-4A66-9738-CFACCC89F6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8CC7-0529-4C9C-A97B-36E35C5D3C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556-FB82-41A9-8FCC-ED96919323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1B5-C58B-4C50-8FAD-90DBBD07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1DA-16E8-4D64-B53E-B5C3B54D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A3D-7C88-475A-9FB3-2615E56B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3BA-7BE4-4634-A7B7-3E11179A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3E73-17CA-4FA0-AB9C-101C07E2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C51F-DA72-4A93-9458-AB1FA522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9C00-7EA1-4194-BD88-D30777CD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224B-7434-450A-8996-E8406B2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D966-D351-422C-854A-921F8CAC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4E49-3395-461E-8EFA-4C5A6928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5012-623E-4B8D-BD84-63E2E33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61B-1C78-44A1-8F1E-5E641E0C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1B0E-10C1-45F3-AF37-FB6F88EA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6787-133A-416E-860D-FBE6CBF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AA6-F3A8-4C6F-B26E-2B38B2F6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E66B-22D9-4E4E-B6C1-2611C892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96CF-F4DA-4CD9-B52B-27BB867C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578EA-BDEF-4DC0-8A0C-5E376248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7852-D47E-435E-AAC4-CA9BB545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B7B2-1F66-41B9-8867-489EF9A1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E903-16E0-4484-8A38-03ADE6A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04C2-85C4-4D1E-9A78-3708D6C8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12C-3956-49EA-A73A-8E8C3D85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5D33-C98C-4C38-9742-EAB796D2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CE00-CEAF-40E6-95C8-D7C45D0F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19FD-37BB-4D4B-ADFD-E0B6625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0E59-2B79-46DC-80CB-CDC882C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C175-25C6-4C8D-B717-33E05C76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FC6B-A4A6-420A-A988-D5C9EFFB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2234-2233-497B-9944-BDABCF81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638-E701-4CC2-A306-DE24594E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E88-51EF-4D0E-9BF1-62890CE4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390-F123-4C2D-8082-61EF582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D58-2593-4D7F-8FAC-17E0CFA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128-E4CF-4424-A54B-E5FD934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B91-E94D-411B-83F4-3E484FB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9CEA-0E97-49AF-9100-4894A24996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43B9-8C16-4E8E-8D13-FE13EB7297A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AB19-DF3E-41EF-AFBE-04D4876C55A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11625" r="0" b="12198"/>
          <a:stretch/>
        </p:blipFill>
        <p:spPr>
          <a:xfrm>
            <a:off x="1403280" y="0"/>
            <a:ext cx="63914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84360" y="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 Euro sesenta y cua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98100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 Euro ochenta y 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198900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s Euros noventa y si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306864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doce Euros nov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400536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seis Euro noventa y 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4797360"/>
            <a:ext cx="237492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inta y dos Euros cuarenta y u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95008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inta y tres cénti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noventa y cinco cénti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105264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cincuenta y seis cénti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198900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cinco Euros veinti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2997360"/>
            <a:ext cx="23749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dos Euros cincu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7352" r="0" b="3701"/>
          <a:stretch/>
        </p:blipFill>
        <p:spPr>
          <a:xfrm>
            <a:off x="190800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87640" y="4762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476280"/>
            <a:ext cx="172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1557360"/>
            <a:ext cx="10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cua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1557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setenta y 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4922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2492280"/>
            <a:ext cx="20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inta y s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3429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342900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sesenta y si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43657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4365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ochenta y o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530064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setenta y s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6237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6237360"/>
            <a:ext cx="15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Comic Sans MS"/>
              </a:rPr>
              <a:t>ci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37:29Z</dcterms:modified>
  <cp:revision>232</cp:revision>
  <dc:subject/>
  <dc:title>TITLE</dc:title>
</cp:coreProperties>
</file>