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FE3D-4E53-4FD6-B418-51F7FC284B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329B-FA07-4C65-B81A-8476F48FC1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D6A9-F192-4060-8726-A9319F2F78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930E-97B0-4A43-91AB-AED0829DAA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375-FA89-4FCC-98BD-07511A2C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0CF-CFBB-4E49-8CE4-F6576D6B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C01-C3C4-47E6-B98D-E604B12D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326-B652-494D-A513-6A2B00F4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292-6269-4374-8903-81C03E27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6E9-FCC4-4CB8-BF8B-F4FABE05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297-4AFC-4FC5-988D-7B23C518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6C8-E8D0-4C01-8232-5F5B54D3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ECD-EA1C-4565-A967-367D816F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64F-A889-400F-A746-26ED944F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EF0-17DD-466D-BF1F-3D203F36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687-1EC8-47B9-99F6-55985629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280F-4FA0-415F-A9A4-7E8E41FB6E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885080" y="6308640"/>
            <a:ext cx="125892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780000" y="765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Plural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5280" y="2565360"/>
            <a:ext cx="42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nding in vow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68360" y="342900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(a, e, i, o, u)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219640" y="2565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ff"/>
                </a:solidFill>
                <a:latin typeface="Comic Sans MS"/>
              </a:rPr>
              <a:t>add an ‘s’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95280" y="450864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nding in conson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516720" y="4508640"/>
            <a:ext cx="26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ff"/>
                </a:solidFill>
                <a:latin typeface="Comic Sans MS"/>
              </a:rPr>
              <a:t>add ‘es’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50920" y="4221000"/>
            <a:ext cx="1873080" cy="24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7885080" y="6308640"/>
            <a:ext cx="125892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780000" y="765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Plural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95280" y="2565360"/>
            <a:ext cx="42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nding in vow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219640" y="2565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ff"/>
                </a:solidFill>
                <a:latin typeface="Comic Sans MS"/>
              </a:rPr>
              <a:t>add an ‘s’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95280" y="342900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nding in conson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516720" y="3429000"/>
            <a:ext cx="26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ff"/>
                </a:solidFill>
                <a:latin typeface="Comic Sans MS"/>
              </a:rPr>
              <a:t>add ‘es’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95280" y="580536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bruja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195640" y="5084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x 18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6732720" y="5084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x 25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" name="Group 12"/>
          <p:cNvGrpSpPr/>
          <p:nvPr/>
        </p:nvGrpSpPr>
        <p:grpSpPr>
          <a:xfrm>
            <a:off x="4067280" y="4221000"/>
            <a:ext cx="2520720" cy="3090600"/>
            <a:chOff x="4067280" y="4221000"/>
            <a:chExt cx="2520720" cy="3090600"/>
          </a:xfrm>
        </p:grpSpPr>
        <p:sp>
          <p:nvSpPr>
            <p:cNvPr id="66" name="Rectangle 13"/>
            <p:cNvSpPr/>
            <p:nvPr/>
          </p:nvSpPr>
          <p:spPr>
            <a:xfrm>
              <a:off x="4067280" y="4221000"/>
              <a:ext cx="2520720" cy="2448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" name="Text Box 14"/>
            <p:cNvSpPr/>
            <p:nvPr/>
          </p:nvSpPr>
          <p:spPr>
            <a:xfrm>
              <a:off x="4140360" y="5877000"/>
              <a:ext cx="2447640" cy="1434600"/>
            </a:xfrm>
            <a:prstGeom prst="rect">
              <a:avLst/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amapol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8" name="Picture 15" descr="MC900436372[1]"/>
            <p:cNvPicPr/>
            <p:nvPr/>
          </p:nvPicPr>
          <p:blipFill>
            <a:blip r:embed="rId2"/>
            <a:stretch/>
          </p:blipFill>
          <p:spPr>
            <a:xfrm>
              <a:off x="4572000" y="4221000"/>
              <a:ext cx="1655640" cy="16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16" descr="MC900355873[1]"/>
          <p:cNvPicPr/>
          <p:nvPr/>
        </p:nvPicPr>
        <p:blipFill>
          <a:blip r:embed="rId3"/>
          <a:stretch/>
        </p:blipFill>
        <p:spPr>
          <a:xfrm>
            <a:off x="539640" y="4221000"/>
            <a:ext cx="14842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492360" y="2997360"/>
            <a:ext cx="172728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el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 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443640" y="2492280"/>
            <a:ext cx="244800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ontañax 1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0920" y="429264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veintitrés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color</a:t>
            </a:r>
            <a:r>
              <a:rPr b="0" lang="en-GB" sz="4400" spc="-1" strike="noStrike" u="sng">
                <a:solidFill>
                  <a:srgbClr val="ffff66"/>
                </a:solidFill>
                <a:uFillTx/>
                <a:latin typeface="Comic Sans MS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348000" y="479736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dieciséis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vela</a:t>
            </a:r>
            <a:r>
              <a:rPr b="0" lang="en-GB" sz="4400" spc="-1" strike="noStrike" u="sng">
                <a:solidFill>
                  <a:srgbClr val="ffff66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156360" y="4292640"/>
            <a:ext cx="298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diecinueve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montaña</a:t>
            </a:r>
            <a:r>
              <a:rPr b="0" lang="en-GB" sz="4400" spc="-1" strike="noStrike" u="sng">
                <a:solidFill>
                  <a:srgbClr val="ffff66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50920" y="549360"/>
            <a:ext cx="2017440" cy="2089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9" descr="MC900065211[1]"/>
          <p:cNvPicPr/>
          <p:nvPr/>
        </p:nvPicPr>
        <p:blipFill>
          <a:blip r:embed="rId2"/>
          <a:stretch/>
        </p:blipFill>
        <p:spPr>
          <a:xfrm>
            <a:off x="395280" y="765000"/>
            <a:ext cx="1800360" cy="1605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250920" y="2349360"/>
            <a:ext cx="201744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lor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 2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492360" y="476280"/>
            <a:ext cx="1727280" cy="2521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12" descr="MC900412784[1]"/>
          <p:cNvPicPr/>
          <p:nvPr/>
        </p:nvPicPr>
        <p:blipFill>
          <a:blip r:embed="rId3"/>
          <a:stretch/>
        </p:blipFill>
        <p:spPr>
          <a:xfrm>
            <a:off x="3635280" y="692280"/>
            <a:ext cx="1374840" cy="2089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3"/>
          <p:cNvSpPr/>
          <p:nvPr/>
        </p:nvSpPr>
        <p:spPr>
          <a:xfrm>
            <a:off x="6443640" y="333360"/>
            <a:ext cx="2449440" cy="2158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14" descr="MC900389360[1]"/>
          <p:cNvPicPr/>
          <p:nvPr/>
        </p:nvPicPr>
        <p:blipFill>
          <a:blip r:embed="rId4"/>
          <a:stretch/>
        </p:blipFill>
        <p:spPr>
          <a:xfrm>
            <a:off x="6659640" y="476280"/>
            <a:ext cx="19429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47:54Z</dcterms:modified>
  <cp:revision>94</cp:revision>
  <dc:subject/>
  <dc:title>TITLE</dc:title>
</cp:coreProperties>
</file>