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7DBF-0F1F-4DE9-8507-73F0D1ABC3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9B0B-0411-4C50-A6F9-4717BB6DF7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A25B-CAEC-4988-A14A-A2F1713BA0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7852-5C02-49E0-8C90-38B1B312867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31D-0FC3-49B5-8019-0336E041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A2F-345A-4260-BD41-CE38D794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A39-572F-4DA2-9F91-CC583BA0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5C3-76D9-4F0A-B901-3D01985D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9D4-DD24-48D1-817B-26445414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C2C-F92A-44A2-859F-F9617B0D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E7A-BDC7-448F-A569-5A23331A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73E-63C7-48F3-8B33-A18622AA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4D8-215A-48BD-B4E9-40C7E6AD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F6B-E43D-4B7D-B78F-216A7927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A9D-D45C-42C3-932A-DF954944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5B5-E7F9-41A7-A6EF-5CB35DEA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0682-FCD8-478F-82AA-DDEC6B4A3A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885080" y="6308640"/>
            <a:ext cx="125892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780000" y="765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Plural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5280" y="2565360"/>
            <a:ext cx="42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nding in vow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68360" y="342900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(a, e, i, o, u)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219640" y="2565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ff"/>
                </a:solidFill>
                <a:latin typeface="Comic Sans MS"/>
              </a:rPr>
              <a:t>add an ‘s’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95280" y="450864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nding in conson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516720" y="4508640"/>
            <a:ext cx="26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ff"/>
                </a:solidFill>
                <a:latin typeface="Comic Sans MS"/>
              </a:rPr>
              <a:t>add ‘es’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50920" y="4221000"/>
            <a:ext cx="1873080" cy="24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7885080" y="6308640"/>
            <a:ext cx="125892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780000" y="765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Plural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95280" y="2565360"/>
            <a:ext cx="42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nding in vow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219640" y="2565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ff"/>
                </a:solidFill>
                <a:latin typeface="Comic Sans MS"/>
              </a:rPr>
              <a:t>add an ‘s’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95280" y="342900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nding in conson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516720" y="3429000"/>
            <a:ext cx="26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ff"/>
                </a:solidFill>
                <a:latin typeface="Comic Sans MS"/>
              </a:rPr>
              <a:t>add ‘es’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95280" y="580536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bruja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195640" y="5084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x 18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6732720" y="5084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x 25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" name="Group 12"/>
          <p:cNvGrpSpPr/>
          <p:nvPr/>
        </p:nvGrpSpPr>
        <p:grpSpPr>
          <a:xfrm>
            <a:off x="4067280" y="4221000"/>
            <a:ext cx="2520720" cy="3090600"/>
            <a:chOff x="4067280" y="4221000"/>
            <a:chExt cx="2520720" cy="3090600"/>
          </a:xfrm>
        </p:grpSpPr>
        <p:sp>
          <p:nvSpPr>
            <p:cNvPr id="66" name="Rectangle 13"/>
            <p:cNvSpPr/>
            <p:nvPr/>
          </p:nvSpPr>
          <p:spPr>
            <a:xfrm>
              <a:off x="4067280" y="4221000"/>
              <a:ext cx="2520720" cy="2448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" name="Text Box 14"/>
            <p:cNvSpPr/>
            <p:nvPr/>
          </p:nvSpPr>
          <p:spPr>
            <a:xfrm>
              <a:off x="4140360" y="5877000"/>
              <a:ext cx="2447640" cy="1434600"/>
            </a:xfrm>
            <a:prstGeom prst="rect">
              <a:avLst/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amapol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8" name="Picture 15" descr="MC900436372[1]"/>
            <p:cNvPicPr/>
            <p:nvPr/>
          </p:nvPicPr>
          <p:blipFill>
            <a:blip r:embed="rId2"/>
            <a:stretch/>
          </p:blipFill>
          <p:spPr>
            <a:xfrm>
              <a:off x="4572000" y="4221000"/>
              <a:ext cx="1655640" cy="16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16" descr="MC900355873[1]"/>
          <p:cNvPicPr/>
          <p:nvPr/>
        </p:nvPicPr>
        <p:blipFill>
          <a:blip r:embed="rId3"/>
          <a:stretch/>
        </p:blipFill>
        <p:spPr>
          <a:xfrm>
            <a:off x="539640" y="4221000"/>
            <a:ext cx="14842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492360" y="2997360"/>
            <a:ext cx="172728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el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 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443640" y="2492280"/>
            <a:ext cx="244800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ontañax 1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0920" y="429264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veintitrés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color</a:t>
            </a:r>
            <a:r>
              <a:rPr b="0" lang="en-GB" sz="4400" spc="-1" strike="noStrike" u="sng">
                <a:solidFill>
                  <a:srgbClr val="ffff66"/>
                </a:solidFill>
                <a:uFillTx/>
                <a:latin typeface="Comic Sans MS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348000" y="479736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dieciséis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vela</a:t>
            </a:r>
            <a:r>
              <a:rPr b="0" lang="en-GB" sz="4400" spc="-1" strike="noStrike" u="sng">
                <a:solidFill>
                  <a:srgbClr val="ffff66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156360" y="4292640"/>
            <a:ext cx="298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diecinueve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montaña</a:t>
            </a:r>
            <a:r>
              <a:rPr b="0" lang="en-GB" sz="4400" spc="-1" strike="noStrike" u="sng">
                <a:solidFill>
                  <a:srgbClr val="ffff66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50920" y="549360"/>
            <a:ext cx="2017440" cy="2089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9" descr="MC900065211[1]"/>
          <p:cNvPicPr/>
          <p:nvPr/>
        </p:nvPicPr>
        <p:blipFill>
          <a:blip r:embed="rId2"/>
          <a:stretch/>
        </p:blipFill>
        <p:spPr>
          <a:xfrm>
            <a:off x="395280" y="765000"/>
            <a:ext cx="1800360" cy="1605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250920" y="2349360"/>
            <a:ext cx="201744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lor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 2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492360" y="476280"/>
            <a:ext cx="1727280" cy="2521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12" descr="MC900412784[1]"/>
          <p:cNvPicPr/>
          <p:nvPr/>
        </p:nvPicPr>
        <p:blipFill>
          <a:blip r:embed="rId3"/>
          <a:stretch/>
        </p:blipFill>
        <p:spPr>
          <a:xfrm>
            <a:off x="3635280" y="692280"/>
            <a:ext cx="1374840" cy="2089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3"/>
          <p:cNvSpPr/>
          <p:nvPr/>
        </p:nvSpPr>
        <p:spPr>
          <a:xfrm>
            <a:off x="6443640" y="333360"/>
            <a:ext cx="2449440" cy="2158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14" descr="MC900389360[1]"/>
          <p:cNvPicPr/>
          <p:nvPr/>
        </p:nvPicPr>
        <p:blipFill>
          <a:blip r:embed="rId4"/>
          <a:stretch/>
        </p:blipFill>
        <p:spPr>
          <a:xfrm>
            <a:off x="6659640" y="476280"/>
            <a:ext cx="19429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47:54Z</dcterms:modified>
  <cp:revision>94</cp:revision>
  <dc:subject/>
  <dc:title>TITLE</dc:title>
</cp:coreProperties>
</file>