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52C2-FA50-4E40-9DD6-E5D9B12EF80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8FF5-C99F-4037-A7C3-85F243A536E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5543-A714-44D8-8AE4-315DFA460C2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A2CC-D690-4C4E-8AC0-A390931A118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CC23-01F1-45E0-9E14-1D1FA9B7D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287E-52E9-4207-B191-FDFC024B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7F78-5F55-4A58-AACB-32A6C62CB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4CC7-1BE4-47B5-9BDD-AAAB6BF0D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78C8-C02D-499D-A4C9-380256F69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5C9C-CB42-4647-A337-7A509FBC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299E-9ECE-4FA9-A299-138AC9A4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9A27-8314-426E-B1F0-73618C19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7568-F099-49DD-9915-541F78D0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74AF-9071-4F3B-874F-28D1802A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350E-E291-4EC1-91D4-EC65260F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2137-FE25-4FFD-9C9C-9E915856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5EC4-868B-41C4-9F73-270D6DB8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3D47-719E-4284-A082-8621BC58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9FBA-B407-4EB1-9A40-2963A3C8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63DF-C577-49AD-80BC-2BC008C4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B1EF-3A49-4998-8F59-943C51266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F4B9C-B483-456C-9D38-E514C8EDB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51E24-6551-47F8-8396-D9183BC6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A4EB3-A882-4EBC-8C06-3A65AE2C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B4C5A-3D55-45EA-9396-914B4D41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47E3A-4A65-4D6F-BAF8-55FE9579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C032-AC66-4085-8FFA-5785AC74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D51EE-D1B2-4EFF-9F99-DAEF6DD1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86295-D00F-415B-8AD4-D78C1786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4E769-0202-4EC4-94E2-C47E3F85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9E285-4280-4095-B6F9-B632813B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78B2C-0B2C-48FB-956A-08F31A3F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CBB2D-77C5-441A-A2F5-52FE12F3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C395D-3A95-4DDA-8D24-73B031A1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4881-F411-4E87-B540-E0C8F4B1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FD25-8A62-4BB3-BF40-A4ED0390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B4AD-49F8-44A8-8CD8-D25A8D12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C3B7-F3AC-4A14-88DA-0FD20E86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85B0-F8D7-42D8-849B-2B39D54C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2D68-6F80-4FB0-A395-D70E35EE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B438-9682-40F6-8AF9-A17F961DB8E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CF76-36E7-42FD-B665-FD2A70B3A68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62CC-DF9D-4EEA-9596-81E3DD6B3A3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1" descr=""/>
          <p:cNvPicPr/>
          <p:nvPr/>
        </p:nvPicPr>
        <p:blipFill>
          <a:blip r:embed="rId2"/>
          <a:stretch/>
        </p:blipFill>
        <p:spPr>
          <a:xfrm>
            <a:off x="0" y="193680"/>
            <a:ext cx="9150480" cy="65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1835280" y="765000"/>
            <a:ext cx="5443560" cy="5243760"/>
          </a:xfrm>
          <a:prstGeom prst="rect">
            <a:avLst/>
          </a:prstGeom>
          <a:ln w="0">
            <a:noFill/>
          </a:ln>
        </p:spPr>
      </p:pic>
      <p:sp>
        <p:nvSpPr>
          <p:cNvPr id="134" name="Oval 1"/>
          <p:cNvSpPr/>
          <p:nvPr/>
        </p:nvSpPr>
        <p:spPr>
          <a:xfrm>
            <a:off x="4341960" y="2924280"/>
            <a:ext cx="43164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Oval 4"/>
          <p:cNvSpPr/>
          <p:nvPr/>
        </p:nvSpPr>
        <p:spPr>
          <a:xfrm>
            <a:off x="4716360" y="2060640"/>
            <a:ext cx="1800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Oval 5"/>
          <p:cNvSpPr/>
          <p:nvPr/>
        </p:nvSpPr>
        <p:spPr>
          <a:xfrm>
            <a:off x="4138560" y="4149720"/>
            <a:ext cx="1009800" cy="57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179280" y="610236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a"/>
                </a:solidFill>
                <a:latin typeface="Comic Sans MS"/>
              </a:rPr>
              <a:t>Even better if…: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grande / pequeñ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6"/>
          <p:cNvSpPr/>
          <p:nvPr/>
        </p:nvSpPr>
        <p:spPr>
          <a:xfrm>
            <a:off x="7670880" y="6553080"/>
            <a:ext cx="1344600" cy="3049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Picture 17" descr="biblioteca"/>
          <p:cNvPicPr/>
          <p:nvPr/>
        </p:nvPicPr>
        <p:blipFill>
          <a:blip r:embed="rId2"/>
          <a:stretch/>
        </p:blipFill>
        <p:spPr>
          <a:xfrm>
            <a:off x="179280" y="260280"/>
            <a:ext cx="2160720" cy="162396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40" name="Picture 18" descr="colegio"/>
          <p:cNvPicPr/>
          <p:nvPr/>
        </p:nvPicPr>
        <p:blipFill>
          <a:blip r:embed="rId3"/>
          <a:stretch/>
        </p:blipFill>
        <p:spPr>
          <a:xfrm>
            <a:off x="2556000" y="260280"/>
            <a:ext cx="2160360" cy="164772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41" name="Picture 19" descr="correos"/>
          <p:cNvPicPr/>
          <p:nvPr/>
        </p:nvPicPr>
        <p:blipFill>
          <a:blip r:embed="rId4"/>
          <a:stretch/>
        </p:blipFill>
        <p:spPr>
          <a:xfrm>
            <a:off x="1908000" y="2421000"/>
            <a:ext cx="1690920" cy="176508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42" name="Picture 20" descr="iglesia"/>
          <p:cNvPicPr/>
          <p:nvPr/>
        </p:nvPicPr>
        <p:blipFill>
          <a:blip r:embed="rId5"/>
          <a:stretch/>
        </p:blipFill>
        <p:spPr>
          <a:xfrm>
            <a:off x="179280" y="2397240"/>
            <a:ext cx="1489320" cy="23670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43" name="Picture 21" descr="río"/>
          <p:cNvPicPr/>
          <p:nvPr/>
        </p:nvPicPr>
        <p:blipFill>
          <a:blip r:embed="rId6"/>
          <a:stretch/>
        </p:blipFill>
        <p:spPr>
          <a:xfrm>
            <a:off x="3851280" y="4365720"/>
            <a:ext cx="2808360" cy="151920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44" name="Picture 22" descr="plaza"/>
          <p:cNvPicPr/>
          <p:nvPr/>
        </p:nvPicPr>
        <p:blipFill>
          <a:blip r:embed="rId7"/>
          <a:stretch/>
        </p:blipFill>
        <p:spPr>
          <a:xfrm>
            <a:off x="4932360" y="260280"/>
            <a:ext cx="2016000" cy="151596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45" name="Picture 23" descr="museo"/>
          <p:cNvPicPr/>
          <p:nvPr/>
        </p:nvPicPr>
        <p:blipFill>
          <a:blip r:embed="rId8"/>
          <a:stretch/>
        </p:blipFill>
        <p:spPr>
          <a:xfrm>
            <a:off x="179280" y="5132520"/>
            <a:ext cx="1673280" cy="146340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146" name="Picture 24" descr="mercado"/>
          <p:cNvPicPr/>
          <p:nvPr/>
        </p:nvPicPr>
        <p:blipFill>
          <a:blip r:embed="rId9"/>
          <a:stretch/>
        </p:blipFill>
        <p:spPr>
          <a:xfrm>
            <a:off x="1979640" y="4365720"/>
            <a:ext cx="1577880" cy="153648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147" name="Picture 25" descr="café"/>
          <p:cNvPicPr/>
          <p:nvPr/>
        </p:nvPicPr>
        <p:blipFill>
          <a:blip r:embed="rId10"/>
          <a:stretch/>
        </p:blipFill>
        <p:spPr>
          <a:xfrm>
            <a:off x="3851280" y="2421000"/>
            <a:ext cx="1614600" cy="1763640"/>
          </a:xfrm>
          <a:prstGeom prst="rect">
            <a:avLst/>
          </a:prstGeom>
          <a:ln w="9360">
            <a:solidFill>
              <a:srgbClr val="ff5050"/>
            </a:solidFill>
            <a:miter/>
          </a:ln>
        </p:spPr>
      </p:pic>
      <p:pic>
        <p:nvPicPr>
          <p:cNvPr id="148" name="Picture 26" descr="banco"/>
          <p:cNvPicPr/>
          <p:nvPr/>
        </p:nvPicPr>
        <p:blipFill>
          <a:blip r:embed="rId11"/>
          <a:stretch/>
        </p:blipFill>
        <p:spPr>
          <a:xfrm>
            <a:off x="3276720" y="5694480"/>
            <a:ext cx="1301760" cy="116352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149" name="Picture 27" descr="hospital"/>
          <p:cNvPicPr/>
          <p:nvPr/>
        </p:nvPicPr>
        <p:blipFill>
          <a:blip r:embed="rId12"/>
          <a:stretch/>
        </p:blipFill>
        <p:spPr>
          <a:xfrm>
            <a:off x="7524720" y="2421000"/>
            <a:ext cx="1641600" cy="180000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150" name="Picture 28" descr="parque"/>
          <p:cNvPicPr/>
          <p:nvPr/>
        </p:nvPicPr>
        <p:blipFill>
          <a:blip r:embed="rId13"/>
          <a:stretch/>
        </p:blipFill>
        <p:spPr>
          <a:xfrm>
            <a:off x="7236000" y="260280"/>
            <a:ext cx="1672920" cy="153036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151" name="Picture 29" descr="supermercado"/>
          <p:cNvPicPr/>
          <p:nvPr/>
        </p:nvPicPr>
        <p:blipFill>
          <a:blip r:embed="rId14"/>
          <a:stretch/>
        </p:blipFill>
        <p:spPr>
          <a:xfrm>
            <a:off x="5724360" y="2421000"/>
            <a:ext cx="1663920" cy="176364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152" name="Picture 30" descr="estacion-renfe"/>
          <p:cNvPicPr/>
          <p:nvPr/>
        </p:nvPicPr>
        <p:blipFill>
          <a:blip r:embed="rId15"/>
          <a:stretch/>
        </p:blipFill>
        <p:spPr>
          <a:xfrm>
            <a:off x="7101000" y="4365720"/>
            <a:ext cx="2043000" cy="1536480"/>
          </a:xfrm>
          <a:prstGeom prst="rect">
            <a:avLst/>
          </a:prstGeom>
          <a:ln w="9360">
            <a:solidFill>
              <a:srgbClr val="ff5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2-10-15T09:49:08Z</dcterms:modified>
  <cp:revision>239</cp:revision>
  <dc:subject/>
  <dc:title>TITLE</dc:title>
</cp:coreProperties>
</file>