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871-1A1F-4AEF-B69D-3E57B67E8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6A8-42A6-4BA8-B461-974FA01FB1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917D-CD51-466D-91AA-5236EA4370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88E-8302-40C7-A96A-D51D1067D5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A19-E204-4D8A-81B0-5C4166E3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ACA-1DFC-4FA6-8BA3-E1421DA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CEA-5308-4E58-BB2F-D57F20BC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223-42E0-40AA-BBED-3B184CB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2C22-C24D-43B5-B835-A5D56B58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DAAE-4A96-4147-952D-9059629E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815-7A56-4F7F-907C-6624ED6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C5A1-2C2E-4985-B7D8-98AB86F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419-F127-45B3-B301-189C5AB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019-F7B9-4529-BCD3-5113333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903-0635-43C0-B01B-7C2A3F4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DBF-1869-4950-A167-6372F0F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9793-0B89-417F-8F38-D6A79AA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E103-4813-4691-BBB7-9A51339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6FF-7113-46A3-B0D0-D3F0B4A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D6F6-7FF7-4B41-979C-0A3028C6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D4F5-4841-4DD6-B6BF-2A587197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B15C-0BC9-41D8-9D66-A7EE008F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DC5D-2936-4E39-97DB-8F4515FF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E46A-6678-4F36-AC70-B6359030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F7B9-E8C6-4515-97B8-6FAC255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4EC4-C3CC-45B9-BA32-087F2B7F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98B-9385-42C1-A273-E11CB32B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3C3D-CE20-447F-80F3-0329467E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FF16-5899-4040-B3D6-40A448A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CDB1-6DAE-4694-AA3C-726C6BF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9727-573D-4A13-8B72-3F21DF7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DB6F-D330-44AC-A2D6-98B14137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D095-DF23-4A96-9FAC-D3B4F9E6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A4E0-B611-4E71-835C-56A40272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40B-4450-4033-9DAD-F6A9CD3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817-E4CB-4043-AC28-C9B4673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14E-178E-40EE-A71D-D64F36D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A65-FB7D-455D-9346-9176CAC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852-8B4C-44AC-BD30-0197335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823-DE01-413A-AF1B-C4DFD79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6DC-0E58-481A-A73B-A3B33B023A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F84-1CD4-46A2-9AC1-10110C6D0A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19E-D417-4893-B9E0-C44A25F41DF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0" y="193680"/>
            <a:ext cx="91504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835280" y="765000"/>
            <a:ext cx="5443560" cy="5243760"/>
          </a:xfrm>
          <a:prstGeom prst="rect">
            <a:avLst/>
          </a:prstGeom>
          <a:ln w="0">
            <a:noFill/>
          </a:ln>
        </p:spPr>
      </p:pic>
      <p:sp>
        <p:nvSpPr>
          <p:cNvPr id="134" name="Oval 1"/>
          <p:cNvSpPr/>
          <p:nvPr/>
        </p:nvSpPr>
        <p:spPr>
          <a:xfrm>
            <a:off x="4341960" y="2924280"/>
            <a:ext cx="431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4716360" y="206064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4138560" y="4149720"/>
            <a:ext cx="10098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79280" y="6102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Even better if…: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grande / pequeñ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7670880" y="6553080"/>
            <a:ext cx="1344600" cy="30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7" descr="biblioteca"/>
          <p:cNvPicPr/>
          <p:nvPr/>
        </p:nvPicPr>
        <p:blipFill>
          <a:blip r:embed="rId2"/>
          <a:stretch/>
        </p:blipFill>
        <p:spPr>
          <a:xfrm>
            <a:off x="179280" y="260280"/>
            <a:ext cx="2160720" cy="16239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0" name="Picture 18" descr="colegio"/>
          <p:cNvPicPr/>
          <p:nvPr/>
        </p:nvPicPr>
        <p:blipFill>
          <a:blip r:embed="rId3"/>
          <a:stretch/>
        </p:blipFill>
        <p:spPr>
          <a:xfrm>
            <a:off x="2556000" y="260280"/>
            <a:ext cx="2160360" cy="16477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1" name="Picture 19" descr="correos"/>
          <p:cNvPicPr/>
          <p:nvPr/>
        </p:nvPicPr>
        <p:blipFill>
          <a:blip r:embed="rId4"/>
          <a:stretch/>
        </p:blipFill>
        <p:spPr>
          <a:xfrm>
            <a:off x="1908000" y="2421000"/>
            <a:ext cx="1690920" cy="17650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2" name="Picture 20" descr="iglesia"/>
          <p:cNvPicPr/>
          <p:nvPr/>
        </p:nvPicPr>
        <p:blipFill>
          <a:blip r:embed="rId5"/>
          <a:stretch/>
        </p:blipFill>
        <p:spPr>
          <a:xfrm>
            <a:off x="179280" y="2397240"/>
            <a:ext cx="1489320" cy="2367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3" name="Picture 21" descr="río"/>
          <p:cNvPicPr/>
          <p:nvPr/>
        </p:nvPicPr>
        <p:blipFill>
          <a:blip r:embed="rId6"/>
          <a:stretch/>
        </p:blipFill>
        <p:spPr>
          <a:xfrm>
            <a:off x="3851280" y="4365720"/>
            <a:ext cx="2808360" cy="15192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4" name="Picture 22" descr="plaza"/>
          <p:cNvPicPr/>
          <p:nvPr/>
        </p:nvPicPr>
        <p:blipFill>
          <a:blip r:embed="rId7"/>
          <a:stretch/>
        </p:blipFill>
        <p:spPr>
          <a:xfrm>
            <a:off x="4932360" y="260280"/>
            <a:ext cx="2016000" cy="15159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5" name="Picture 23" descr="museo"/>
          <p:cNvPicPr/>
          <p:nvPr/>
        </p:nvPicPr>
        <p:blipFill>
          <a:blip r:embed="rId8"/>
          <a:stretch/>
        </p:blipFill>
        <p:spPr>
          <a:xfrm>
            <a:off x="179280" y="5132520"/>
            <a:ext cx="1673280" cy="14634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6" name="Picture 24" descr="mercado"/>
          <p:cNvPicPr/>
          <p:nvPr/>
        </p:nvPicPr>
        <p:blipFill>
          <a:blip r:embed="rId9"/>
          <a:stretch/>
        </p:blipFill>
        <p:spPr>
          <a:xfrm>
            <a:off x="1979640" y="4365720"/>
            <a:ext cx="1577880" cy="1536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7" name="Picture 25" descr="café"/>
          <p:cNvPicPr/>
          <p:nvPr/>
        </p:nvPicPr>
        <p:blipFill>
          <a:blip r:embed="rId10"/>
          <a:stretch/>
        </p:blipFill>
        <p:spPr>
          <a:xfrm>
            <a:off x="3851280" y="2421000"/>
            <a:ext cx="1614600" cy="176364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pic>
        <p:nvPicPr>
          <p:cNvPr id="148" name="Picture 26" descr="banco"/>
          <p:cNvPicPr/>
          <p:nvPr/>
        </p:nvPicPr>
        <p:blipFill>
          <a:blip r:embed="rId11"/>
          <a:stretch/>
        </p:blipFill>
        <p:spPr>
          <a:xfrm>
            <a:off x="3276720" y="5694480"/>
            <a:ext cx="1301760" cy="1163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9" name="Picture 27" descr="hospital"/>
          <p:cNvPicPr/>
          <p:nvPr/>
        </p:nvPicPr>
        <p:blipFill>
          <a:blip r:embed="rId12"/>
          <a:stretch/>
        </p:blipFill>
        <p:spPr>
          <a:xfrm>
            <a:off x="7524720" y="2421000"/>
            <a:ext cx="1641600" cy="1800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0" name="Picture 28" descr="parque"/>
          <p:cNvPicPr/>
          <p:nvPr/>
        </p:nvPicPr>
        <p:blipFill>
          <a:blip r:embed="rId13"/>
          <a:stretch/>
        </p:blipFill>
        <p:spPr>
          <a:xfrm>
            <a:off x="7236000" y="260280"/>
            <a:ext cx="1672920" cy="1530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1" name="Picture 29" descr="supermercado"/>
          <p:cNvPicPr/>
          <p:nvPr/>
        </p:nvPicPr>
        <p:blipFill>
          <a:blip r:embed="rId14"/>
          <a:stretch/>
        </p:blipFill>
        <p:spPr>
          <a:xfrm>
            <a:off x="5724360" y="2421000"/>
            <a:ext cx="1663920" cy="17636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2" name="Picture 30" descr="estacion-renfe"/>
          <p:cNvPicPr/>
          <p:nvPr/>
        </p:nvPicPr>
        <p:blipFill>
          <a:blip r:embed="rId15"/>
          <a:stretch/>
        </p:blipFill>
        <p:spPr>
          <a:xfrm>
            <a:off x="7101000" y="4365720"/>
            <a:ext cx="2043000" cy="153648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10-15T09:49:08Z</dcterms:modified>
  <cp:revision>239</cp:revision>
  <dc:subject/>
  <dc:title>TITLE</dc:title>
</cp:coreProperties>
</file>