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B7E8-1E59-4143-8165-031221EB19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07B5-0FD3-4A79-84E3-FAED0300D2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CA11-3DD6-42FA-A740-F3C53695EB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FCD-50CB-492D-989C-CB333AAE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C70-2DF3-473D-B759-D223E043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E80-A7D3-4EF8-A490-72325C97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290-09D3-4ADB-8243-9DB15302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4220-CA05-44A0-A9AF-DA51CF63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CF6A-2D10-48A6-9663-B60C3BA8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DA85-DC53-42A0-A7DD-36C1356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AE3C-A365-4758-99F1-860296D3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27A3-32F6-46C4-9590-A75D8A6B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AE7B-3B8A-469B-A0E5-66C4163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2807-E5FE-441A-BAEC-D346CE35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98D-161C-4756-B645-AD63AC10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D091-99B5-4E49-8597-C609782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4324-96AC-4D7C-BAA3-38B30442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A993-C987-49E2-B29D-43C56FC7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0D1C-8B64-4E1E-A768-7A28E1A5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4AFF-F5A5-4A14-A424-FB1DA5A1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04A9-64C0-4B76-B6C6-3DD4FCCE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F673-F994-40EF-AE53-81E69D31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63B1-EC5B-4A2E-AC67-6FE1F793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E5B4-E5A1-4A05-9327-1A250A70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3468-9B1B-4FD6-BED1-584F2D29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759-85A0-4852-B57C-7D5FCE29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A346-CD82-49D3-90B7-153B883C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E12E-EB6C-4240-83AC-00ECFC6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1950-F521-46D9-99E2-B5C01073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B233-0CE8-4200-A739-B6141056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F48D-9F69-42A7-8C8E-187CC108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1F67-DF0C-4228-838B-170D2934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6D9F-509C-4B88-8F12-78979CC4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728-5444-4C3E-A69E-1417AFD8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CB4-5B7F-48C7-A0AB-7B703CD6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AF3-F2B0-4F53-8A6E-6DBA1333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9C9-8DB8-4504-B77D-7DF1177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89F-88F5-4CF6-AA82-C46AB15C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24B-7D49-4815-81FE-1F11B429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1B56-3E8F-4F33-829B-2BB280052B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46F7-E0DF-4A19-A6A7-D4BD4ED2DE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6512-E443-4CDE-8660-A4D7807EDE6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274680" y="33336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g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74680" y="142704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pañ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74680" y="252108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74680" y="361620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a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74680" y="471024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m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274680" y="580536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3132000" y="33336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in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3132000" y="142704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ren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3132000" y="252108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3132000" y="361620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erm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3132000" y="471024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pani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3132000" y="580536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Wel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74680" y="33336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g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74680" y="142704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pañ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74680" y="252108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74680" y="361620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a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74680" y="471024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m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274680" y="5805360"/>
            <a:ext cx="24494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3132000" y="33336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3132000" y="142704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pani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3132000" y="252108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ren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3132000" y="361620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Wel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3132000" y="471024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erm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3132000" y="5805360"/>
            <a:ext cx="2448000" cy="764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ine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6" name="Straight Arrow Connector 15"/>
          <p:cNvCxnSpPr/>
          <p:nvPr/>
        </p:nvCxnSpPr>
        <p:spPr>
          <a:xfrm flipH="1">
            <a:off x="2723400" y="71712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57" name="Straight Arrow Connector 17"/>
          <p:cNvCxnSpPr/>
          <p:nvPr/>
        </p:nvCxnSpPr>
        <p:spPr>
          <a:xfrm flipH="1">
            <a:off x="2723400" y="181080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58" name="Straight Arrow Connector 18"/>
          <p:cNvCxnSpPr/>
          <p:nvPr/>
        </p:nvCxnSpPr>
        <p:spPr>
          <a:xfrm flipH="1">
            <a:off x="2723400" y="290628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59" name="Straight Arrow Connector 19"/>
          <p:cNvCxnSpPr/>
          <p:nvPr/>
        </p:nvCxnSpPr>
        <p:spPr>
          <a:xfrm flipH="1">
            <a:off x="2723400" y="400032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60" name="Straight Arrow Connector 20"/>
          <p:cNvCxnSpPr/>
          <p:nvPr/>
        </p:nvCxnSpPr>
        <p:spPr>
          <a:xfrm flipH="1">
            <a:off x="2723400" y="509544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  <p:cxnSp>
        <p:nvCxnSpPr>
          <p:cNvPr id="161" name="Straight Arrow Connector 21"/>
          <p:cNvCxnSpPr/>
          <p:nvPr/>
        </p:nvCxnSpPr>
        <p:spPr>
          <a:xfrm flipH="1">
            <a:off x="2723400" y="6189480"/>
            <a:ext cx="408600" cy="1080"/>
          </a:xfrm>
          <a:prstGeom prst="straightConnector1">
            <a:avLst/>
          </a:prstGeom>
          <a:ln w="57240">
            <a:solidFill>
              <a:srgbClr val="fffff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4:40Z</dcterms:modified>
  <cp:revision>345</cp:revision>
  <dc:subject/>
  <dc:title>TITLE</dc:title>
</cp:coreProperties>
</file>