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47A9-3F4B-4E39-947A-B0EAA183A7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2D5C-AB5D-4F24-9F96-7EB19A8DB1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C8A5-FDDB-4EF8-82DB-07249AD69B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592-ED3D-4547-9BAC-634BDF8C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5EF-360C-4D96-9B87-30B90C1D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A68-ED09-437F-83F7-08EE840C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2C2-415F-4693-A7C4-B08F2153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0F65-8010-455A-B719-918DF1D7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FAD6-2391-48EA-8160-B5A0D769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4B5E-1176-4445-9637-299F2CE9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3B65-A737-4130-8AD4-AFE0805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A49C-C2DA-4680-8175-B697347F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C0FF-1E42-4472-B452-9B99EA4F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2330-F6EC-4707-ADE3-80D65503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F8A-74AE-4DE9-854E-038C986A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4CC4-C9FA-4FC2-9CA7-7DE537E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1BC1-FAA5-423D-BCA2-9F3FF22F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27AA-C77B-4253-B4DA-19D95E4C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A23A-A525-49BA-A5C9-C395137C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FE85-C376-4F33-A720-5F7E0C19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8611-54A7-4224-B7FF-87770008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1719-7BAB-4025-AD15-96DA47EE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500C-420E-45C4-8012-6DB4A566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B5E8-CEC3-4C9B-BF7A-D4D512CD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2B6B-BF65-49AE-AA88-0BF4EF5C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953-9F9A-41BE-90AC-991D84D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3CB96-7799-4252-BAF9-74A964C2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B13D3-C89D-4533-93BC-62668544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0472-45E7-485D-ACC4-78CA235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0A65-4418-4D10-8807-8DD691CF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CFB4-26C5-40A7-A14F-7371DFBF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3173-4EC8-4D8F-B10F-1920D8CB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509B-9168-4C29-8FDC-552D1C89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D49-294E-47B6-87BA-759A1FFC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D49-CA57-4239-9437-C3AF7BA8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5D8-208C-4DDA-8FD4-4C3FD186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717-5F78-4F62-8ECF-91ADFE7E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CDA-97FF-43F9-B2AB-2BFEF8B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A22-3F8D-492A-B2D9-91A8C8B1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CEE-2B02-4DA0-87EE-821F10491E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ADE7-662D-4A08-865D-BC718482ED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9DEC-6828-49FF-8FFA-F1D01A6849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274680" y="33336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g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74680" y="142704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pañ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74680" y="252108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74680" y="361620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a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74680" y="471024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m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274680" y="580536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3132000" y="33336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in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3132000" y="142704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ren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3132000" y="252108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3132000" y="361620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erm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3132000" y="471024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pani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3132000" y="580536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Wel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74680" y="33336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g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74680" y="142704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pañ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74680" y="252108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74680" y="361620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a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74680" y="471024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m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274680" y="580536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3132000" y="33336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3132000" y="142704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pani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3132000" y="252108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ren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3132000" y="361620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Wel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3132000" y="471024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erm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3132000" y="580536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in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6" name="Straight Arrow Connector 15"/>
          <p:cNvCxnSpPr/>
          <p:nvPr/>
        </p:nvCxnSpPr>
        <p:spPr>
          <a:xfrm flipH="1">
            <a:off x="2723400" y="71712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57" name="Straight Arrow Connector 17"/>
          <p:cNvCxnSpPr/>
          <p:nvPr/>
        </p:nvCxnSpPr>
        <p:spPr>
          <a:xfrm flipH="1">
            <a:off x="2723400" y="181080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58" name="Straight Arrow Connector 18"/>
          <p:cNvCxnSpPr/>
          <p:nvPr/>
        </p:nvCxnSpPr>
        <p:spPr>
          <a:xfrm flipH="1">
            <a:off x="2723400" y="290628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59" name="Straight Arrow Connector 19"/>
          <p:cNvCxnSpPr/>
          <p:nvPr/>
        </p:nvCxnSpPr>
        <p:spPr>
          <a:xfrm flipH="1">
            <a:off x="2723400" y="400032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60" name="Straight Arrow Connector 20"/>
          <p:cNvCxnSpPr/>
          <p:nvPr/>
        </p:nvCxnSpPr>
        <p:spPr>
          <a:xfrm flipH="1">
            <a:off x="2723400" y="509544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61" name="Straight Arrow Connector 21"/>
          <p:cNvCxnSpPr/>
          <p:nvPr/>
        </p:nvCxnSpPr>
        <p:spPr>
          <a:xfrm flipH="1">
            <a:off x="2723400" y="618948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4:40Z</dcterms:modified>
  <cp:revision>345</cp:revision>
  <dc:subject/>
  <dc:title>TITLE</dc:title>
</cp:coreProperties>
</file>