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34E0-E339-4438-BCF1-9D91C295D1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752B-FDAA-4D3E-A532-918391B6E2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9255-64EA-42B3-9CCD-D69EFE64C2C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F39C-8AB1-42D5-A3A9-D9EA1901A2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85B1-1173-443C-B244-2E806B0689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1F16-7303-4989-8C52-390567416B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B26-98BF-48D3-896F-D3BA06527B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30F-69EA-468C-B3E3-0D8B6BB5E5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8C4-8C36-488D-AF7F-5D52CE5427A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9ED0-8DC1-42C9-932F-6D4BA238FE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625A-B076-41AE-81F0-C4191E924A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E71-B4AB-4460-BE2F-FD1BB621AB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C9CF-86A0-4621-A102-3678AA21B4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88FB-46AB-4EAB-90BC-3DF8DDFD32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56D0-E4FB-48C7-AC23-C542CD4307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2CAD-634D-46A8-96FC-4AF0603D74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54F-C134-4781-AE77-FC6A4F475A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7BE1-8270-48F9-8BE8-E58C418490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CA88-8409-4A9B-9C31-E3425A395C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4559-789C-445A-B2FE-FB23C7FD3F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B49A-570D-4959-8AF5-0F18C0379C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9839-5B08-4B0E-9766-050A241EE4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11B3-B737-4E1B-B044-F73BEC5A22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0D08-0523-40EC-9399-D713663D2D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23C2-C498-4819-B518-BD31211E996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7079-D364-4266-90C8-ADA46E9F71D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DF3A-5374-4D49-AFF0-4145BEC57D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555F-990C-41A7-9799-11B82E24BA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8AD-06C4-44A6-97EB-68EB73AD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2BF-03EB-4CAD-A692-3D27EF8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63D-B148-43A3-8E05-6E7F0C14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C9F-0B00-4D89-9EAA-91CB9482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879-DB14-4532-A79F-63A1FA21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06F-BEB4-4317-9146-DB96BCA5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73A-F68A-45ED-8AB3-3DF7C21A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C42-766F-47E5-99F9-17ECC1A3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F13-C377-4835-86A5-F8C6F17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575-56C5-4DCC-8382-30EAD77C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9E6-D546-4296-8C80-FE4E2F8C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088-F938-4CB7-A207-DCC4C33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542-F0CB-4ED8-9DFB-12CEDCDE5B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50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30"/>
          <p:cNvSpPr/>
          <p:nvPr/>
        </p:nvSpPr>
        <p:spPr>
          <a:xfrm>
            <a:off x="3059280" y="2565360"/>
            <a:ext cx="2773080" cy="115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traight Connector 51200"/>
          <p:cNvSpPr/>
          <p:nvPr/>
        </p:nvSpPr>
        <p:spPr>
          <a:xfrm>
            <a:off x="6659640" y="3573360"/>
            <a:ext cx="17287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36"/>
          <p:cNvSpPr/>
          <p:nvPr/>
        </p:nvSpPr>
        <p:spPr>
          <a:xfrm>
            <a:off x="5832360" y="2565360"/>
            <a:ext cx="836640" cy="1150920"/>
          </a:xfrm>
          <a:custGeom>
            <a:avLst/>
            <a:gdLst>
              <a:gd name="textAreaLeft" fmla="*/ 40680 w 836640"/>
              <a:gd name="textAreaRight" fmla="*/ 795960 w 836640"/>
              <a:gd name="textAreaTop" fmla="*/ 40680 h 1150920"/>
              <a:gd name="textAreaBottom" fmla="*/ 1110240 h 1150920"/>
            </a:gdLst>
            <a:ahLst/>
            <a:rect l="textAreaLeft" t="textAreaTop" r="textAreaRight" b="textAreaBottom"/>
            <a:pathLst>
              <a:path w="21600" h="29710">
                <a:moveTo>
                  <a:pt x="3600" y="0"/>
                </a:moveTo>
                <a:arcTo wR="3600" hR="3600" stAng="16200000" swAng="-5400000"/>
                <a:lnTo>
                  <a:pt x="0" y="26110"/>
                </a:lnTo>
                <a:arcTo wR="3600" hR="3600" stAng="10800000" swAng="-5400000"/>
                <a:lnTo>
                  <a:pt x="18000" y="29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1204"/>
          <p:cNvSpPr/>
          <p:nvPr/>
        </p:nvSpPr>
        <p:spPr>
          <a:xfrm>
            <a:off x="3419640" y="48308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2"/>
          <p:cNvSpPr/>
          <p:nvPr/>
        </p:nvSpPr>
        <p:spPr>
          <a:xfrm flipH="1">
            <a:off x="4211640" y="5214960"/>
            <a:ext cx="3889440" cy="0"/>
          </a:xfrm>
          <a:prstGeom prst="line">
            <a:avLst/>
          </a:prstGeom>
          <a:ln w="76320">
            <a:solidFill>
              <a:srgbClr val="faf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073320" y="5516640"/>
            <a:ext cx="625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3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35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3"/>
          <p:cNvSpPr/>
          <p:nvPr/>
        </p:nvSpPr>
        <p:spPr>
          <a:xfrm>
            <a:off x="2035080" y="5157720"/>
            <a:ext cx="4840560" cy="10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8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28" name="Rectangle 3"/>
          <p:cNvSpPr/>
          <p:nvPr/>
        </p:nvSpPr>
        <p:spPr>
          <a:xfrm>
            <a:off x="2035080" y="5157720"/>
            <a:ext cx="3616560" cy="10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3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79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491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0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0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2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s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57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7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60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24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6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636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5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98800"/>
                <a:gridCol w="2016000"/>
                <a:gridCol w="1008000"/>
                <a:gridCol w="259236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monad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5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77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8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  <p:sp>
        <p:nvSpPr>
          <p:cNvPr id="679" name="Rounded Rectangle 13"/>
          <p:cNvSpPr/>
          <p:nvPr/>
        </p:nvSpPr>
        <p:spPr>
          <a:xfrm>
            <a:off x="2340000" y="2565360"/>
            <a:ext cx="3637080" cy="115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Straight Connector 14"/>
          <p:cNvSpPr/>
          <p:nvPr/>
        </p:nvSpPr>
        <p:spPr>
          <a:xfrm>
            <a:off x="6875640" y="3573360"/>
            <a:ext cx="17287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Rounded Rectangle 15"/>
          <p:cNvSpPr/>
          <p:nvPr/>
        </p:nvSpPr>
        <p:spPr>
          <a:xfrm>
            <a:off x="6012000" y="2565360"/>
            <a:ext cx="836640" cy="1150920"/>
          </a:xfrm>
          <a:custGeom>
            <a:avLst/>
            <a:gdLst>
              <a:gd name="textAreaLeft" fmla="*/ 40680 w 836640"/>
              <a:gd name="textAreaRight" fmla="*/ 795960 w 836640"/>
              <a:gd name="textAreaTop" fmla="*/ 40680 h 1150920"/>
              <a:gd name="textAreaBottom" fmla="*/ 1110240 h 1150920"/>
            </a:gdLst>
            <a:ahLst/>
            <a:rect l="textAreaLeft" t="textAreaTop" r="textAreaRight" b="textAreaBottom"/>
            <a:pathLst>
              <a:path w="21600" h="29710">
                <a:moveTo>
                  <a:pt x="3600" y="0"/>
                </a:moveTo>
                <a:arcTo wR="3600" hR="3600" stAng="16200000" swAng="-5400000"/>
                <a:lnTo>
                  <a:pt x="0" y="26110"/>
                </a:lnTo>
                <a:arcTo wR="3600" hR="3600" stAng="10800000" swAng="-5400000"/>
                <a:lnTo>
                  <a:pt x="18000" y="29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el zum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Box 51204"/>
          <p:cNvSpPr/>
          <p:nvPr/>
        </p:nvSpPr>
        <p:spPr>
          <a:xfrm>
            <a:off x="3425760" y="604368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87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jui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8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Rounded Rectangular Callout 18"/>
          <p:cNvSpPr/>
          <p:nvPr/>
        </p:nvSpPr>
        <p:spPr>
          <a:xfrm>
            <a:off x="2195640" y="1916280"/>
            <a:ext cx="6697440" cy="2304720"/>
          </a:xfrm>
          <a:prstGeom prst="wedgeRoundRectCallout">
            <a:avLst>
              <a:gd name="adj1" fmla="val -54055"/>
              <a:gd name="adj2" fmla="val 83962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No me gusta la coca-col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Box 51204"/>
          <p:cNvSpPr/>
          <p:nvPr/>
        </p:nvSpPr>
        <p:spPr>
          <a:xfrm>
            <a:off x="3052800" y="6043680"/>
            <a:ext cx="60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don’t like coca-c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2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94" name="TextBox 12"/>
          <p:cNvSpPr/>
          <p:nvPr/>
        </p:nvSpPr>
        <p:spPr>
          <a:xfrm>
            <a:off x="2700360" y="465300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doesn’t please me the coca-col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3"/>
          <a:stretch/>
        </p:blipFill>
        <p:spPr>
          <a:xfrm>
            <a:off x="177840" y="3714840"/>
            <a:ext cx="31543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la pizz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51204"/>
          <p:cNvSpPr/>
          <p:nvPr/>
        </p:nvSpPr>
        <p:spPr>
          <a:xfrm>
            <a:off x="3425760" y="5805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2"/>
          <p:cNvSpPr/>
          <p:nvPr/>
        </p:nvSpPr>
        <p:spPr>
          <a:xfrm>
            <a:off x="2771640" y="49417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pizz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9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70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44" name="Rectangle 3"/>
          <p:cNvSpPr/>
          <p:nvPr/>
        </p:nvSpPr>
        <p:spPr>
          <a:xfrm>
            <a:off x="2066760" y="5084640"/>
            <a:ext cx="708372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5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4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75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7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4" name="Rectangle 3"/>
          <p:cNvSpPr/>
          <p:nvPr/>
        </p:nvSpPr>
        <p:spPr>
          <a:xfrm>
            <a:off x="2066760" y="5084640"/>
            <a:ext cx="4953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80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82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44" name="Rectangle 3"/>
          <p:cNvSpPr/>
          <p:nvPr/>
        </p:nvSpPr>
        <p:spPr>
          <a:xfrm>
            <a:off x="2066760" y="5084640"/>
            <a:ext cx="416088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5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47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9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8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873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lad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894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9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4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3"/>
          <p:cNvSpPr/>
          <p:nvPr/>
        </p:nvSpPr>
        <p:spPr>
          <a:xfrm>
            <a:off x="2066760" y="5084640"/>
            <a:ext cx="7077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4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95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97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99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  <p:sp>
        <p:nvSpPr>
          <p:cNvPr id="994" name="Rectangle 3"/>
          <p:cNvSpPr/>
          <p:nvPr/>
        </p:nvSpPr>
        <p:spPr>
          <a:xfrm>
            <a:off x="2066760" y="5084640"/>
            <a:ext cx="4953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99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00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4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  <p:sp>
        <p:nvSpPr>
          <p:cNvPr id="1044" name="Rectangle 3"/>
          <p:cNvSpPr/>
          <p:nvPr/>
        </p:nvSpPr>
        <p:spPr>
          <a:xfrm>
            <a:off x="2138400" y="5084640"/>
            <a:ext cx="408924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5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046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058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7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072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122480"/>
                <a:gridCol w="1120680"/>
                <a:gridCol w="1725840"/>
                <a:gridCol w="830160"/>
                <a:gridCol w="2016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gur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1093" name="Picture 51" descr=""/>
          <p:cNvPicPr/>
          <p:nvPr/>
        </p:nvPicPr>
        <p:blipFill>
          <a:blip r:embed="rId16"/>
          <a:stretch/>
        </p:blipFill>
        <p:spPr>
          <a:xfrm>
            <a:off x="88920" y="4933800"/>
            <a:ext cx="197784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pescad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1204"/>
          <p:cNvSpPr/>
          <p:nvPr/>
        </p:nvSpPr>
        <p:spPr>
          <a:xfrm>
            <a:off x="3425760" y="5805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2"/>
          <p:cNvSpPr/>
          <p:nvPr/>
        </p:nvSpPr>
        <p:spPr>
          <a:xfrm>
            <a:off x="2771640" y="49417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fish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la lech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51204"/>
          <p:cNvSpPr/>
          <p:nvPr/>
        </p:nvSpPr>
        <p:spPr>
          <a:xfrm>
            <a:off x="3425760" y="5805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mil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2771640" y="49417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t pleases me the mil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3"/>
          <p:cNvSpPr/>
          <p:nvPr/>
        </p:nvSpPr>
        <p:spPr>
          <a:xfrm>
            <a:off x="1952640" y="5084640"/>
            <a:ext cx="708336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79" name="Rectangle 3"/>
          <p:cNvSpPr/>
          <p:nvPr/>
        </p:nvSpPr>
        <p:spPr>
          <a:xfrm>
            <a:off x="1952640" y="5084640"/>
            <a:ext cx="492300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3"/>
          <p:cNvSpPr/>
          <p:nvPr/>
        </p:nvSpPr>
        <p:spPr>
          <a:xfrm>
            <a:off x="1952640" y="5084640"/>
            <a:ext cx="3699000" cy="13305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3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280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0"/>
          <p:cNvSpPr/>
          <p:nvPr/>
        </p:nvSpPr>
        <p:spPr>
          <a:xfrm>
            <a:off x="150840" y="1166760"/>
            <a:ext cx="1684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0"/>
          <p:cNvSpPr/>
          <p:nvPr/>
        </p:nvSpPr>
        <p:spPr>
          <a:xfrm>
            <a:off x="199224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3854520" y="1166760"/>
            <a:ext cx="14382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5581800" y="1166760"/>
            <a:ext cx="15112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7308720" y="1166760"/>
            <a:ext cx="162108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150840" y="2781360"/>
            <a:ext cx="168444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19160" y="2781360"/>
            <a:ext cx="171000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3765600" y="2781360"/>
            <a:ext cx="165744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5508720" y="27813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20"/>
          <p:cNvSpPr/>
          <p:nvPr/>
        </p:nvSpPr>
        <p:spPr>
          <a:xfrm>
            <a:off x="7308720" y="2781360"/>
            <a:ext cx="16830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a 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95120" y="4406760"/>
            <a:ext cx="1506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Box 20"/>
          <p:cNvSpPr/>
          <p:nvPr/>
        </p:nvSpPr>
        <p:spPr>
          <a:xfrm>
            <a:off x="1952640" y="4406760"/>
            <a:ext cx="1676520" cy="8254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3789360" y="4406760"/>
            <a:ext cx="147960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24"/>
          <p:cNvSpPr/>
          <p:nvPr/>
        </p:nvSpPr>
        <p:spPr>
          <a:xfrm>
            <a:off x="5519880" y="4406760"/>
            <a:ext cx="15825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7353360" y="4406760"/>
            <a:ext cx="1611360" cy="45972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220840" y="5229360"/>
          <a:ext cx="6815160" cy="761760"/>
        </p:xfrm>
        <a:graphic>
          <a:graphicData uri="http://schemas.openxmlformats.org/drawingml/2006/table">
            <a:tbl>
              <a:tblPr/>
              <a:tblGrid>
                <a:gridCol w="1343160"/>
                <a:gridCol w="2063520"/>
                <a:gridCol w="1248120"/>
                <a:gridCol w="216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pa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28" name="Rectangle 3"/>
          <p:cNvSpPr/>
          <p:nvPr/>
        </p:nvSpPr>
        <p:spPr>
          <a:xfrm>
            <a:off x="2035080" y="5157720"/>
            <a:ext cx="7108920" cy="1079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3-02T13:18:25Z</dcterms:modified>
  <cp:revision>200</cp:revision>
  <dc:subject/>
  <dc:title>TITLE</dc:title>
</cp:coreProperties>
</file>